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865-5CD3-495B-88AD-A121D87E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269-E8BE-43E4-BEFD-EA8E9731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AD8-9EEE-44F7-9B2C-6AAF09F4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DBC-F9E8-40A9-8CB6-E59F715B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D9B-CE18-4476-AE68-FFD14580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57D-F61E-42DA-A2AA-E349A863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B6D-C0D9-419C-B8BC-40DF1134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83D-212C-4291-B991-1295CBDE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C99-82B9-4E12-BFBC-29619514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A6C-E40D-45E3-A184-47E3753A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4E4-C380-4344-9470-05F8BE8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DAB-3546-404A-9E73-FC3917B6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DDBA-A2BD-4B9E-8E39-15B590898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ndy%20002" descr=""/>
          <p:cNvPicPr/>
          <p:nvPr/>
        </p:nvPicPr>
        <p:blipFill>
          <a:blip r:embed="rId1"/>
          <a:srcRect l="13239" t="17846" r="8936" b="16276"/>
          <a:stretch/>
        </p:blipFill>
        <p:spPr>
          <a:xfrm>
            <a:off x="6095880" y="1600200"/>
            <a:ext cx="2633760" cy="2971800"/>
          </a:xfrm>
          <a:prstGeom prst="rect">
            <a:avLst/>
          </a:prstGeom>
          <a:ln w="0">
            <a:noFill/>
          </a:ln>
        </p:spPr>
      </p:pic>
      <p:pic>
        <p:nvPicPr>
          <p:cNvPr id="42" name="sub_logo" descr=""/>
          <p:cNvPicPr/>
          <p:nvPr/>
        </p:nvPicPr>
        <p:blipFill>
          <a:blip r:embed="rId2"/>
          <a:srcRect l="0" t="3138" r="0" b="4984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candy%20001" descr=""/>
          <p:cNvPicPr/>
          <p:nvPr/>
        </p:nvPicPr>
        <p:blipFill>
          <a:blip r:embed="rId3"/>
          <a:srcRect l="18286" t="9191" r="14214" b="3481"/>
          <a:stretch/>
        </p:blipFill>
        <p:spPr>
          <a:xfrm>
            <a:off x="380880" y="1066680"/>
            <a:ext cx="1997280" cy="358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438280" y="380880"/>
            <a:ext cx="4191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bd0f38"/>
                  </a:solidFill>
                  <a:miter/>
                </a:ln>
                <a:gradFill rotWithShape="0">
                  <a:gsLst>
                    <a:gs pos="0">
                      <a:srgbClr val="ef2b5a"/>
                    </a:gs>
                    <a:gs pos="50000">
                      <a:srgbClr val="ffffff"/>
                    </a:gs>
                    <a:gs pos="100000">
                      <a:srgbClr val="ef2b5a"/>
                    </a:gs>
                  </a:gsLst>
                  <a:lin ang="8100000"/>
                </a:gradFill>
                <a:latin typeface="FunStuff"/>
              </a:rPr>
              <a:t>Try a Hand at...</a:t>
            </a:r>
            <a:endParaRPr b="1" lang="en-US" sz="2400" spc="1" strike="noStrike">
              <a:ln w="19080">
                <a:solidFill>
                  <a:srgbClr val="bd0f38"/>
                </a:solidFill>
                <a:miter/>
              </a:ln>
              <a:gradFill rotWithShape="0">
                <a:gsLst>
                  <a:gs pos="0">
                    <a:srgbClr val="ef2b5a"/>
                  </a:gs>
                  <a:gs pos="50000">
                    <a:srgbClr val="ffffff"/>
                  </a:gs>
                  <a:gs pos="100000">
                    <a:srgbClr val="ef2b5a"/>
                  </a:gs>
                </a:gsLst>
                <a:lin ang="8100000"/>
              </a:gradFill>
              <a:latin typeface="FunStuff"/>
              <a:ea typeface="FunStuff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3720" y="281952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d0f38"/>
                  </a:solidFill>
                  <a:miter/>
                </a:ln>
                <a:gradFill rotWithShape="0">
                  <a:gsLst>
                    <a:gs pos="0">
                      <a:srgbClr val="ef2b5a"/>
                    </a:gs>
                    <a:gs pos="50000">
                      <a:srgbClr val="ffffff"/>
                    </a:gs>
                    <a:gs pos="100000">
                      <a:srgbClr val="ef2b5a"/>
                    </a:gs>
                  </a:gsLst>
                  <a:lin ang="8100000"/>
                </a:gradFill>
                <a:latin typeface="FunStuff"/>
              </a:rPr>
              <a:t>Candyland!</a:t>
            </a:r>
            <a:endParaRPr b="0" lang="en-US" sz="2400" spc="1" strike="noStrike">
              <a:ln w="19080">
                <a:solidFill>
                  <a:srgbClr val="bd0f38"/>
                </a:solidFill>
                <a:miter/>
              </a:ln>
              <a:gradFill rotWithShape="0">
                <a:gsLst>
                  <a:gs pos="0">
                    <a:srgbClr val="ef2b5a"/>
                  </a:gs>
                  <a:gs pos="50000">
                    <a:srgbClr val="ffffff"/>
                  </a:gs>
                  <a:gs pos="100000">
                    <a:srgbClr val="ef2b5a"/>
                  </a:gs>
                </a:gsLst>
                <a:lin ang="8100000"/>
              </a:gradFill>
              <a:latin typeface="FunStuff"/>
              <a:ea typeface="FunStuff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730840"/>
            <a:ext cx="70102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2b5a"/>
                </a:solidFill>
                <a:latin typeface="FunStuff"/>
              </a:rPr>
              <a:t>Senske’s First Block AP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2b5a"/>
                </a:solidFill>
                <a:latin typeface="FunStuff"/>
              </a:rPr>
              <a:t>Alesha Seternus and Jenna Ro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533520" y="457200"/>
            <a:ext cx="8076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981"/>
                </a:solidFill>
                <a:latin typeface="Times New Roman"/>
              </a:rPr>
              <a:t>Test Two: The Probability of Choosing a Double-Colored Card from the D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7200" y="160020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Hypothesis</a:t>
            </a:r>
            <a:r>
              <a:rPr b="0" lang="en-US" sz="2400" spc="-1" strike="noStrike">
                <a:solidFill>
                  <a:srgbClr val="f8629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Ho</a:t>
            </a:r>
            <a:r>
              <a:rPr b="0" lang="en-US" sz="2400" spc="-1" strike="noStrike">
                <a:solidFill>
                  <a:srgbClr val="f8629f"/>
                </a:solidFill>
                <a:latin typeface="Times New Roman"/>
              </a:rPr>
              <a:t>:The observed frequency distribution for picking a single colored card fits the specified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Ha</a:t>
            </a:r>
            <a:r>
              <a:rPr b="0" lang="en-US" sz="2400" spc="-1" strike="noStrike">
                <a:solidFill>
                  <a:srgbClr val="f8629f"/>
                </a:solidFill>
                <a:latin typeface="Times New Roman"/>
              </a:rPr>
              <a:t>: The observed frequency distribution for picking a single colored card does not fit the specified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8195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00200" y="4175280"/>
            <a:ext cx="32004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8629f"/>
                </a:solidFill>
                <a:uFillTx/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SRS</a:t>
            </a:r>
            <a:br>
              <a:rPr sz="2000"/>
            </a:b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Sample size large enough that all expected values are greater than or equal to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029200" y="4191120"/>
            <a:ext cx="33526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C</a:t>
            </a:r>
            <a:r>
              <a:rPr b="0" lang="en-US" sz="2000" spc="-1" strike="noStrike" u="sng">
                <a:solidFill>
                  <a:srgbClr val="f8629f"/>
                </a:solidFill>
                <a:uFillTx/>
                <a:latin typeface="Times New Roman"/>
              </a:rPr>
              <a:t>heck</a:t>
            </a: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Refer to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62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1523880" y="990720"/>
            <a:ext cx="6019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Double Color Card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Probability Chart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1600200" y="0"/>
            <a:ext cx="5791320" cy="6553080"/>
            <a:chOff x="1600200" y="0"/>
            <a:chExt cx="5791320" cy="6553080"/>
          </a:xfrm>
        </p:grpSpPr>
        <p:grpSp>
          <p:nvGrpSpPr>
            <p:cNvPr id="1031" name=""/>
            <p:cNvGrpSpPr/>
            <p:nvPr/>
          </p:nvGrpSpPr>
          <p:grpSpPr>
            <a:xfrm>
              <a:off x="1602720" y="720"/>
              <a:ext cx="5785200" cy="6551280"/>
              <a:chOff x="1602720" y="720"/>
              <a:chExt cx="5785200" cy="655128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1602720" y="720"/>
                <a:ext cx="826560" cy="459360"/>
                <a:chOff x="1602720" y="720"/>
                <a:chExt cx="826560" cy="459360"/>
              </a:xfrm>
            </p:grpSpPr>
            <p:grpSp>
              <p:nvGrpSpPr>
                <p:cNvPr id="1033" name=""/>
                <p:cNvGrpSpPr/>
                <p:nvPr/>
              </p:nvGrpSpPr>
              <p:grpSpPr>
                <a:xfrm>
                  <a:off x="1662840" y="720"/>
                  <a:ext cx="705960" cy="459360"/>
                  <a:chOff x="1662840" y="720"/>
                  <a:chExt cx="705960" cy="45936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1662840" y="720"/>
                    <a:ext cx="705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669680" y="1080"/>
                    <a:ext cx="69876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1602720" y="720"/>
                  <a:ext cx="82656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2429280" y="720"/>
                <a:ext cx="826200" cy="388440"/>
                <a:chOff x="2429280" y="720"/>
                <a:chExt cx="826200" cy="38844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2489040" y="720"/>
                  <a:ext cx="70596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429280" y="720"/>
                  <a:ext cx="82620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3255480" y="720"/>
                <a:ext cx="826560" cy="388440"/>
                <a:chOff x="3255480" y="720"/>
                <a:chExt cx="826560" cy="38844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3315600" y="720"/>
                  <a:ext cx="70596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255480" y="720"/>
                  <a:ext cx="82656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4082040" y="720"/>
                <a:ext cx="826200" cy="388440"/>
                <a:chOff x="4082040" y="720"/>
                <a:chExt cx="826200" cy="38844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4141800" y="720"/>
                  <a:ext cx="70632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llo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082040" y="720"/>
                  <a:ext cx="82620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4908600" y="720"/>
                <a:ext cx="826560" cy="388440"/>
                <a:chOff x="4908600" y="720"/>
                <a:chExt cx="826560" cy="38844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968720" y="720"/>
                  <a:ext cx="70596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08600" y="720"/>
                  <a:ext cx="82656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5735160" y="720"/>
                <a:ext cx="826200" cy="388440"/>
                <a:chOff x="5735160" y="720"/>
                <a:chExt cx="826200" cy="38844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5794920" y="720"/>
                  <a:ext cx="70632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an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735160" y="720"/>
                  <a:ext cx="82620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6561360" y="720"/>
                <a:ext cx="826560" cy="388440"/>
                <a:chOff x="6561360" y="720"/>
                <a:chExt cx="826560" cy="38844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6621480" y="720"/>
                  <a:ext cx="705960" cy="38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561360" y="720"/>
                  <a:ext cx="826560" cy="38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1602720" y="389160"/>
                <a:ext cx="826560" cy="198720"/>
                <a:chOff x="1602720" y="389160"/>
                <a:chExt cx="826560" cy="19872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1662840" y="389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1602720" y="389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2429280" y="389160"/>
                <a:ext cx="826200" cy="198720"/>
                <a:chOff x="2429280" y="389160"/>
                <a:chExt cx="826200" cy="19872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2489040" y="389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2429280" y="3891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3255480" y="389160"/>
                <a:ext cx="826560" cy="198720"/>
                <a:chOff x="3255480" y="389160"/>
                <a:chExt cx="826560" cy="19872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315600" y="389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255480" y="389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4082040" y="389160"/>
                <a:ext cx="826200" cy="198720"/>
                <a:chOff x="4082040" y="389160"/>
                <a:chExt cx="826200" cy="19872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4141800" y="3891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082040" y="3891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4908600" y="389160"/>
                <a:ext cx="826560" cy="198720"/>
                <a:chOff x="4908600" y="389160"/>
                <a:chExt cx="826560" cy="19872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4968720" y="389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908600" y="389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5735160" y="389160"/>
                <a:ext cx="826200" cy="198720"/>
                <a:chOff x="5735160" y="389160"/>
                <a:chExt cx="826200" cy="19872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5794920" y="3891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735160" y="3891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6561360" y="389160"/>
                <a:ext cx="826560" cy="198720"/>
                <a:chOff x="6561360" y="389160"/>
                <a:chExt cx="826560" cy="19872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6621480" y="389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561360" y="389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1602720" y="587880"/>
                <a:ext cx="826560" cy="198720"/>
                <a:chOff x="1602720" y="587880"/>
                <a:chExt cx="826560" cy="19872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1662840" y="587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602720" y="587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2429280" y="587880"/>
                <a:ext cx="826200" cy="198720"/>
                <a:chOff x="2429280" y="587880"/>
                <a:chExt cx="826200" cy="19872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2489040" y="587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2429280" y="5878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3255480" y="587880"/>
                <a:ext cx="826560" cy="198720"/>
                <a:chOff x="3255480" y="587880"/>
                <a:chExt cx="826560" cy="19872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315600" y="587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255480" y="587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4082040" y="587880"/>
                <a:ext cx="826200" cy="198720"/>
                <a:chOff x="4082040" y="587880"/>
                <a:chExt cx="826200" cy="19872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4141800" y="5878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082040" y="5878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4908600" y="587880"/>
                <a:ext cx="826560" cy="198720"/>
                <a:chOff x="4908600" y="587880"/>
                <a:chExt cx="826560" cy="19872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4968720" y="587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908600" y="587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5735160" y="587880"/>
                <a:ext cx="826200" cy="198720"/>
                <a:chOff x="5735160" y="587880"/>
                <a:chExt cx="826200" cy="1987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5794920" y="5878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5735160" y="5878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6561360" y="587880"/>
                <a:ext cx="826560" cy="198720"/>
                <a:chOff x="6561360" y="587880"/>
                <a:chExt cx="826560" cy="1987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6621480" y="587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6561360" y="587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1602720" y="786960"/>
                <a:ext cx="826560" cy="198720"/>
                <a:chOff x="1602720" y="786960"/>
                <a:chExt cx="826560" cy="1987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1662840" y="7869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602720" y="7869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2429280" y="786960"/>
                <a:ext cx="826200" cy="198720"/>
                <a:chOff x="2429280" y="786960"/>
                <a:chExt cx="826200" cy="1987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2489040" y="7869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429280" y="7869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3255480" y="786960"/>
                <a:ext cx="826560" cy="198720"/>
                <a:chOff x="3255480" y="786960"/>
                <a:chExt cx="826560" cy="1987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3315600" y="7869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255480" y="7869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4082040" y="786960"/>
                <a:ext cx="826200" cy="198720"/>
                <a:chOff x="4082040" y="786960"/>
                <a:chExt cx="826200" cy="1987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4141800" y="7869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082040" y="7869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4908600" y="786960"/>
                <a:ext cx="826560" cy="198720"/>
                <a:chOff x="4908600" y="786960"/>
                <a:chExt cx="826560" cy="1987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968720" y="7869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908600" y="7869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735160" y="786960"/>
                <a:ext cx="826200" cy="198720"/>
                <a:chOff x="5735160" y="786960"/>
                <a:chExt cx="826200" cy="1987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794920" y="7869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735160" y="7869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6561360" y="786960"/>
                <a:ext cx="826560" cy="198720"/>
                <a:chOff x="6561360" y="786960"/>
                <a:chExt cx="826560" cy="1987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621480" y="7869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561360" y="7869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1602720" y="985680"/>
                <a:ext cx="826560" cy="198720"/>
                <a:chOff x="1602720" y="985680"/>
                <a:chExt cx="826560" cy="19872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1662840" y="9856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602720" y="9856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429280" y="985680"/>
                <a:ext cx="826200" cy="198720"/>
                <a:chOff x="2429280" y="985680"/>
                <a:chExt cx="826200" cy="19872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489040" y="9856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429280" y="9856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3255480" y="985680"/>
                <a:ext cx="826560" cy="198720"/>
                <a:chOff x="3255480" y="985680"/>
                <a:chExt cx="826560" cy="19872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3315600" y="9856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255480" y="9856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4082040" y="985680"/>
                <a:ext cx="826200" cy="198720"/>
                <a:chOff x="4082040" y="985680"/>
                <a:chExt cx="826200" cy="19872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4141800" y="9856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082040" y="9856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4908600" y="985680"/>
                <a:ext cx="826560" cy="198720"/>
                <a:chOff x="4908600" y="985680"/>
                <a:chExt cx="826560" cy="19872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4968720" y="9856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908600" y="9856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5735160" y="985680"/>
                <a:ext cx="826200" cy="198720"/>
                <a:chOff x="5735160" y="985680"/>
                <a:chExt cx="826200" cy="19872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5794920" y="9856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735160" y="9856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6561360" y="985680"/>
                <a:ext cx="826560" cy="198720"/>
                <a:chOff x="6561360" y="985680"/>
                <a:chExt cx="826560" cy="19872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6621480" y="9856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6561360" y="9856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1602720" y="1184400"/>
                <a:ext cx="826560" cy="198720"/>
                <a:chOff x="1602720" y="1184400"/>
                <a:chExt cx="826560" cy="19872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1662840" y="1184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602720" y="1184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2429280" y="1184400"/>
                <a:ext cx="826200" cy="198720"/>
                <a:chOff x="2429280" y="1184400"/>
                <a:chExt cx="826200" cy="19872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2489040" y="1184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429280" y="11844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3255480" y="1184400"/>
                <a:ext cx="826560" cy="198720"/>
                <a:chOff x="3255480" y="1184400"/>
                <a:chExt cx="826560" cy="19872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3315600" y="1184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255480" y="1184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4082040" y="1184400"/>
                <a:ext cx="826200" cy="198720"/>
                <a:chOff x="4082040" y="1184400"/>
                <a:chExt cx="826200" cy="19872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4141800" y="11844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082040" y="11844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908600" y="1184400"/>
                <a:ext cx="826560" cy="198720"/>
                <a:chOff x="4908600" y="1184400"/>
                <a:chExt cx="826560" cy="19872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968720" y="1184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908600" y="1184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5735160" y="1184400"/>
                <a:ext cx="826200" cy="198720"/>
                <a:chOff x="5735160" y="1184400"/>
                <a:chExt cx="826200" cy="19872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5794920" y="11844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735160" y="11844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6561360" y="1184400"/>
                <a:ext cx="826560" cy="198720"/>
                <a:chOff x="6561360" y="1184400"/>
                <a:chExt cx="826560" cy="19872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6621480" y="1184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561360" y="1184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1602720" y="1383120"/>
                <a:ext cx="826560" cy="198720"/>
                <a:chOff x="1602720" y="1383120"/>
                <a:chExt cx="826560" cy="19872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1662840" y="1383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1602720" y="1383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2429280" y="1383120"/>
                <a:ext cx="826200" cy="198720"/>
                <a:chOff x="2429280" y="1383120"/>
                <a:chExt cx="826200" cy="19872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2489040" y="1383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429280" y="13831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3255480" y="1383120"/>
                <a:ext cx="826560" cy="198720"/>
                <a:chOff x="3255480" y="1383120"/>
                <a:chExt cx="826560" cy="19872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3315600" y="1383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255480" y="1383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4082040" y="1383120"/>
                <a:ext cx="826200" cy="198720"/>
                <a:chOff x="4082040" y="1383120"/>
                <a:chExt cx="826200" cy="19872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4141800" y="13831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082040" y="13831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4908600" y="1383120"/>
                <a:ext cx="826560" cy="198720"/>
                <a:chOff x="4908600" y="1383120"/>
                <a:chExt cx="826560" cy="1987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4968720" y="1383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908600" y="1383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5735160" y="1383120"/>
                <a:ext cx="826200" cy="198720"/>
                <a:chOff x="5735160" y="1383120"/>
                <a:chExt cx="826200" cy="19872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5794920" y="13831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5735160" y="13831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6561360" y="1383120"/>
                <a:ext cx="826560" cy="198720"/>
                <a:chOff x="6561360" y="1383120"/>
                <a:chExt cx="826560" cy="19872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6621480" y="1383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6561360" y="1383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1602720" y="1582200"/>
                <a:ext cx="826560" cy="198720"/>
                <a:chOff x="1602720" y="1582200"/>
                <a:chExt cx="826560" cy="19872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1662840" y="15822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1602720" y="15822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2429280" y="1582200"/>
                <a:ext cx="826200" cy="198720"/>
                <a:chOff x="2429280" y="1582200"/>
                <a:chExt cx="826200" cy="19872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2489040" y="15822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429280" y="15822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3255480" y="1582200"/>
                <a:ext cx="826560" cy="198720"/>
                <a:chOff x="3255480" y="1582200"/>
                <a:chExt cx="826560" cy="19872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3315600" y="15822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255480" y="15822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4082040" y="1582200"/>
                <a:ext cx="826200" cy="198720"/>
                <a:chOff x="4082040" y="1582200"/>
                <a:chExt cx="826200" cy="19872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4141800" y="15822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4082040" y="15822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4908600" y="1582200"/>
                <a:ext cx="826560" cy="198720"/>
                <a:chOff x="4908600" y="1582200"/>
                <a:chExt cx="826560" cy="1987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4968720" y="15822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4908600" y="15822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5735160" y="1582200"/>
                <a:ext cx="826200" cy="198720"/>
                <a:chOff x="5735160" y="1582200"/>
                <a:chExt cx="826200" cy="1987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5794920" y="15822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735160" y="15822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6561360" y="1582200"/>
                <a:ext cx="826560" cy="198720"/>
                <a:chOff x="6561360" y="1582200"/>
                <a:chExt cx="826560" cy="19872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6621480" y="15822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6561360" y="15822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1602720" y="1780920"/>
                <a:ext cx="826560" cy="198720"/>
                <a:chOff x="1602720" y="1780920"/>
                <a:chExt cx="826560" cy="19872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1662840" y="17809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602720" y="17809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2429280" y="1780920"/>
                <a:ext cx="826200" cy="198720"/>
                <a:chOff x="2429280" y="1780920"/>
                <a:chExt cx="826200" cy="1987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2489040" y="17809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429280" y="17809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3255480" y="1780920"/>
                <a:ext cx="826560" cy="198720"/>
                <a:chOff x="3255480" y="1780920"/>
                <a:chExt cx="826560" cy="19872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3315600" y="17809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255480" y="17809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4082040" y="1780920"/>
                <a:ext cx="826200" cy="198720"/>
                <a:chOff x="4082040" y="1780920"/>
                <a:chExt cx="826200" cy="19872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4141800" y="17809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082040" y="17809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4908600" y="1780920"/>
                <a:ext cx="826560" cy="198720"/>
                <a:chOff x="4908600" y="1780920"/>
                <a:chExt cx="826560" cy="1987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4968720" y="17809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908600" y="17809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5735160" y="1780920"/>
                <a:ext cx="826200" cy="198720"/>
                <a:chOff x="5735160" y="1780920"/>
                <a:chExt cx="826200" cy="1987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5794920" y="17809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735160" y="17809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6561360" y="1780920"/>
                <a:ext cx="826560" cy="198720"/>
                <a:chOff x="6561360" y="1780920"/>
                <a:chExt cx="826560" cy="19872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6621480" y="17809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6561360" y="17809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602720" y="1979640"/>
                <a:ext cx="826560" cy="198720"/>
                <a:chOff x="1602720" y="1979640"/>
                <a:chExt cx="826560" cy="19872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662840" y="19796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602720" y="19796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429280" y="1979640"/>
                <a:ext cx="826200" cy="198720"/>
                <a:chOff x="2429280" y="1979640"/>
                <a:chExt cx="826200" cy="19872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489040" y="19796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29280" y="19796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3255480" y="1979640"/>
                <a:ext cx="826560" cy="198720"/>
                <a:chOff x="3255480" y="1979640"/>
                <a:chExt cx="826560" cy="19872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3315600" y="19796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255480" y="19796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4082040" y="1979640"/>
                <a:ext cx="826200" cy="198720"/>
                <a:chOff x="4082040" y="1979640"/>
                <a:chExt cx="826200" cy="19872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4141800" y="197964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082040" y="19796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4908600" y="1979640"/>
                <a:ext cx="826560" cy="198720"/>
                <a:chOff x="4908600" y="1979640"/>
                <a:chExt cx="826560" cy="1987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4968720" y="19796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908600" y="19796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735160" y="1979640"/>
                <a:ext cx="826200" cy="198720"/>
                <a:chOff x="5735160" y="1979640"/>
                <a:chExt cx="826200" cy="19872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794920" y="197964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735160" y="19796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6561360" y="1979640"/>
                <a:ext cx="826560" cy="198720"/>
                <a:chOff x="6561360" y="1979640"/>
                <a:chExt cx="826560" cy="1987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6621480" y="19796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561360" y="19796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602720" y="2178360"/>
                <a:ext cx="826560" cy="198720"/>
                <a:chOff x="1602720" y="2178360"/>
                <a:chExt cx="826560" cy="1987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1662840" y="2178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602720" y="2178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2429280" y="2178360"/>
                <a:ext cx="826200" cy="198720"/>
                <a:chOff x="2429280" y="2178360"/>
                <a:chExt cx="826200" cy="1987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2489040" y="2178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29280" y="21783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3255480" y="2178360"/>
                <a:ext cx="826560" cy="198720"/>
                <a:chOff x="3255480" y="2178360"/>
                <a:chExt cx="826560" cy="19872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3315600" y="2178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255480" y="2178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4082040" y="2178360"/>
                <a:ext cx="826200" cy="198720"/>
                <a:chOff x="4082040" y="2178360"/>
                <a:chExt cx="826200" cy="1987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4141800" y="21783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4082040" y="21783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4908600" y="2178360"/>
                <a:ext cx="826560" cy="198720"/>
                <a:chOff x="4908600" y="2178360"/>
                <a:chExt cx="826560" cy="1987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4968720" y="2178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908600" y="2178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5735160" y="2178360"/>
                <a:ext cx="826200" cy="198720"/>
                <a:chOff x="5735160" y="2178360"/>
                <a:chExt cx="826200" cy="19872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5794920" y="21783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735160" y="21783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561360" y="2178360"/>
                <a:ext cx="826560" cy="198720"/>
                <a:chOff x="6561360" y="2178360"/>
                <a:chExt cx="826560" cy="1987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621480" y="2178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561360" y="2178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1602720" y="2377080"/>
                <a:ext cx="826560" cy="198720"/>
                <a:chOff x="1602720" y="2377080"/>
                <a:chExt cx="826560" cy="19872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1662840" y="2377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602720" y="2377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2429280" y="2377080"/>
                <a:ext cx="826200" cy="198720"/>
                <a:chOff x="2429280" y="2377080"/>
                <a:chExt cx="826200" cy="19872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2489040" y="2377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429280" y="23770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3255480" y="2377080"/>
                <a:ext cx="826560" cy="198720"/>
                <a:chOff x="3255480" y="2377080"/>
                <a:chExt cx="826560" cy="19872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3315600" y="2377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255480" y="2377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4082040" y="2377080"/>
                <a:ext cx="826200" cy="198720"/>
                <a:chOff x="4082040" y="2377080"/>
                <a:chExt cx="826200" cy="19872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4141800" y="23770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082040" y="23770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908600" y="2377080"/>
                <a:ext cx="826560" cy="198720"/>
                <a:chOff x="4908600" y="2377080"/>
                <a:chExt cx="826560" cy="198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968720" y="2377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908600" y="2377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5735160" y="2377080"/>
                <a:ext cx="826200" cy="198720"/>
                <a:chOff x="5735160" y="2377080"/>
                <a:chExt cx="826200" cy="19872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5794920" y="23770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735160" y="23770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6561360" y="2377080"/>
                <a:ext cx="826560" cy="198720"/>
                <a:chOff x="6561360" y="2377080"/>
                <a:chExt cx="826560" cy="19872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6621480" y="2377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561360" y="2377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1602720" y="2576160"/>
                <a:ext cx="826560" cy="198720"/>
                <a:chOff x="1602720" y="2576160"/>
                <a:chExt cx="826560" cy="19872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1662840" y="2576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1602720" y="2576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2429280" y="2576160"/>
                <a:ext cx="826200" cy="198720"/>
                <a:chOff x="2429280" y="2576160"/>
                <a:chExt cx="826200" cy="19872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2489040" y="2576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429280" y="25761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3255480" y="2576160"/>
                <a:ext cx="826560" cy="198720"/>
                <a:chOff x="3255480" y="2576160"/>
                <a:chExt cx="826560" cy="19872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3315600" y="2576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3255480" y="2576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4082040" y="2576160"/>
                <a:ext cx="826200" cy="198720"/>
                <a:chOff x="4082040" y="2576160"/>
                <a:chExt cx="826200" cy="19872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4141800" y="25761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082040" y="25761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4908600" y="2576160"/>
                <a:ext cx="826560" cy="198720"/>
                <a:chOff x="4908600" y="2576160"/>
                <a:chExt cx="826560" cy="19872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4968720" y="2576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4908600" y="2576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5735160" y="2576160"/>
                <a:ext cx="826200" cy="198720"/>
                <a:chOff x="5735160" y="2576160"/>
                <a:chExt cx="826200" cy="19872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5794920" y="25761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735160" y="25761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6561360" y="2576160"/>
                <a:ext cx="826560" cy="198720"/>
                <a:chOff x="6561360" y="2576160"/>
                <a:chExt cx="826560" cy="19872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6621480" y="25761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561360" y="25761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1602720" y="2774880"/>
                <a:ext cx="826560" cy="198720"/>
                <a:chOff x="1602720" y="2774880"/>
                <a:chExt cx="826560" cy="19872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1662840" y="2774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602720" y="2774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0" name=""/>
              <p:cNvGrpSpPr/>
              <p:nvPr/>
            </p:nvGrpSpPr>
            <p:grpSpPr>
              <a:xfrm>
                <a:off x="2429280" y="2774880"/>
                <a:ext cx="826200" cy="198720"/>
                <a:chOff x="2429280" y="2774880"/>
                <a:chExt cx="826200" cy="19872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2489040" y="2774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429280" y="27748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3255480" y="2774880"/>
                <a:ext cx="826560" cy="198720"/>
                <a:chOff x="3255480" y="2774880"/>
                <a:chExt cx="826560" cy="19872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315600" y="2774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3255480" y="2774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4082040" y="2774880"/>
                <a:ext cx="826200" cy="198720"/>
                <a:chOff x="4082040" y="2774880"/>
                <a:chExt cx="826200" cy="19872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4141800" y="27748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082040" y="27748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4908600" y="2774880"/>
                <a:ext cx="826560" cy="198720"/>
                <a:chOff x="4908600" y="2774880"/>
                <a:chExt cx="826560" cy="19872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968720" y="2774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4908600" y="2774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5735160" y="2774880"/>
                <a:ext cx="826200" cy="198720"/>
                <a:chOff x="5735160" y="2774880"/>
                <a:chExt cx="826200" cy="198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5794920" y="27748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5735160" y="27748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6561360" y="2774880"/>
                <a:ext cx="826560" cy="198720"/>
                <a:chOff x="6561360" y="2774880"/>
                <a:chExt cx="826560" cy="19872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6621480" y="27748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561360" y="27748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1602720" y="2973600"/>
                <a:ext cx="826560" cy="198720"/>
                <a:chOff x="1602720" y="2973600"/>
                <a:chExt cx="826560" cy="19872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1662840" y="2973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602720" y="2973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2429280" y="2973600"/>
                <a:ext cx="826200" cy="198720"/>
                <a:chOff x="2429280" y="2973600"/>
                <a:chExt cx="826200" cy="19872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2489040" y="2973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429280" y="29736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3255480" y="2973600"/>
                <a:ext cx="826560" cy="198720"/>
                <a:chOff x="3255480" y="2973600"/>
                <a:chExt cx="826560" cy="1987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3315600" y="2973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3255480" y="2973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4082040" y="2973600"/>
                <a:ext cx="826200" cy="198720"/>
                <a:chOff x="4082040" y="2973600"/>
                <a:chExt cx="826200" cy="19872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4141800" y="29736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082040" y="29736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4908600" y="2973600"/>
                <a:ext cx="826560" cy="198720"/>
                <a:chOff x="4908600" y="2973600"/>
                <a:chExt cx="826560" cy="19872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4968720" y="2973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908600" y="2973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5735160" y="2973600"/>
                <a:ext cx="826200" cy="198720"/>
                <a:chOff x="5735160" y="2973600"/>
                <a:chExt cx="826200" cy="19872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5794920" y="29736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735160" y="29736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6561360" y="2973600"/>
                <a:ext cx="826560" cy="198720"/>
                <a:chOff x="6561360" y="2973600"/>
                <a:chExt cx="826560" cy="19872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6621480" y="2973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561360" y="2973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1602720" y="3172320"/>
                <a:ext cx="826560" cy="198720"/>
                <a:chOff x="1602720" y="3172320"/>
                <a:chExt cx="826560" cy="19872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1662840" y="3172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602720" y="3172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2429280" y="3172320"/>
                <a:ext cx="826200" cy="198720"/>
                <a:chOff x="2429280" y="3172320"/>
                <a:chExt cx="826200" cy="19872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2489040" y="3172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429280" y="31723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3255480" y="3172320"/>
                <a:ext cx="826560" cy="198720"/>
                <a:chOff x="3255480" y="3172320"/>
                <a:chExt cx="826560" cy="19872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3315600" y="3172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255480" y="3172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4082040" y="3172320"/>
                <a:ext cx="826200" cy="198720"/>
                <a:chOff x="4082040" y="3172320"/>
                <a:chExt cx="826200" cy="19872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4141800" y="31723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082040" y="31723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4908600" y="3172320"/>
                <a:ext cx="826560" cy="198720"/>
                <a:chOff x="4908600" y="3172320"/>
                <a:chExt cx="826560" cy="19872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4968720" y="3172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4908600" y="3172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5735160" y="3172320"/>
                <a:ext cx="826200" cy="198720"/>
                <a:chOff x="5735160" y="3172320"/>
                <a:chExt cx="826200" cy="19872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5794920" y="31723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735160" y="31723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6561360" y="3172320"/>
                <a:ext cx="826560" cy="198720"/>
                <a:chOff x="6561360" y="3172320"/>
                <a:chExt cx="826560" cy="19872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6621480" y="3172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6561360" y="3172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1602720" y="3371400"/>
                <a:ext cx="826560" cy="198720"/>
                <a:chOff x="1602720" y="3371400"/>
                <a:chExt cx="826560" cy="19872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1662840" y="3371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602720" y="3371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2429280" y="3371400"/>
                <a:ext cx="826200" cy="198720"/>
                <a:chOff x="2429280" y="3371400"/>
                <a:chExt cx="826200" cy="19872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2489040" y="3371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429280" y="33714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3255480" y="3371400"/>
                <a:ext cx="826560" cy="198720"/>
                <a:chOff x="3255480" y="3371400"/>
                <a:chExt cx="826560" cy="19872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315600" y="3371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255480" y="3371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4082040" y="3371400"/>
                <a:ext cx="826200" cy="198720"/>
                <a:chOff x="4082040" y="3371400"/>
                <a:chExt cx="826200" cy="19872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4141800" y="33714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082040" y="33714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4908600" y="3371400"/>
                <a:ext cx="826560" cy="198720"/>
                <a:chOff x="4908600" y="3371400"/>
                <a:chExt cx="826560" cy="19872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4968720" y="3371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908600" y="3371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5735160" y="3371400"/>
                <a:ext cx="826200" cy="198720"/>
                <a:chOff x="5735160" y="3371400"/>
                <a:chExt cx="826200" cy="19872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5794920" y="33714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735160" y="33714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6561360" y="3371400"/>
                <a:ext cx="826560" cy="198720"/>
                <a:chOff x="6561360" y="3371400"/>
                <a:chExt cx="826560" cy="19872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6621480" y="33714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6561360" y="33714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1602720" y="3570120"/>
                <a:ext cx="826560" cy="198720"/>
                <a:chOff x="1602720" y="3570120"/>
                <a:chExt cx="826560" cy="19872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1662840" y="3570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602720" y="3570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2429280" y="3570120"/>
                <a:ext cx="826200" cy="198720"/>
                <a:chOff x="2429280" y="3570120"/>
                <a:chExt cx="826200" cy="19872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2489040" y="3570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2429280" y="35701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3255480" y="3570120"/>
                <a:ext cx="826560" cy="198720"/>
                <a:chOff x="3255480" y="3570120"/>
                <a:chExt cx="826560" cy="19872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3315600" y="3570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255480" y="3570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4082040" y="3570120"/>
                <a:ext cx="826200" cy="198720"/>
                <a:chOff x="4082040" y="3570120"/>
                <a:chExt cx="826200" cy="1987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4141800" y="35701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082040" y="35701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4908600" y="3570120"/>
                <a:ext cx="826560" cy="198720"/>
                <a:chOff x="4908600" y="3570120"/>
                <a:chExt cx="826560" cy="19872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4968720" y="3570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908600" y="3570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5735160" y="3570120"/>
                <a:ext cx="826200" cy="198720"/>
                <a:chOff x="5735160" y="3570120"/>
                <a:chExt cx="826200" cy="19872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5794920" y="35701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735160" y="35701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561360" y="3570120"/>
                <a:ext cx="826560" cy="198720"/>
                <a:chOff x="6561360" y="3570120"/>
                <a:chExt cx="826560" cy="19872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621480" y="35701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561360" y="35701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1602720" y="3768840"/>
                <a:ext cx="826560" cy="198720"/>
                <a:chOff x="1602720" y="3768840"/>
                <a:chExt cx="826560" cy="19872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1662840" y="37688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1602720" y="37688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5" name=""/>
              <p:cNvGrpSpPr/>
              <p:nvPr/>
            </p:nvGrpSpPr>
            <p:grpSpPr>
              <a:xfrm>
                <a:off x="2429280" y="3768840"/>
                <a:ext cx="826200" cy="198720"/>
                <a:chOff x="2429280" y="3768840"/>
                <a:chExt cx="826200" cy="198720"/>
              </a:xfrm>
            </p:grpSpPr>
            <p:sp>
              <p:nvSpPr>
                <p:cNvPr id="1416" name=""/>
                <p:cNvSpPr/>
                <p:nvPr/>
              </p:nvSpPr>
              <p:spPr>
                <a:xfrm>
                  <a:off x="2489040" y="37688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2429280" y="37688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3255480" y="3768840"/>
                <a:ext cx="826560" cy="198720"/>
                <a:chOff x="3255480" y="3768840"/>
                <a:chExt cx="826560" cy="19872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3315600" y="37688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255480" y="37688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4082040" y="3768840"/>
                <a:ext cx="826200" cy="198720"/>
                <a:chOff x="4082040" y="3768840"/>
                <a:chExt cx="826200" cy="19872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4141800" y="376884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4082040" y="37688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4908600" y="3768840"/>
                <a:ext cx="826560" cy="198720"/>
                <a:chOff x="4908600" y="3768840"/>
                <a:chExt cx="826560" cy="19872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4968720" y="37688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4908600" y="37688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5735160" y="3768840"/>
                <a:ext cx="826200" cy="198720"/>
                <a:chOff x="5735160" y="3768840"/>
                <a:chExt cx="826200" cy="19872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5794920" y="376884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5735160" y="37688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6561360" y="3768840"/>
                <a:ext cx="826560" cy="198720"/>
                <a:chOff x="6561360" y="3768840"/>
                <a:chExt cx="826560" cy="19872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6621480" y="37688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6561360" y="37688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1602720" y="3967560"/>
                <a:ext cx="826560" cy="198720"/>
                <a:chOff x="1602720" y="3967560"/>
                <a:chExt cx="826560" cy="19872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1662840" y="3967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1602720" y="3967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2429280" y="3967560"/>
                <a:ext cx="826200" cy="198720"/>
                <a:chOff x="2429280" y="3967560"/>
                <a:chExt cx="826200" cy="19872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2489040" y="3967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429280" y="39675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3255480" y="3967560"/>
                <a:ext cx="826560" cy="198720"/>
                <a:chOff x="3255480" y="3967560"/>
                <a:chExt cx="826560" cy="19872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3315600" y="3967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255480" y="3967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2" name=""/>
              <p:cNvGrpSpPr/>
              <p:nvPr/>
            </p:nvGrpSpPr>
            <p:grpSpPr>
              <a:xfrm>
                <a:off x="4082040" y="3967560"/>
                <a:ext cx="826200" cy="198720"/>
                <a:chOff x="4082040" y="3967560"/>
                <a:chExt cx="826200" cy="198720"/>
              </a:xfrm>
            </p:grpSpPr>
            <p:sp>
              <p:nvSpPr>
                <p:cNvPr id="1443" name=""/>
                <p:cNvSpPr/>
                <p:nvPr/>
              </p:nvSpPr>
              <p:spPr>
                <a:xfrm>
                  <a:off x="4141800" y="39675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4082040" y="39675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4908600" y="3967560"/>
                <a:ext cx="826560" cy="198720"/>
                <a:chOff x="4908600" y="3967560"/>
                <a:chExt cx="826560" cy="19872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4968720" y="3967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4908600" y="3967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8" name=""/>
              <p:cNvGrpSpPr/>
              <p:nvPr/>
            </p:nvGrpSpPr>
            <p:grpSpPr>
              <a:xfrm>
                <a:off x="5735160" y="3967560"/>
                <a:ext cx="826200" cy="198720"/>
                <a:chOff x="5735160" y="3967560"/>
                <a:chExt cx="826200" cy="19872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5794920" y="39675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5735160" y="39675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6561360" y="3967560"/>
                <a:ext cx="826560" cy="198720"/>
                <a:chOff x="6561360" y="3967560"/>
                <a:chExt cx="826560" cy="19872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6621480" y="3967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561360" y="3967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1602720" y="4166280"/>
                <a:ext cx="826560" cy="198720"/>
                <a:chOff x="1602720" y="4166280"/>
                <a:chExt cx="826560" cy="19872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1662840" y="4166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1602720" y="4166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2429280" y="4166280"/>
                <a:ext cx="826200" cy="198720"/>
                <a:chOff x="2429280" y="4166280"/>
                <a:chExt cx="826200" cy="1987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489040" y="4166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429280" y="41662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0" name=""/>
              <p:cNvGrpSpPr/>
              <p:nvPr/>
            </p:nvGrpSpPr>
            <p:grpSpPr>
              <a:xfrm>
                <a:off x="3255480" y="4166280"/>
                <a:ext cx="826560" cy="198720"/>
                <a:chOff x="3255480" y="4166280"/>
                <a:chExt cx="826560" cy="198720"/>
              </a:xfrm>
            </p:grpSpPr>
            <p:sp>
              <p:nvSpPr>
                <p:cNvPr id="1461" name=""/>
                <p:cNvSpPr/>
                <p:nvPr/>
              </p:nvSpPr>
              <p:spPr>
                <a:xfrm>
                  <a:off x="3315600" y="4166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3255480" y="4166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3" name=""/>
              <p:cNvGrpSpPr/>
              <p:nvPr/>
            </p:nvGrpSpPr>
            <p:grpSpPr>
              <a:xfrm>
                <a:off x="4082040" y="4166280"/>
                <a:ext cx="826200" cy="198720"/>
                <a:chOff x="4082040" y="4166280"/>
                <a:chExt cx="826200" cy="1987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4141800" y="41662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082040" y="41662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4908600" y="4166280"/>
                <a:ext cx="826560" cy="198720"/>
                <a:chOff x="4908600" y="4166280"/>
                <a:chExt cx="826560" cy="1987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4968720" y="4166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4908600" y="4166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5735160" y="4166280"/>
                <a:ext cx="826200" cy="198720"/>
                <a:chOff x="5735160" y="4166280"/>
                <a:chExt cx="826200" cy="19872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5794920" y="41662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5735160" y="41662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6561360" y="4166280"/>
                <a:ext cx="826560" cy="198720"/>
                <a:chOff x="6561360" y="4166280"/>
                <a:chExt cx="826560" cy="19872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6621480" y="4166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561360" y="4166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1602720" y="4365360"/>
                <a:ext cx="826560" cy="198720"/>
                <a:chOff x="1602720" y="4365360"/>
                <a:chExt cx="826560" cy="19872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1662840" y="4365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1602720" y="4365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2429280" y="4365360"/>
                <a:ext cx="826200" cy="198720"/>
                <a:chOff x="2429280" y="4365360"/>
                <a:chExt cx="826200" cy="19872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2489040" y="4365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2429280" y="43653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3255480" y="4365360"/>
                <a:ext cx="826560" cy="198720"/>
                <a:chOff x="3255480" y="4365360"/>
                <a:chExt cx="826560" cy="19872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3315600" y="4365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3255480" y="4365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4082040" y="4365360"/>
                <a:ext cx="826200" cy="198720"/>
                <a:chOff x="4082040" y="4365360"/>
                <a:chExt cx="826200" cy="1987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4141800" y="43653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4082040" y="43653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4908600" y="4365360"/>
                <a:ext cx="826560" cy="198720"/>
                <a:chOff x="4908600" y="4365360"/>
                <a:chExt cx="826560" cy="1987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4968720" y="4365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4908600" y="4365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5735160" y="4365360"/>
                <a:ext cx="826200" cy="198720"/>
                <a:chOff x="5735160" y="4365360"/>
                <a:chExt cx="826200" cy="19872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5794920" y="43653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5735160" y="43653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6561360" y="4365360"/>
                <a:ext cx="826560" cy="198720"/>
                <a:chOff x="6561360" y="4365360"/>
                <a:chExt cx="826560" cy="19872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6621480" y="43653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6561360" y="43653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1602720" y="4564080"/>
                <a:ext cx="826560" cy="198720"/>
                <a:chOff x="1602720" y="4564080"/>
                <a:chExt cx="826560" cy="1987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1662840" y="4564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1602720" y="4564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2429280" y="4564080"/>
                <a:ext cx="826200" cy="198720"/>
                <a:chOff x="2429280" y="4564080"/>
                <a:chExt cx="826200" cy="1987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2489040" y="4564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2429280" y="45640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3255480" y="4564080"/>
                <a:ext cx="826560" cy="198720"/>
                <a:chOff x="3255480" y="4564080"/>
                <a:chExt cx="826560" cy="19872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3315600" y="4564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3255480" y="4564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4082040" y="4564080"/>
                <a:ext cx="826200" cy="198720"/>
                <a:chOff x="4082040" y="4564080"/>
                <a:chExt cx="826200" cy="19872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4141800" y="45640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4082040" y="45640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4908600" y="4564080"/>
                <a:ext cx="826560" cy="198720"/>
                <a:chOff x="4908600" y="4564080"/>
                <a:chExt cx="826560" cy="1987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4968720" y="4564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4908600" y="4564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5735160" y="4564080"/>
                <a:ext cx="826200" cy="198720"/>
                <a:chOff x="5735160" y="4564080"/>
                <a:chExt cx="826200" cy="19872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5794920" y="45640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5735160" y="45640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6561360" y="4564080"/>
                <a:ext cx="826560" cy="198720"/>
                <a:chOff x="6561360" y="4564080"/>
                <a:chExt cx="826560" cy="1987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6621480" y="45640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6561360" y="45640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1602720" y="4762800"/>
                <a:ext cx="826560" cy="198720"/>
                <a:chOff x="1602720" y="4762800"/>
                <a:chExt cx="826560" cy="19872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1662840" y="47628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1602720" y="47628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2429280" y="4762800"/>
                <a:ext cx="826200" cy="198720"/>
                <a:chOff x="2429280" y="4762800"/>
                <a:chExt cx="826200" cy="1987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2489040" y="47628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2429280" y="47628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3255480" y="4762800"/>
                <a:ext cx="826560" cy="198720"/>
                <a:chOff x="3255480" y="4762800"/>
                <a:chExt cx="826560" cy="19872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3315600" y="47628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3255480" y="47628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4082040" y="4762800"/>
                <a:ext cx="826200" cy="198720"/>
                <a:chOff x="4082040" y="4762800"/>
                <a:chExt cx="826200" cy="19872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4141800" y="47628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082040" y="47628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4908600" y="4762800"/>
                <a:ext cx="826560" cy="198720"/>
                <a:chOff x="4908600" y="4762800"/>
                <a:chExt cx="826560" cy="19872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4968720" y="47628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908600" y="47628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2" name=""/>
              <p:cNvGrpSpPr/>
              <p:nvPr/>
            </p:nvGrpSpPr>
            <p:grpSpPr>
              <a:xfrm>
                <a:off x="5735160" y="4762800"/>
                <a:ext cx="826200" cy="198720"/>
                <a:chOff x="5735160" y="4762800"/>
                <a:chExt cx="826200" cy="19872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5794920" y="47628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5735160" y="47628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6561360" y="4762800"/>
                <a:ext cx="826560" cy="198720"/>
                <a:chOff x="6561360" y="4762800"/>
                <a:chExt cx="826560" cy="1987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6621480" y="47628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6561360" y="47628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1602720" y="4961520"/>
                <a:ext cx="826560" cy="198720"/>
                <a:chOff x="1602720" y="4961520"/>
                <a:chExt cx="826560" cy="19872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1662840" y="49615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1602720" y="49615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2429280" y="4961520"/>
                <a:ext cx="826200" cy="198720"/>
                <a:chOff x="2429280" y="4961520"/>
                <a:chExt cx="826200" cy="1987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2489040" y="49615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2429280" y="49615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3255480" y="4961520"/>
                <a:ext cx="826560" cy="198720"/>
                <a:chOff x="3255480" y="4961520"/>
                <a:chExt cx="826560" cy="19872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3315600" y="49615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3255480" y="49615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4082040" y="4961520"/>
                <a:ext cx="826200" cy="198720"/>
                <a:chOff x="4082040" y="4961520"/>
                <a:chExt cx="826200" cy="19872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4141800" y="49615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082040" y="49615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4908600" y="4961520"/>
                <a:ext cx="826560" cy="198720"/>
                <a:chOff x="4908600" y="4961520"/>
                <a:chExt cx="826560" cy="19872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4968720" y="49615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908600" y="49615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5735160" y="4961520"/>
                <a:ext cx="826200" cy="198720"/>
                <a:chOff x="5735160" y="4961520"/>
                <a:chExt cx="826200" cy="19872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5794920" y="49615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735160" y="49615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6561360" y="4961520"/>
                <a:ext cx="826560" cy="198720"/>
                <a:chOff x="6561360" y="4961520"/>
                <a:chExt cx="826560" cy="19872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6621480" y="49615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561360" y="49615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9" name=""/>
              <p:cNvGrpSpPr/>
              <p:nvPr/>
            </p:nvGrpSpPr>
            <p:grpSpPr>
              <a:xfrm>
                <a:off x="1602720" y="5160600"/>
                <a:ext cx="826560" cy="198720"/>
                <a:chOff x="1602720" y="5160600"/>
                <a:chExt cx="826560" cy="19872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1662840" y="5160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1602720" y="5160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2429280" y="5160600"/>
                <a:ext cx="826200" cy="198720"/>
                <a:chOff x="2429280" y="5160600"/>
                <a:chExt cx="826200" cy="19872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2489040" y="5160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2429280" y="51606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5" name=""/>
              <p:cNvGrpSpPr/>
              <p:nvPr/>
            </p:nvGrpSpPr>
            <p:grpSpPr>
              <a:xfrm>
                <a:off x="3255480" y="5160600"/>
                <a:ext cx="826560" cy="198720"/>
                <a:chOff x="3255480" y="5160600"/>
                <a:chExt cx="826560" cy="198720"/>
              </a:xfrm>
            </p:grpSpPr>
            <p:sp>
              <p:nvSpPr>
                <p:cNvPr id="1566" name=""/>
                <p:cNvSpPr/>
                <p:nvPr/>
              </p:nvSpPr>
              <p:spPr>
                <a:xfrm>
                  <a:off x="3315600" y="5160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3255480" y="5160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8" name=""/>
              <p:cNvGrpSpPr/>
              <p:nvPr/>
            </p:nvGrpSpPr>
            <p:grpSpPr>
              <a:xfrm>
                <a:off x="4082040" y="5160600"/>
                <a:ext cx="826200" cy="198720"/>
                <a:chOff x="4082040" y="5160600"/>
                <a:chExt cx="826200" cy="198720"/>
              </a:xfrm>
            </p:grpSpPr>
            <p:sp>
              <p:nvSpPr>
                <p:cNvPr id="1569" name=""/>
                <p:cNvSpPr/>
                <p:nvPr/>
              </p:nvSpPr>
              <p:spPr>
                <a:xfrm>
                  <a:off x="4141800" y="51606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4082040" y="51606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1" name=""/>
              <p:cNvGrpSpPr/>
              <p:nvPr/>
            </p:nvGrpSpPr>
            <p:grpSpPr>
              <a:xfrm>
                <a:off x="4908600" y="5160600"/>
                <a:ext cx="826560" cy="198720"/>
                <a:chOff x="4908600" y="5160600"/>
                <a:chExt cx="826560" cy="198720"/>
              </a:xfrm>
            </p:grpSpPr>
            <p:sp>
              <p:nvSpPr>
                <p:cNvPr id="1572" name=""/>
                <p:cNvSpPr/>
                <p:nvPr/>
              </p:nvSpPr>
              <p:spPr>
                <a:xfrm>
                  <a:off x="4968720" y="5160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4908600" y="5160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5735160" y="5160600"/>
                <a:ext cx="826200" cy="198720"/>
                <a:chOff x="5735160" y="5160600"/>
                <a:chExt cx="826200" cy="1987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5794920" y="516060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5735160" y="516060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7" name=""/>
              <p:cNvGrpSpPr/>
              <p:nvPr/>
            </p:nvGrpSpPr>
            <p:grpSpPr>
              <a:xfrm>
                <a:off x="6561360" y="5160600"/>
                <a:ext cx="826560" cy="198720"/>
                <a:chOff x="6561360" y="5160600"/>
                <a:chExt cx="826560" cy="19872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6621480" y="516060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6561360" y="516060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0" name=""/>
              <p:cNvGrpSpPr/>
              <p:nvPr/>
            </p:nvGrpSpPr>
            <p:grpSpPr>
              <a:xfrm>
                <a:off x="1602720" y="5359320"/>
                <a:ext cx="826560" cy="198720"/>
                <a:chOff x="1602720" y="5359320"/>
                <a:chExt cx="826560" cy="19872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1662840" y="5359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1602720" y="5359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3" name=""/>
              <p:cNvGrpSpPr/>
              <p:nvPr/>
            </p:nvGrpSpPr>
            <p:grpSpPr>
              <a:xfrm>
                <a:off x="2429280" y="5359320"/>
                <a:ext cx="826200" cy="198720"/>
                <a:chOff x="2429280" y="5359320"/>
                <a:chExt cx="826200" cy="198720"/>
              </a:xfrm>
            </p:grpSpPr>
            <p:sp>
              <p:nvSpPr>
                <p:cNvPr id="1584" name=""/>
                <p:cNvSpPr/>
                <p:nvPr/>
              </p:nvSpPr>
              <p:spPr>
                <a:xfrm>
                  <a:off x="2489040" y="5359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2429280" y="53593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" name=""/>
              <p:cNvGrpSpPr/>
              <p:nvPr/>
            </p:nvGrpSpPr>
            <p:grpSpPr>
              <a:xfrm>
                <a:off x="3255480" y="5359320"/>
                <a:ext cx="826560" cy="198720"/>
                <a:chOff x="3255480" y="5359320"/>
                <a:chExt cx="826560" cy="19872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3315600" y="5359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3255480" y="5359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9" name=""/>
              <p:cNvGrpSpPr/>
              <p:nvPr/>
            </p:nvGrpSpPr>
            <p:grpSpPr>
              <a:xfrm>
                <a:off x="4082040" y="5359320"/>
                <a:ext cx="826200" cy="198720"/>
                <a:chOff x="4082040" y="5359320"/>
                <a:chExt cx="826200" cy="198720"/>
              </a:xfrm>
            </p:grpSpPr>
            <p:sp>
              <p:nvSpPr>
                <p:cNvPr id="1590" name=""/>
                <p:cNvSpPr/>
                <p:nvPr/>
              </p:nvSpPr>
              <p:spPr>
                <a:xfrm>
                  <a:off x="4141800" y="53593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4082040" y="53593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2" name=""/>
              <p:cNvGrpSpPr/>
              <p:nvPr/>
            </p:nvGrpSpPr>
            <p:grpSpPr>
              <a:xfrm>
                <a:off x="4908600" y="5359320"/>
                <a:ext cx="826560" cy="198720"/>
                <a:chOff x="4908600" y="5359320"/>
                <a:chExt cx="826560" cy="19872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4968720" y="5359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4908600" y="5359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5" name=""/>
              <p:cNvGrpSpPr/>
              <p:nvPr/>
            </p:nvGrpSpPr>
            <p:grpSpPr>
              <a:xfrm>
                <a:off x="5735160" y="5359320"/>
                <a:ext cx="826200" cy="198720"/>
                <a:chOff x="5735160" y="5359320"/>
                <a:chExt cx="826200" cy="198720"/>
              </a:xfrm>
            </p:grpSpPr>
            <p:sp>
              <p:nvSpPr>
                <p:cNvPr id="1596" name=""/>
                <p:cNvSpPr/>
                <p:nvPr/>
              </p:nvSpPr>
              <p:spPr>
                <a:xfrm>
                  <a:off x="5794920" y="535932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5735160" y="535932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8" name=""/>
              <p:cNvGrpSpPr/>
              <p:nvPr/>
            </p:nvGrpSpPr>
            <p:grpSpPr>
              <a:xfrm>
                <a:off x="6561360" y="5359320"/>
                <a:ext cx="826560" cy="198720"/>
                <a:chOff x="6561360" y="5359320"/>
                <a:chExt cx="826560" cy="198720"/>
              </a:xfrm>
            </p:grpSpPr>
            <p:sp>
              <p:nvSpPr>
                <p:cNvPr id="1599" name=""/>
                <p:cNvSpPr/>
                <p:nvPr/>
              </p:nvSpPr>
              <p:spPr>
                <a:xfrm>
                  <a:off x="6621480" y="535932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6561360" y="535932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1602720" y="5558040"/>
                <a:ext cx="826560" cy="198720"/>
                <a:chOff x="1602720" y="5558040"/>
                <a:chExt cx="826560" cy="198720"/>
              </a:xfrm>
            </p:grpSpPr>
            <p:sp>
              <p:nvSpPr>
                <p:cNvPr id="1602" name=""/>
                <p:cNvSpPr/>
                <p:nvPr/>
              </p:nvSpPr>
              <p:spPr>
                <a:xfrm>
                  <a:off x="1662840" y="55580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1602720" y="55580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4" name=""/>
              <p:cNvGrpSpPr/>
              <p:nvPr/>
            </p:nvGrpSpPr>
            <p:grpSpPr>
              <a:xfrm>
                <a:off x="2429280" y="5558040"/>
                <a:ext cx="826200" cy="198720"/>
                <a:chOff x="2429280" y="5558040"/>
                <a:chExt cx="826200" cy="19872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2489040" y="55580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2429280" y="55580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7" name=""/>
              <p:cNvGrpSpPr/>
              <p:nvPr/>
            </p:nvGrpSpPr>
            <p:grpSpPr>
              <a:xfrm>
                <a:off x="3255480" y="5558040"/>
                <a:ext cx="826560" cy="198720"/>
                <a:chOff x="3255480" y="5558040"/>
                <a:chExt cx="826560" cy="198720"/>
              </a:xfrm>
            </p:grpSpPr>
            <p:sp>
              <p:nvSpPr>
                <p:cNvPr id="1608" name=""/>
                <p:cNvSpPr/>
                <p:nvPr/>
              </p:nvSpPr>
              <p:spPr>
                <a:xfrm>
                  <a:off x="3315600" y="55580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255480" y="55580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0" name=""/>
              <p:cNvGrpSpPr/>
              <p:nvPr/>
            </p:nvGrpSpPr>
            <p:grpSpPr>
              <a:xfrm>
                <a:off x="4082040" y="5558040"/>
                <a:ext cx="826200" cy="198720"/>
                <a:chOff x="4082040" y="5558040"/>
                <a:chExt cx="826200" cy="19872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4141800" y="555804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4082040" y="55580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3" name=""/>
              <p:cNvGrpSpPr/>
              <p:nvPr/>
            </p:nvGrpSpPr>
            <p:grpSpPr>
              <a:xfrm>
                <a:off x="4908600" y="5558040"/>
                <a:ext cx="826560" cy="198720"/>
                <a:chOff x="4908600" y="5558040"/>
                <a:chExt cx="826560" cy="198720"/>
              </a:xfrm>
            </p:grpSpPr>
            <p:sp>
              <p:nvSpPr>
                <p:cNvPr id="1614" name=""/>
                <p:cNvSpPr/>
                <p:nvPr/>
              </p:nvSpPr>
              <p:spPr>
                <a:xfrm>
                  <a:off x="4968720" y="55580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4908600" y="55580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6" name=""/>
              <p:cNvGrpSpPr/>
              <p:nvPr/>
            </p:nvGrpSpPr>
            <p:grpSpPr>
              <a:xfrm>
                <a:off x="5735160" y="5558040"/>
                <a:ext cx="826200" cy="198720"/>
                <a:chOff x="5735160" y="5558040"/>
                <a:chExt cx="826200" cy="198720"/>
              </a:xfrm>
            </p:grpSpPr>
            <p:sp>
              <p:nvSpPr>
                <p:cNvPr id="1617" name=""/>
                <p:cNvSpPr/>
                <p:nvPr/>
              </p:nvSpPr>
              <p:spPr>
                <a:xfrm>
                  <a:off x="5794920" y="555804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5735160" y="555804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9" name=""/>
              <p:cNvGrpSpPr/>
              <p:nvPr/>
            </p:nvGrpSpPr>
            <p:grpSpPr>
              <a:xfrm>
                <a:off x="6561360" y="5558040"/>
                <a:ext cx="826560" cy="198720"/>
                <a:chOff x="6561360" y="5558040"/>
                <a:chExt cx="826560" cy="19872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6621480" y="555804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6561360" y="555804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2" name=""/>
              <p:cNvGrpSpPr/>
              <p:nvPr/>
            </p:nvGrpSpPr>
            <p:grpSpPr>
              <a:xfrm>
                <a:off x="1602720" y="5756760"/>
                <a:ext cx="826560" cy="198720"/>
                <a:chOff x="1602720" y="5756760"/>
                <a:chExt cx="826560" cy="198720"/>
              </a:xfrm>
            </p:grpSpPr>
            <p:sp>
              <p:nvSpPr>
                <p:cNvPr id="1623" name=""/>
                <p:cNvSpPr/>
                <p:nvPr/>
              </p:nvSpPr>
              <p:spPr>
                <a:xfrm>
                  <a:off x="1662840" y="57567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1602720" y="57567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2429280" y="5756760"/>
                <a:ext cx="826200" cy="198720"/>
                <a:chOff x="2429280" y="5756760"/>
                <a:chExt cx="826200" cy="19872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2489040" y="57567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2429280" y="57567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" name=""/>
              <p:cNvGrpSpPr/>
              <p:nvPr/>
            </p:nvGrpSpPr>
            <p:grpSpPr>
              <a:xfrm>
                <a:off x="3255480" y="5756760"/>
                <a:ext cx="826560" cy="198720"/>
                <a:chOff x="3255480" y="5756760"/>
                <a:chExt cx="826560" cy="19872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3315600" y="57567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255480" y="57567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1" name=""/>
              <p:cNvGrpSpPr/>
              <p:nvPr/>
            </p:nvGrpSpPr>
            <p:grpSpPr>
              <a:xfrm>
                <a:off x="4082040" y="5756760"/>
                <a:ext cx="826200" cy="198720"/>
                <a:chOff x="4082040" y="5756760"/>
                <a:chExt cx="826200" cy="198720"/>
              </a:xfrm>
            </p:grpSpPr>
            <p:sp>
              <p:nvSpPr>
                <p:cNvPr id="1632" name=""/>
                <p:cNvSpPr/>
                <p:nvPr/>
              </p:nvSpPr>
              <p:spPr>
                <a:xfrm>
                  <a:off x="4141800" y="57567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4082040" y="57567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4" name=""/>
              <p:cNvGrpSpPr/>
              <p:nvPr/>
            </p:nvGrpSpPr>
            <p:grpSpPr>
              <a:xfrm>
                <a:off x="4908600" y="5756760"/>
                <a:ext cx="826560" cy="198720"/>
                <a:chOff x="4908600" y="5756760"/>
                <a:chExt cx="826560" cy="19872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4968720" y="57567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4908600" y="57567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5735160" y="5756760"/>
                <a:ext cx="826200" cy="198720"/>
                <a:chOff x="5735160" y="5756760"/>
                <a:chExt cx="826200" cy="19872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5794920" y="57567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735160" y="57567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0" name=""/>
              <p:cNvGrpSpPr/>
              <p:nvPr/>
            </p:nvGrpSpPr>
            <p:grpSpPr>
              <a:xfrm>
                <a:off x="6561360" y="5756760"/>
                <a:ext cx="826560" cy="198720"/>
                <a:chOff x="6561360" y="5756760"/>
                <a:chExt cx="826560" cy="19872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6621480" y="57567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6561360" y="57567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3" name=""/>
              <p:cNvGrpSpPr/>
              <p:nvPr/>
            </p:nvGrpSpPr>
            <p:grpSpPr>
              <a:xfrm>
                <a:off x="1602720" y="5955480"/>
                <a:ext cx="826560" cy="198720"/>
                <a:chOff x="1602720" y="5955480"/>
                <a:chExt cx="826560" cy="198720"/>
              </a:xfrm>
            </p:grpSpPr>
            <p:sp>
              <p:nvSpPr>
                <p:cNvPr id="1644" name=""/>
                <p:cNvSpPr/>
                <p:nvPr/>
              </p:nvSpPr>
              <p:spPr>
                <a:xfrm>
                  <a:off x="1662840" y="59554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1602720" y="59554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6" name=""/>
              <p:cNvGrpSpPr/>
              <p:nvPr/>
            </p:nvGrpSpPr>
            <p:grpSpPr>
              <a:xfrm>
                <a:off x="2429280" y="5955480"/>
                <a:ext cx="826200" cy="198720"/>
                <a:chOff x="2429280" y="5955480"/>
                <a:chExt cx="826200" cy="19872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2489040" y="59554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2429280" y="59554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9" name=""/>
              <p:cNvGrpSpPr/>
              <p:nvPr/>
            </p:nvGrpSpPr>
            <p:grpSpPr>
              <a:xfrm>
                <a:off x="3255480" y="5955480"/>
                <a:ext cx="826560" cy="198720"/>
                <a:chOff x="3255480" y="5955480"/>
                <a:chExt cx="826560" cy="198720"/>
              </a:xfrm>
            </p:grpSpPr>
            <p:sp>
              <p:nvSpPr>
                <p:cNvPr id="1650" name=""/>
                <p:cNvSpPr/>
                <p:nvPr/>
              </p:nvSpPr>
              <p:spPr>
                <a:xfrm>
                  <a:off x="3315600" y="59554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255480" y="59554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2" name=""/>
              <p:cNvGrpSpPr/>
              <p:nvPr/>
            </p:nvGrpSpPr>
            <p:grpSpPr>
              <a:xfrm>
                <a:off x="4082040" y="5955480"/>
                <a:ext cx="826200" cy="198720"/>
                <a:chOff x="4082040" y="5955480"/>
                <a:chExt cx="826200" cy="198720"/>
              </a:xfrm>
            </p:grpSpPr>
            <p:sp>
              <p:nvSpPr>
                <p:cNvPr id="1653" name=""/>
                <p:cNvSpPr/>
                <p:nvPr/>
              </p:nvSpPr>
              <p:spPr>
                <a:xfrm>
                  <a:off x="4141800" y="59554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4082040" y="59554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5" name=""/>
              <p:cNvGrpSpPr/>
              <p:nvPr/>
            </p:nvGrpSpPr>
            <p:grpSpPr>
              <a:xfrm>
                <a:off x="4908600" y="5955480"/>
                <a:ext cx="826560" cy="198720"/>
                <a:chOff x="4908600" y="5955480"/>
                <a:chExt cx="826560" cy="198720"/>
              </a:xfrm>
            </p:grpSpPr>
            <p:sp>
              <p:nvSpPr>
                <p:cNvPr id="1656" name=""/>
                <p:cNvSpPr/>
                <p:nvPr/>
              </p:nvSpPr>
              <p:spPr>
                <a:xfrm>
                  <a:off x="4968720" y="59554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4908600" y="59554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8" name=""/>
              <p:cNvGrpSpPr/>
              <p:nvPr/>
            </p:nvGrpSpPr>
            <p:grpSpPr>
              <a:xfrm>
                <a:off x="5735160" y="5955480"/>
                <a:ext cx="826200" cy="198720"/>
                <a:chOff x="5735160" y="5955480"/>
                <a:chExt cx="826200" cy="198720"/>
              </a:xfrm>
            </p:grpSpPr>
            <p:sp>
              <p:nvSpPr>
                <p:cNvPr id="1659" name=""/>
                <p:cNvSpPr/>
                <p:nvPr/>
              </p:nvSpPr>
              <p:spPr>
                <a:xfrm>
                  <a:off x="5794920" y="59554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735160" y="59554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1" name=""/>
              <p:cNvGrpSpPr/>
              <p:nvPr/>
            </p:nvGrpSpPr>
            <p:grpSpPr>
              <a:xfrm>
                <a:off x="6561360" y="5955480"/>
                <a:ext cx="826560" cy="198720"/>
                <a:chOff x="6561360" y="5955480"/>
                <a:chExt cx="826560" cy="198720"/>
              </a:xfrm>
            </p:grpSpPr>
            <p:sp>
              <p:nvSpPr>
                <p:cNvPr id="1662" name=""/>
                <p:cNvSpPr/>
                <p:nvPr/>
              </p:nvSpPr>
              <p:spPr>
                <a:xfrm>
                  <a:off x="6621480" y="59554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6561360" y="59554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4" name=""/>
              <p:cNvGrpSpPr/>
              <p:nvPr/>
            </p:nvGrpSpPr>
            <p:grpSpPr>
              <a:xfrm>
                <a:off x="1602720" y="6154560"/>
                <a:ext cx="826560" cy="198720"/>
                <a:chOff x="1602720" y="6154560"/>
                <a:chExt cx="826560" cy="19872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1662840" y="6154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1602720" y="6154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7" name=""/>
              <p:cNvGrpSpPr/>
              <p:nvPr/>
            </p:nvGrpSpPr>
            <p:grpSpPr>
              <a:xfrm>
                <a:off x="2429280" y="6154560"/>
                <a:ext cx="826200" cy="198720"/>
                <a:chOff x="2429280" y="6154560"/>
                <a:chExt cx="826200" cy="19872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2489040" y="6154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2429280" y="61545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0" name=""/>
              <p:cNvGrpSpPr/>
              <p:nvPr/>
            </p:nvGrpSpPr>
            <p:grpSpPr>
              <a:xfrm>
                <a:off x="3255480" y="6154560"/>
                <a:ext cx="826560" cy="198720"/>
                <a:chOff x="3255480" y="6154560"/>
                <a:chExt cx="826560" cy="19872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3315600" y="6154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255480" y="6154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3" name=""/>
              <p:cNvGrpSpPr/>
              <p:nvPr/>
            </p:nvGrpSpPr>
            <p:grpSpPr>
              <a:xfrm>
                <a:off x="4082040" y="6154560"/>
                <a:ext cx="826200" cy="198720"/>
                <a:chOff x="4082040" y="6154560"/>
                <a:chExt cx="826200" cy="19872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4141800" y="61545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4082040" y="61545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4908600" y="6154560"/>
                <a:ext cx="826560" cy="198720"/>
                <a:chOff x="4908600" y="6154560"/>
                <a:chExt cx="826560" cy="19872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4968720" y="6154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4908600" y="6154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9" name=""/>
              <p:cNvGrpSpPr/>
              <p:nvPr/>
            </p:nvGrpSpPr>
            <p:grpSpPr>
              <a:xfrm>
                <a:off x="5735160" y="6154560"/>
                <a:ext cx="826200" cy="198720"/>
                <a:chOff x="5735160" y="6154560"/>
                <a:chExt cx="826200" cy="198720"/>
              </a:xfrm>
            </p:grpSpPr>
            <p:sp>
              <p:nvSpPr>
                <p:cNvPr id="1680" name=""/>
                <p:cNvSpPr/>
                <p:nvPr/>
              </p:nvSpPr>
              <p:spPr>
                <a:xfrm>
                  <a:off x="5794920" y="615456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735160" y="615456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2" name=""/>
              <p:cNvGrpSpPr/>
              <p:nvPr/>
            </p:nvGrpSpPr>
            <p:grpSpPr>
              <a:xfrm>
                <a:off x="6561360" y="6154560"/>
                <a:ext cx="826560" cy="198720"/>
                <a:chOff x="6561360" y="6154560"/>
                <a:chExt cx="826560" cy="1987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6621480" y="615456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6561360" y="615456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5" name=""/>
              <p:cNvGrpSpPr/>
              <p:nvPr/>
            </p:nvGrpSpPr>
            <p:grpSpPr>
              <a:xfrm>
                <a:off x="1602720" y="6353280"/>
                <a:ext cx="826560" cy="198720"/>
                <a:chOff x="1602720" y="6353280"/>
                <a:chExt cx="826560" cy="198720"/>
              </a:xfrm>
            </p:grpSpPr>
            <p:sp>
              <p:nvSpPr>
                <p:cNvPr id="1686" name=""/>
                <p:cNvSpPr/>
                <p:nvPr/>
              </p:nvSpPr>
              <p:spPr>
                <a:xfrm>
                  <a:off x="1662840" y="6353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1602720" y="6353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8" name=""/>
              <p:cNvGrpSpPr/>
              <p:nvPr/>
            </p:nvGrpSpPr>
            <p:grpSpPr>
              <a:xfrm>
                <a:off x="2429280" y="6353280"/>
                <a:ext cx="826200" cy="198720"/>
                <a:chOff x="2429280" y="6353280"/>
                <a:chExt cx="826200" cy="198720"/>
              </a:xfrm>
            </p:grpSpPr>
            <p:sp>
              <p:nvSpPr>
                <p:cNvPr id="1689" name=""/>
                <p:cNvSpPr/>
                <p:nvPr/>
              </p:nvSpPr>
              <p:spPr>
                <a:xfrm>
                  <a:off x="2489040" y="6353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2429280" y="63532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1" name=""/>
              <p:cNvGrpSpPr/>
              <p:nvPr/>
            </p:nvGrpSpPr>
            <p:grpSpPr>
              <a:xfrm>
                <a:off x="3255480" y="6353280"/>
                <a:ext cx="826560" cy="198720"/>
                <a:chOff x="3255480" y="6353280"/>
                <a:chExt cx="826560" cy="19872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3315600" y="6353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255480" y="6353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4" name=""/>
              <p:cNvGrpSpPr/>
              <p:nvPr/>
            </p:nvGrpSpPr>
            <p:grpSpPr>
              <a:xfrm>
                <a:off x="4082040" y="6353280"/>
                <a:ext cx="826200" cy="198720"/>
                <a:chOff x="4082040" y="6353280"/>
                <a:chExt cx="826200" cy="198720"/>
              </a:xfrm>
            </p:grpSpPr>
            <p:sp>
              <p:nvSpPr>
                <p:cNvPr id="1695" name=""/>
                <p:cNvSpPr/>
                <p:nvPr/>
              </p:nvSpPr>
              <p:spPr>
                <a:xfrm>
                  <a:off x="4141800" y="63532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082040" y="63532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7" name=""/>
              <p:cNvGrpSpPr/>
              <p:nvPr/>
            </p:nvGrpSpPr>
            <p:grpSpPr>
              <a:xfrm>
                <a:off x="4908600" y="6353280"/>
                <a:ext cx="826560" cy="198720"/>
                <a:chOff x="4908600" y="6353280"/>
                <a:chExt cx="826560" cy="19872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4968720" y="6353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908600" y="6353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5735160" y="6353280"/>
                <a:ext cx="826200" cy="198720"/>
                <a:chOff x="5735160" y="6353280"/>
                <a:chExt cx="826200" cy="19872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5794920" y="6353280"/>
                  <a:ext cx="70632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5735160" y="6353280"/>
                  <a:ext cx="82620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6561360" y="6353280"/>
                <a:ext cx="826560" cy="198720"/>
                <a:chOff x="6561360" y="6353280"/>
                <a:chExt cx="826560" cy="19872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6621480" y="6353280"/>
                  <a:ext cx="7059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6561360" y="6353280"/>
                  <a:ext cx="826560" cy="19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6" name=""/>
            <p:cNvSpPr/>
            <p:nvPr/>
          </p:nvSpPr>
          <p:spPr>
            <a:xfrm>
              <a:off x="1600200" y="0"/>
              <a:ext cx="5791320" cy="65530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 txBox="1"/>
          <p:nvPr/>
        </p:nvSpPr>
        <p:spPr>
          <a:xfrm>
            <a:off x="1447920" y="0"/>
            <a:ext cx="5181480" cy="613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Obseved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Vs.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Expected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708" name=""/>
          <p:cNvSpPr/>
          <p:nvPr/>
        </p:nvSpPr>
        <p:spPr>
          <a:xfrm>
            <a:off x="1440" y="-27669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440" y="-2766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0" y="421920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440" y="9283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2666880" y="0"/>
            <a:ext cx="3504960" cy="6858000"/>
            <a:chOff x="2666880" y="0"/>
            <a:chExt cx="3504960" cy="6858000"/>
          </a:xfrm>
        </p:grpSpPr>
        <p:grpSp>
          <p:nvGrpSpPr>
            <p:cNvPr id="1713" name=""/>
            <p:cNvGrpSpPr/>
            <p:nvPr/>
          </p:nvGrpSpPr>
          <p:grpSpPr>
            <a:xfrm>
              <a:off x="2670120" y="1080"/>
              <a:ext cx="3497760" cy="6855840"/>
              <a:chOff x="2670120" y="1080"/>
              <a:chExt cx="3497760" cy="6855840"/>
            </a:xfrm>
          </p:grpSpPr>
          <p:grpSp>
            <p:nvGrpSpPr>
              <p:cNvPr id="1714" name=""/>
              <p:cNvGrpSpPr/>
              <p:nvPr/>
            </p:nvGrpSpPr>
            <p:grpSpPr>
              <a:xfrm>
                <a:off x="2670120" y="1080"/>
                <a:ext cx="671040" cy="331200"/>
                <a:chOff x="2670120" y="1080"/>
                <a:chExt cx="671040" cy="331200"/>
              </a:xfrm>
            </p:grpSpPr>
            <p:sp>
              <p:nvSpPr>
                <p:cNvPr id="1715" name=""/>
                <p:cNvSpPr/>
                <p:nvPr/>
              </p:nvSpPr>
              <p:spPr>
                <a:xfrm>
                  <a:off x="2739240" y="1080"/>
                  <a:ext cx="53244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670120" y="1080"/>
                  <a:ext cx="67104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7" name=""/>
              <p:cNvGrpSpPr/>
              <p:nvPr/>
            </p:nvGrpSpPr>
            <p:grpSpPr>
              <a:xfrm>
                <a:off x="3341520" y="1080"/>
                <a:ext cx="1413000" cy="331200"/>
                <a:chOff x="3341520" y="1080"/>
                <a:chExt cx="1413000" cy="33120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3410280" y="1080"/>
                  <a:ext cx="127476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xpected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3341520" y="1080"/>
                  <a:ext cx="141300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0" name=""/>
              <p:cNvGrpSpPr/>
              <p:nvPr/>
            </p:nvGrpSpPr>
            <p:grpSpPr>
              <a:xfrm>
                <a:off x="4755240" y="1080"/>
                <a:ext cx="1412640" cy="331200"/>
                <a:chOff x="4755240" y="1080"/>
                <a:chExt cx="1412640" cy="33120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4824000" y="1080"/>
                  <a:ext cx="127476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served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4755240" y="1080"/>
                  <a:ext cx="141264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2670120" y="332280"/>
                <a:ext cx="671040" cy="217440"/>
                <a:chOff x="2670120" y="332280"/>
                <a:chExt cx="671040" cy="21744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2739240" y="33228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670120" y="33228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6" name=""/>
              <p:cNvGrpSpPr/>
              <p:nvPr/>
            </p:nvGrpSpPr>
            <p:grpSpPr>
              <a:xfrm>
                <a:off x="3341520" y="332280"/>
                <a:ext cx="1413000" cy="217440"/>
                <a:chOff x="3341520" y="332280"/>
                <a:chExt cx="1413000" cy="21744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3410280" y="332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4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3341520" y="33228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9" name=""/>
              <p:cNvGrpSpPr/>
              <p:nvPr/>
            </p:nvGrpSpPr>
            <p:grpSpPr>
              <a:xfrm>
                <a:off x="4755240" y="332280"/>
                <a:ext cx="1412640" cy="217440"/>
                <a:chOff x="4755240" y="332280"/>
                <a:chExt cx="1412640" cy="217440"/>
              </a:xfrm>
            </p:grpSpPr>
            <p:sp>
              <p:nvSpPr>
                <p:cNvPr id="1730" name=""/>
                <p:cNvSpPr/>
                <p:nvPr/>
              </p:nvSpPr>
              <p:spPr>
                <a:xfrm>
                  <a:off x="4824000" y="332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4755240" y="33228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2" name=""/>
              <p:cNvGrpSpPr/>
              <p:nvPr/>
            </p:nvGrpSpPr>
            <p:grpSpPr>
              <a:xfrm>
                <a:off x="2670120" y="549720"/>
                <a:ext cx="671040" cy="217440"/>
                <a:chOff x="2670120" y="549720"/>
                <a:chExt cx="671040" cy="21744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2739240" y="54972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2670120" y="54972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5" name=""/>
              <p:cNvGrpSpPr/>
              <p:nvPr/>
            </p:nvGrpSpPr>
            <p:grpSpPr>
              <a:xfrm>
                <a:off x="3341520" y="549720"/>
                <a:ext cx="1413000" cy="217440"/>
                <a:chOff x="3341520" y="549720"/>
                <a:chExt cx="1413000" cy="21744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410280" y="549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4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3341520" y="54972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8" name=""/>
              <p:cNvGrpSpPr/>
              <p:nvPr/>
            </p:nvGrpSpPr>
            <p:grpSpPr>
              <a:xfrm>
                <a:off x="4755240" y="549720"/>
                <a:ext cx="1412640" cy="217440"/>
                <a:chOff x="4755240" y="549720"/>
                <a:chExt cx="1412640" cy="21744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4824000" y="549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4755240" y="54972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2670120" y="767160"/>
                <a:ext cx="671040" cy="217440"/>
                <a:chOff x="2670120" y="767160"/>
                <a:chExt cx="671040" cy="21744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2739240" y="76716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2670120" y="76716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4" name=""/>
              <p:cNvGrpSpPr/>
              <p:nvPr/>
            </p:nvGrpSpPr>
            <p:grpSpPr>
              <a:xfrm>
                <a:off x="3341520" y="767160"/>
                <a:ext cx="1413000" cy="217440"/>
                <a:chOff x="3341520" y="767160"/>
                <a:chExt cx="1413000" cy="217440"/>
              </a:xfrm>
            </p:grpSpPr>
            <p:sp>
              <p:nvSpPr>
                <p:cNvPr id="1745" name=""/>
                <p:cNvSpPr/>
                <p:nvPr/>
              </p:nvSpPr>
              <p:spPr>
                <a:xfrm>
                  <a:off x="3410280" y="767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21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3341520" y="76716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7" name=""/>
              <p:cNvGrpSpPr/>
              <p:nvPr/>
            </p:nvGrpSpPr>
            <p:grpSpPr>
              <a:xfrm>
                <a:off x="4755240" y="767160"/>
                <a:ext cx="1412640" cy="217440"/>
                <a:chOff x="4755240" y="767160"/>
                <a:chExt cx="1412640" cy="2174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4824000" y="767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4755240" y="76716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2670120" y="984600"/>
                <a:ext cx="671040" cy="217440"/>
                <a:chOff x="2670120" y="984600"/>
                <a:chExt cx="671040" cy="21744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2739240" y="98460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670120" y="98460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3" name=""/>
              <p:cNvGrpSpPr/>
              <p:nvPr/>
            </p:nvGrpSpPr>
            <p:grpSpPr>
              <a:xfrm>
                <a:off x="3341520" y="984600"/>
                <a:ext cx="1413000" cy="217440"/>
                <a:chOff x="3341520" y="984600"/>
                <a:chExt cx="1413000" cy="21744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3410280" y="984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3341520" y="98460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6" name=""/>
              <p:cNvGrpSpPr/>
              <p:nvPr/>
            </p:nvGrpSpPr>
            <p:grpSpPr>
              <a:xfrm>
                <a:off x="4755240" y="984600"/>
                <a:ext cx="1412640" cy="217440"/>
                <a:chOff x="4755240" y="984600"/>
                <a:chExt cx="1412640" cy="217440"/>
              </a:xfrm>
            </p:grpSpPr>
            <p:sp>
              <p:nvSpPr>
                <p:cNvPr id="1757" name=""/>
                <p:cNvSpPr/>
                <p:nvPr/>
              </p:nvSpPr>
              <p:spPr>
                <a:xfrm>
                  <a:off x="4824000" y="984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4755240" y="98460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9" name=""/>
              <p:cNvGrpSpPr/>
              <p:nvPr/>
            </p:nvGrpSpPr>
            <p:grpSpPr>
              <a:xfrm>
                <a:off x="2670120" y="1202400"/>
                <a:ext cx="671040" cy="217440"/>
                <a:chOff x="2670120" y="1202400"/>
                <a:chExt cx="671040" cy="21744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2739240" y="120240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2670120" y="120240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2" name=""/>
              <p:cNvGrpSpPr/>
              <p:nvPr/>
            </p:nvGrpSpPr>
            <p:grpSpPr>
              <a:xfrm>
                <a:off x="3341520" y="1202400"/>
                <a:ext cx="1413000" cy="217440"/>
                <a:chOff x="3341520" y="1202400"/>
                <a:chExt cx="1413000" cy="217440"/>
              </a:xfrm>
            </p:grpSpPr>
            <p:sp>
              <p:nvSpPr>
                <p:cNvPr id="1763" name=""/>
                <p:cNvSpPr/>
                <p:nvPr/>
              </p:nvSpPr>
              <p:spPr>
                <a:xfrm>
                  <a:off x="3410280" y="12024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7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341520" y="120240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5" name=""/>
              <p:cNvGrpSpPr/>
              <p:nvPr/>
            </p:nvGrpSpPr>
            <p:grpSpPr>
              <a:xfrm>
                <a:off x="4755240" y="1202400"/>
                <a:ext cx="1412640" cy="217440"/>
                <a:chOff x="4755240" y="1202400"/>
                <a:chExt cx="1412640" cy="21744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4824000" y="12024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4755240" y="120240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8" name=""/>
              <p:cNvGrpSpPr/>
              <p:nvPr/>
            </p:nvGrpSpPr>
            <p:grpSpPr>
              <a:xfrm>
                <a:off x="2670120" y="1419840"/>
                <a:ext cx="671040" cy="217440"/>
                <a:chOff x="2670120" y="1419840"/>
                <a:chExt cx="671040" cy="217440"/>
              </a:xfrm>
            </p:grpSpPr>
            <p:sp>
              <p:nvSpPr>
                <p:cNvPr id="1769" name=""/>
                <p:cNvSpPr/>
                <p:nvPr/>
              </p:nvSpPr>
              <p:spPr>
                <a:xfrm>
                  <a:off x="2739240" y="14198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2670120" y="14198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1" name=""/>
              <p:cNvGrpSpPr/>
              <p:nvPr/>
            </p:nvGrpSpPr>
            <p:grpSpPr>
              <a:xfrm>
                <a:off x="3341520" y="1419840"/>
                <a:ext cx="1413000" cy="217440"/>
                <a:chOff x="3341520" y="1419840"/>
                <a:chExt cx="1413000" cy="217440"/>
              </a:xfrm>
            </p:grpSpPr>
            <p:sp>
              <p:nvSpPr>
                <p:cNvPr id="1772" name=""/>
                <p:cNvSpPr/>
                <p:nvPr/>
              </p:nvSpPr>
              <p:spPr>
                <a:xfrm>
                  <a:off x="3410280" y="14198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3341520" y="14198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4755240" y="1419840"/>
                <a:ext cx="1412640" cy="217440"/>
                <a:chOff x="4755240" y="1419840"/>
                <a:chExt cx="1412640" cy="21744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4824000" y="14198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4755240" y="14198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2670120" y="1637280"/>
                <a:ext cx="671040" cy="217440"/>
                <a:chOff x="2670120" y="1637280"/>
                <a:chExt cx="671040" cy="21744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2739240" y="163728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2670120" y="163728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3341520" y="1637280"/>
                <a:ext cx="1413000" cy="217440"/>
                <a:chOff x="3341520" y="1637280"/>
                <a:chExt cx="1413000" cy="21744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3410280" y="1637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3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3341520" y="163728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4755240" y="1637280"/>
                <a:ext cx="1412640" cy="217440"/>
                <a:chOff x="4755240" y="1637280"/>
                <a:chExt cx="1412640" cy="21744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4824000" y="1637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4755240" y="163728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2670120" y="1854720"/>
                <a:ext cx="671040" cy="217440"/>
                <a:chOff x="2670120" y="1854720"/>
                <a:chExt cx="671040" cy="21744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2739240" y="185472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2670120" y="185472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3341520" y="1854720"/>
                <a:ext cx="1413000" cy="217440"/>
                <a:chOff x="3341520" y="1854720"/>
                <a:chExt cx="1413000" cy="2174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3410280" y="1854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3341520" y="185472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4755240" y="1854720"/>
                <a:ext cx="1412640" cy="217440"/>
                <a:chOff x="4755240" y="1854720"/>
                <a:chExt cx="1412640" cy="21744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4824000" y="1854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4755240" y="185472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2670120" y="2072160"/>
                <a:ext cx="671040" cy="217440"/>
                <a:chOff x="2670120" y="2072160"/>
                <a:chExt cx="671040" cy="21744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2739240" y="207216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2670120" y="207216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341520" y="2072160"/>
                <a:ext cx="1413000" cy="217440"/>
                <a:chOff x="3341520" y="2072160"/>
                <a:chExt cx="1413000" cy="21744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3410280" y="2072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03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3341520" y="207216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4755240" y="2072160"/>
                <a:ext cx="1412640" cy="217440"/>
                <a:chOff x="4755240" y="2072160"/>
                <a:chExt cx="1412640" cy="21744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4824000" y="2072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4755240" y="207216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4" name=""/>
              <p:cNvGrpSpPr/>
              <p:nvPr/>
            </p:nvGrpSpPr>
            <p:grpSpPr>
              <a:xfrm>
                <a:off x="2670120" y="2289600"/>
                <a:ext cx="671040" cy="217440"/>
                <a:chOff x="2670120" y="2289600"/>
                <a:chExt cx="671040" cy="217440"/>
              </a:xfrm>
            </p:grpSpPr>
            <p:sp>
              <p:nvSpPr>
                <p:cNvPr id="1805" name=""/>
                <p:cNvSpPr/>
                <p:nvPr/>
              </p:nvSpPr>
              <p:spPr>
                <a:xfrm>
                  <a:off x="2739240" y="228960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2670120" y="228960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7" name=""/>
              <p:cNvGrpSpPr/>
              <p:nvPr/>
            </p:nvGrpSpPr>
            <p:grpSpPr>
              <a:xfrm>
                <a:off x="3341520" y="2289600"/>
                <a:ext cx="1413000" cy="217440"/>
                <a:chOff x="3341520" y="2289600"/>
                <a:chExt cx="1413000" cy="217440"/>
              </a:xfrm>
            </p:grpSpPr>
            <p:sp>
              <p:nvSpPr>
                <p:cNvPr id="1808" name=""/>
                <p:cNvSpPr/>
                <p:nvPr/>
              </p:nvSpPr>
              <p:spPr>
                <a:xfrm>
                  <a:off x="3410280" y="2289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3341520" y="228960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0" name=""/>
              <p:cNvGrpSpPr/>
              <p:nvPr/>
            </p:nvGrpSpPr>
            <p:grpSpPr>
              <a:xfrm>
                <a:off x="4755240" y="2289600"/>
                <a:ext cx="1412640" cy="217440"/>
                <a:chOff x="4755240" y="2289600"/>
                <a:chExt cx="1412640" cy="21744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4824000" y="2289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4755240" y="228960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3" name=""/>
              <p:cNvGrpSpPr/>
              <p:nvPr/>
            </p:nvGrpSpPr>
            <p:grpSpPr>
              <a:xfrm>
                <a:off x="2670120" y="2507040"/>
                <a:ext cx="671040" cy="217440"/>
                <a:chOff x="2670120" y="2507040"/>
                <a:chExt cx="671040" cy="217440"/>
              </a:xfrm>
            </p:grpSpPr>
            <p:sp>
              <p:nvSpPr>
                <p:cNvPr id="1814" name=""/>
                <p:cNvSpPr/>
                <p:nvPr/>
              </p:nvSpPr>
              <p:spPr>
                <a:xfrm>
                  <a:off x="2739240" y="25070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2670120" y="25070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6" name=""/>
              <p:cNvGrpSpPr/>
              <p:nvPr/>
            </p:nvGrpSpPr>
            <p:grpSpPr>
              <a:xfrm>
                <a:off x="3341520" y="2507040"/>
                <a:ext cx="1413000" cy="217440"/>
                <a:chOff x="3341520" y="2507040"/>
                <a:chExt cx="1413000" cy="217440"/>
              </a:xfrm>
            </p:grpSpPr>
            <p:sp>
              <p:nvSpPr>
                <p:cNvPr id="1817" name=""/>
                <p:cNvSpPr/>
                <p:nvPr/>
              </p:nvSpPr>
              <p:spPr>
                <a:xfrm>
                  <a:off x="3410280" y="2507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4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3341520" y="25070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9" name=""/>
              <p:cNvGrpSpPr/>
              <p:nvPr/>
            </p:nvGrpSpPr>
            <p:grpSpPr>
              <a:xfrm>
                <a:off x="4755240" y="2507040"/>
                <a:ext cx="1412640" cy="217440"/>
                <a:chOff x="4755240" y="2507040"/>
                <a:chExt cx="1412640" cy="21744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4824000" y="2507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4755240" y="25070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670120" y="2724840"/>
                <a:ext cx="671040" cy="217440"/>
                <a:chOff x="2670120" y="2724840"/>
                <a:chExt cx="671040" cy="21744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39240" y="27248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670120" y="27248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341520" y="2724840"/>
                <a:ext cx="1413000" cy="217440"/>
                <a:chOff x="3341520" y="2724840"/>
                <a:chExt cx="1413000" cy="21744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410280" y="27248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9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341520" y="27248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4755240" y="2724840"/>
                <a:ext cx="1412640" cy="217440"/>
                <a:chOff x="4755240" y="2724840"/>
                <a:chExt cx="1412640" cy="21744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4824000" y="27248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4755240" y="27248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1" name=""/>
              <p:cNvGrpSpPr/>
              <p:nvPr/>
            </p:nvGrpSpPr>
            <p:grpSpPr>
              <a:xfrm>
                <a:off x="2670120" y="2942280"/>
                <a:ext cx="671040" cy="217440"/>
                <a:chOff x="2670120" y="2942280"/>
                <a:chExt cx="671040" cy="217440"/>
              </a:xfrm>
            </p:grpSpPr>
            <p:sp>
              <p:nvSpPr>
                <p:cNvPr id="1832" name=""/>
                <p:cNvSpPr/>
                <p:nvPr/>
              </p:nvSpPr>
              <p:spPr>
                <a:xfrm>
                  <a:off x="2739240" y="294228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2670120" y="294228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4" name=""/>
              <p:cNvGrpSpPr/>
              <p:nvPr/>
            </p:nvGrpSpPr>
            <p:grpSpPr>
              <a:xfrm>
                <a:off x="3341520" y="2942280"/>
                <a:ext cx="1413000" cy="217440"/>
                <a:chOff x="3341520" y="2942280"/>
                <a:chExt cx="1413000" cy="217440"/>
              </a:xfrm>
            </p:grpSpPr>
            <p:sp>
              <p:nvSpPr>
                <p:cNvPr id="1835" name=""/>
                <p:cNvSpPr/>
                <p:nvPr/>
              </p:nvSpPr>
              <p:spPr>
                <a:xfrm>
                  <a:off x="3410280" y="2942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9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3341520" y="294228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7" name=""/>
              <p:cNvGrpSpPr/>
              <p:nvPr/>
            </p:nvGrpSpPr>
            <p:grpSpPr>
              <a:xfrm>
                <a:off x="4755240" y="2942280"/>
                <a:ext cx="1412640" cy="217440"/>
                <a:chOff x="4755240" y="2942280"/>
                <a:chExt cx="1412640" cy="217440"/>
              </a:xfrm>
            </p:grpSpPr>
            <p:sp>
              <p:nvSpPr>
                <p:cNvPr id="1838" name=""/>
                <p:cNvSpPr/>
                <p:nvPr/>
              </p:nvSpPr>
              <p:spPr>
                <a:xfrm>
                  <a:off x="4824000" y="2942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4755240" y="294228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0" name=""/>
              <p:cNvGrpSpPr/>
              <p:nvPr/>
            </p:nvGrpSpPr>
            <p:grpSpPr>
              <a:xfrm>
                <a:off x="2670120" y="3159720"/>
                <a:ext cx="671040" cy="217440"/>
                <a:chOff x="2670120" y="3159720"/>
                <a:chExt cx="671040" cy="217440"/>
              </a:xfrm>
            </p:grpSpPr>
            <p:sp>
              <p:nvSpPr>
                <p:cNvPr id="1841" name=""/>
                <p:cNvSpPr/>
                <p:nvPr/>
              </p:nvSpPr>
              <p:spPr>
                <a:xfrm>
                  <a:off x="2739240" y="315972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2670120" y="315972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3" name=""/>
              <p:cNvGrpSpPr/>
              <p:nvPr/>
            </p:nvGrpSpPr>
            <p:grpSpPr>
              <a:xfrm>
                <a:off x="3341520" y="3159720"/>
                <a:ext cx="1413000" cy="217440"/>
                <a:chOff x="3341520" y="3159720"/>
                <a:chExt cx="1413000" cy="217440"/>
              </a:xfrm>
            </p:grpSpPr>
            <p:sp>
              <p:nvSpPr>
                <p:cNvPr id="1844" name=""/>
                <p:cNvSpPr/>
                <p:nvPr/>
              </p:nvSpPr>
              <p:spPr>
                <a:xfrm>
                  <a:off x="3410280" y="3159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3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3341520" y="315972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6" name=""/>
              <p:cNvGrpSpPr/>
              <p:nvPr/>
            </p:nvGrpSpPr>
            <p:grpSpPr>
              <a:xfrm>
                <a:off x="4755240" y="3159720"/>
                <a:ext cx="1412640" cy="217440"/>
                <a:chOff x="4755240" y="3159720"/>
                <a:chExt cx="1412640" cy="217440"/>
              </a:xfrm>
            </p:grpSpPr>
            <p:sp>
              <p:nvSpPr>
                <p:cNvPr id="1847" name=""/>
                <p:cNvSpPr/>
                <p:nvPr/>
              </p:nvSpPr>
              <p:spPr>
                <a:xfrm>
                  <a:off x="4824000" y="3159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4755240" y="315972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9" name=""/>
              <p:cNvGrpSpPr/>
              <p:nvPr/>
            </p:nvGrpSpPr>
            <p:grpSpPr>
              <a:xfrm>
                <a:off x="2670120" y="3377160"/>
                <a:ext cx="671040" cy="217440"/>
                <a:chOff x="2670120" y="3377160"/>
                <a:chExt cx="671040" cy="217440"/>
              </a:xfrm>
            </p:grpSpPr>
            <p:sp>
              <p:nvSpPr>
                <p:cNvPr id="1850" name=""/>
                <p:cNvSpPr/>
                <p:nvPr/>
              </p:nvSpPr>
              <p:spPr>
                <a:xfrm>
                  <a:off x="2739240" y="337716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2670120" y="337716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2" name=""/>
              <p:cNvGrpSpPr/>
              <p:nvPr/>
            </p:nvGrpSpPr>
            <p:grpSpPr>
              <a:xfrm>
                <a:off x="3341520" y="3377160"/>
                <a:ext cx="1413000" cy="217440"/>
                <a:chOff x="3341520" y="3377160"/>
                <a:chExt cx="1413000" cy="217440"/>
              </a:xfrm>
            </p:grpSpPr>
            <p:sp>
              <p:nvSpPr>
                <p:cNvPr id="1853" name=""/>
                <p:cNvSpPr/>
                <p:nvPr/>
              </p:nvSpPr>
              <p:spPr>
                <a:xfrm>
                  <a:off x="3410280" y="3377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3341520" y="337716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5" name=""/>
              <p:cNvGrpSpPr/>
              <p:nvPr/>
            </p:nvGrpSpPr>
            <p:grpSpPr>
              <a:xfrm>
                <a:off x="4755240" y="3377160"/>
                <a:ext cx="1412640" cy="217440"/>
                <a:chOff x="4755240" y="3377160"/>
                <a:chExt cx="1412640" cy="21744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4824000" y="3377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4755240" y="337716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8" name=""/>
              <p:cNvGrpSpPr/>
              <p:nvPr/>
            </p:nvGrpSpPr>
            <p:grpSpPr>
              <a:xfrm>
                <a:off x="2670120" y="3594600"/>
                <a:ext cx="671040" cy="217440"/>
                <a:chOff x="2670120" y="3594600"/>
                <a:chExt cx="671040" cy="217440"/>
              </a:xfrm>
            </p:grpSpPr>
            <p:sp>
              <p:nvSpPr>
                <p:cNvPr id="1859" name=""/>
                <p:cNvSpPr/>
                <p:nvPr/>
              </p:nvSpPr>
              <p:spPr>
                <a:xfrm>
                  <a:off x="2739240" y="359460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2670120" y="359460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1" name=""/>
              <p:cNvGrpSpPr/>
              <p:nvPr/>
            </p:nvGrpSpPr>
            <p:grpSpPr>
              <a:xfrm>
                <a:off x="3341520" y="3594600"/>
                <a:ext cx="1413000" cy="217440"/>
                <a:chOff x="3341520" y="3594600"/>
                <a:chExt cx="1413000" cy="217440"/>
              </a:xfrm>
            </p:grpSpPr>
            <p:sp>
              <p:nvSpPr>
                <p:cNvPr id="1862" name=""/>
                <p:cNvSpPr/>
                <p:nvPr/>
              </p:nvSpPr>
              <p:spPr>
                <a:xfrm>
                  <a:off x="3410280" y="3594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4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3341520" y="359460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4755240" y="3594600"/>
                <a:ext cx="1412640" cy="217440"/>
                <a:chOff x="4755240" y="3594600"/>
                <a:chExt cx="1412640" cy="21744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4824000" y="3594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4755240" y="359460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7" name=""/>
              <p:cNvGrpSpPr/>
              <p:nvPr/>
            </p:nvGrpSpPr>
            <p:grpSpPr>
              <a:xfrm>
                <a:off x="2670120" y="3812040"/>
                <a:ext cx="671040" cy="217440"/>
                <a:chOff x="2670120" y="3812040"/>
                <a:chExt cx="671040" cy="217440"/>
              </a:xfrm>
            </p:grpSpPr>
            <p:sp>
              <p:nvSpPr>
                <p:cNvPr id="1868" name=""/>
                <p:cNvSpPr/>
                <p:nvPr/>
              </p:nvSpPr>
              <p:spPr>
                <a:xfrm>
                  <a:off x="2739240" y="38120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670120" y="38120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0" name=""/>
              <p:cNvGrpSpPr/>
              <p:nvPr/>
            </p:nvGrpSpPr>
            <p:grpSpPr>
              <a:xfrm>
                <a:off x="3341520" y="3812040"/>
                <a:ext cx="1413000" cy="217440"/>
                <a:chOff x="3341520" y="3812040"/>
                <a:chExt cx="1413000" cy="217440"/>
              </a:xfrm>
            </p:grpSpPr>
            <p:sp>
              <p:nvSpPr>
                <p:cNvPr id="1871" name=""/>
                <p:cNvSpPr/>
                <p:nvPr/>
              </p:nvSpPr>
              <p:spPr>
                <a:xfrm>
                  <a:off x="3410280" y="3812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7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3341520" y="38120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3" name=""/>
              <p:cNvGrpSpPr/>
              <p:nvPr/>
            </p:nvGrpSpPr>
            <p:grpSpPr>
              <a:xfrm>
                <a:off x="4755240" y="3812040"/>
                <a:ext cx="1412640" cy="217440"/>
                <a:chOff x="4755240" y="3812040"/>
                <a:chExt cx="1412640" cy="217440"/>
              </a:xfrm>
            </p:grpSpPr>
            <p:sp>
              <p:nvSpPr>
                <p:cNvPr id="1874" name=""/>
                <p:cNvSpPr/>
                <p:nvPr/>
              </p:nvSpPr>
              <p:spPr>
                <a:xfrm>
                  <a:off x="4824000" y="3812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4755240" y="38120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6" name=""/>
              <p:cNvGrpSpPr/>
              <p:nvPr/>
            </p:nvGrpSpPr>
            <p:grpSpPr>
              <a:xfrm>
                <a:off x="2670120" y="4029840"/>
                <a:ext cx="671040" cy="217440"/>
                <a:chOff x="2670120" y="4029840"/>
                <a:chExt cx="671040" cy="217440"/>
              </a:xfrm>
            </p:grpSpPr>
            <p:sp>
              <p:nvSpPr>
                <p:cNvPr id="1877" name=""/>
                <p:cNvSpPr/>
                <p:nvPr/>
              </p:nvSpPr>
              <p:spPr>
                <a:xfrm>
                  <a:off x="2739240" y="40298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2670120" y="40298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9" name=""/>
              <p:cNvGrpSpPr/>
              <p:nvPr/>
            </p:nvGrpSpPr>
            <p:grpSpPr>
              <a:xfrm>
                <a:off x="3341520" y="4029840"/>
                <a:ext cx="1413000" cy="217440"/>
                <a:chOff x="3341520" y="4029840"/>
                <a:chExt cx="1413000" cy="217440"/>
              </a:xfrm>
            </p:grpSpPr>
            <p:sp>
              <p:nvSpPr>
                <p:cNvPr id="1880" name=""/>
                <p:cNvSpPr/>
                <p:nvPr/>
              </p:nvSpPr>
              <p:spPr>
                <a:xfrm>
                  <a:off x="3410280" y="40298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3341520" y="40298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2" name=""/>
              <p:cNvGrpSpPr/>
              <p:nvPr/>
            </p:nvGrpSpPr>
            <p:grpSpPr>
              <a:xfrm>
                <a:off x="4755240" y="4029840"/>
                <a:ext cx="1412640" cy="217440"/>
                <a:chOff x="4755240" y="4029840"/>
                <a:chExt cx="1412640" cy="217440"/>
              </a:xfrm>
            </p:grpSpPr>
            <p:sp>
              <p:nvSpPr>
                <p:cNvPr id="1883" name=""/>
                <p:cNvSpPr/>
                <p:nvPr/>
              </p:nvSpPr>
              <p:spPr>
                <a:xfrm>
                  <a:off x="4824000" y="40298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755240" y="40298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5" name=""/>
              <p:cNvGrpSpPr/>
              <p:nvPr/>
            </p:nvGrpSpPr>
            <p:grpSpPr>
              <a:xfrm>
                <a:off x="2670120" y="4247280"/>
                <a:ext cx="671040" cy="217440"/>
                <a:chOff x="2670120" y="4247280"/>
                <a:chExt cx="671040" cy="217440"/>
              </a:xfrm>
            </p:grpSpPr>
            <p:sp>
              <p:nvSpPr>
                <p:cNvPr id="1886" name=""/>
                <p:cNvSpPr/>
                <p:nvPr/>
              </p:nvSpPr>
              <p:spPr>
                <a:xfrm>
                  <a:off x="2739240" y="424728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2670120" y="424728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8" name=""/>
              <p:cNvGrpSpPr/>
              <p:nvPr/>
            </p:nvGrpSpPr>
            <p:grpSpPr>
              <a:xfrm>
                <a:off x="3341520" y="4247280"/>
                <a:ext cx="1413000" cy="217440"/>
                <a:chOff x="3341520" y="4247280"/>
                <a:chExt cx="1413000" cy="217440"/>
              </a:xfrm>
            </p:grpSpPr>
            <p:sp>
              <p:nvSpPr>
                <p:cNvPr id="1889" name=""/>
                <p:cNvSpPr/>
                <p:nvPr/>
              </p:nvSpPr>
              <p:spPr>
                <a:xfrm>
                  <a:off x="3410280" y="4247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3341520" y="424728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1" name=""/>
              <p:cNvGrpSpPr/>
              <p:nvPr/>
            </p:nvGrpSpPr>
            <p:grpSpPr>
              <a:xfrm>
                <a:off x="4755240" y="4247280"/>
                <a:ext cx="1412640" cy="217440"/>
                <a:chOff x="4755240" y="4247280"/>
                <a:chExt cx="1412640" cy="217440"/>
              </a:xfrm>
            </p:grpSpPr>
            <p:sp>
              <p:nvSpPr>
                <p:cNvPr id="1892" name=""/>
                <p:cNvSpPr/>
                <p:nvPr/>
              </p:nvSpPr>
              <p:spPr>
                <a:xfrm>
                  <a:off x="4824000" y="42472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4755240" y="424728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4" name=""/>
              <p:cNvGrpSpPr/>
              <p:nvPr/>
            </p:nvGrpSpPr>
            <p:grpSpPr>
              <a:xfrm>
                <a:off x="2670120" y="4464720"/>
                <a:ext cx="671040" cy="217440"/>
                <a:chOff x="2670120" y="4464720"/>
                <a:chExt cx="671040" cy="217440"/>
              </a:xfrm>
            </p:grpSpPr>
            <p:sp>
              <p:nvSpPr>
                <p:cNvPr id="1895" name=""/>
                <p:cNvSpPr/>
                <p:nvPr/>
              </p:nvSpPr>
              <p:spPr>
                <a:xfrm>
                  <a:off x="2739240" y="446472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2670120" y="446472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7" name=""/>
              <p:cNvGrpSpPr/>
              <p:nvPr/>
            </p:nvGrpSpPr>
            <p:grpSpPr>
              <a:xfrm>
                <a:off x="3341520" y="4464720"/>
                <a:ext cx="1413000" cy="217440"/>
                <a:chOff x="3341520" y="4464720"/>
                <a:chExt cx="1413000" cy="217440"/>
              </a:xfrm>
            </p:grpSpPr>
            <p:sp>
              <p:nvSpPr>
                <p:cNvPr id="1898" name=""/>
                <p:cNvSpPr/>
                <p:nvPr/>
              </p:nvSpPr>
              <p:spPr>
                <a:xfrm>
                  <a:off x="3410280" y="4464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3341520" y="446472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4755240" y="4464720"/>
                <a:ext cx="1412640" cy="217440"/>
                <a:chOff x="4755240" y="4464720"/>
                <a:chExt cx="1412640" cy="21744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4824000" y="4464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4755240" y="446472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3" name=""/>
              <p:cNvGrpSpPr/>
              <p:nvPr/>
            </p:nvGrpSpPr>
            <p:grpSpPr>
              <a:xfrm>
                <a:off x="2670120" y="4682160"/>
                <a:ext cx="671040" cy="217440"/>
                <a:chOff x="2670120" y="4682160"/>
                <a:chExt cx="671040" cy="217440"/>
              </a:xfrm>
            </p:grpSpPr>
            <p:sp>
              <p:nvSpPr>
                <p:cNvPr id="1904" name=""/>
                <p:cNvSpPr/>
                <p:nvPr/>
              </p:nvSpPr>
              <p:spPr>
                <a:xfrm>
                  <a:off x="2739240" y="468216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670120" y="468216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6" name=""/>
              <p:cNvGrpSpPr/>
              <p:nvPr/>
            </p:nvGrpSpPr>
            <p:grpSpPr>
              <a:xfrm>
                <a:off x="3341520" y="4682160"/>
                <a:ext cx="1413000" cy="217440"/>
                <a:chOff x="3341520" y="4682160"/>
                <a:chExt cx="1413000" cy="217440"/>
              </a:xfrm>
            </p:grpSpPr>
            <p:sp>
              <p:nvSpPr>
                <p:cNvPr id="1907" name=""/>
                <p:cNvSpPr/>
                <p:nvPr/>
              </p:nvSpPr>
              <p:spPr>
                <a:xfrm>
                  <a:off x="3410280" y="4682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0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3341520" y="468216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9" name=""/>
              <p:cNvGrpSpPr/>
              <p:nvPr/>
            </p:nvGrpSpPr>
            <p:grpSpPr>
              <a:xfrm>
                <a:off x="4755240" y="4682160"/>
                <a:ext cx="1412640" cy="217440"/>
                <a:chOff x="4755240" y="4682160"/>
                <a:chExt cx="1412640" cy="217440"/>
              </a:xfrm>
            </p:grpSpPr>
            <p:sp>
              <p:nvSpPr>
                <p:cNvPr id="1910" name=""/>
                <p:cNvSpPr/>
                <p:nvPr/>
              </p:nvSpPr>
              <p:spPr>
                <a:xfrm>
                  <a:off x="4824000" y="4682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755240" y="468216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2" name=""/>
              <p:cNvGrpSpPr/>
              <p:nvPr/>
            </p:nvGrpSpPr>
            <p:grpSpPr>
              <a:xfrm>
                <a:off x="2670120" y="4899600"/>
                <a:ext cx="671040" cy="217440"/>
                <a:chOff x="2670120" y="4899600"/>
                <a:chExt cx="671040" cy="21744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2739240" y="489960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2670120" y="489960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5" name=""/>
              <p:cNvGrpSpPr/>
              <p:nvPr/>
            </p:nvGrpSpPr>
            <p:grpSpPr>
              <a:xfrm>
                <a:off x="3341520" y="4899600"/>
                <a:ext cx="1413000" cy="217440"/>
                <a:chOff x="3341520" y="4899600"/>
                <a:chExt cx="1413000" cy="21744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3410280" y="4899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1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3341520" y="489960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8" name=""/>
              <p:cNvGrpSpPr/>
              <p:nvPr/>
            </p:nvGrpSpPr>
            <p:grpSpPr>
              <a:xfrm>
                <a:off x="4755240" y="4899600"/>
                <a:ext cx="1412640" cy="217440"/>
                <a:chOff x="4755240" y="4899600"/>
                <a:chExt cx="1412640" cy="217440"/>
              </a:xfrm>
            </p:grpSpPr>
            <p:sp>
              <p:nvSpPr>
                <p:cNvPr id="1919" name=""/>
                <p:cNvSpPr/>
                <p:nvPr/>
              </p:nvSpPr>
              <p:spPr>
                <a:xfrm>
                  <a:off x="4824000" y="4899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4755240" y="489960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2670120" y="5117040"/>
                <a:ext cx="671040" cy="217440"/>
                <a:chOff x="2670120" y="5117040"/>
                <a:chExt cx="671040" cy="21744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2739240" y="51170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2670120" y="51170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4" name=""/>
              <p:cNvGrpSpPr/>
              <p:nvPr/>
            </p:nvGrpSpPr>
            <p:grpSpPr>
              <a:xfrm>
                <a:off x="3341520" y="5117040"/>
                <a:ext cx="1413000" cy="217440"/>
                <a:chOff x="3341520" y="5117040"/>
                <a:chExt cx="1413000" cy="21744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3410280" y="5117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.3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3341520" y="51170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7" name=""/>
              <p:cNvGrpSpPr/>
              <p:nvPr/>
            </p:nvGrpSpPr>
            <p:grpSpPr>
              <a:xfrm>
                <a:off x="4755240" y="5117040"/>
                <a:ext cx="1412640" cy="217440"/>
                <a:chOff x="4755240" y="5117040"/>
                <a:chExt cx="1412640" cy="217440"/>
              </a:xfrm>
            </p:grpSpPr>
            <p:sp>
              <p:nvSpPr>
                <p:cNvPr id="1928" name=""/>
                <p:cNvSpPr/>
                <p:nvPr/>
              </p:nvSpPr>
              <p:spPr>
                <a:xfrm>
                  <a:off x="4824000" y="5117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755240" y="51170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0" name=""/>
              <p:cNvGrpSpPr/>
              <p:nvPr/>
            </p:nvGrpSpPr>
            <p:grpSpPr>
              <a:xfrm>
                <a:off x="2670120" y="5334480"/>
                <a:ext cx="671040" cy="217440"/>
                <a:chOff x="2670120" y="5334480"/>
                <a:chExt cx="671040" cy="217440"/>
              </a:xfrm>
            </p:grpSpPr>
            <p:sp>
              <p:nvSpPr>
                <p:cNvPr id="1931" name=""/>
                <p:cNvSpPr/>
                <p:nvPr/>
              </p:nvSpPr>
              <p:spPr>
                <a:xfrm>
                  <a:off x="2739240" y="533448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2670120" y="533448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3" name=""/>
              <p:cNvGrpSpPr/>
              <p:nvPr/>
            </p:nvGrpSpPr>
            <p:grpSpPr>
              <a:xfrm>
                <a:off x="3341520" y="5334480"/>
                <a:ext cx="1413000" cy="217440"/>
                <a:chOff x="3341520" y="5334480"/>
                <a:chExt cx="1413000" cy="21744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3410280" y="53344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3341520" y="533448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4755240" y="5334480"/>
                <a:ext cx="1412640" cy="217440"/>
                <a:chOff x="4755240" y="5334480"/>
                <a:chExt cx="1412640" cy="21744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4824000" y="53344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755240" y="533448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2670120" y="5551920"/>
                <a:ext cx="671040" cy="217440"/>
                <a:chOff x="2670120" y="5551920"/>
                <a:chExt cx="671040" cy="21744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739240" y="555192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2670120" y="555192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3341520" y="5551920"/>
                <a:ext cx="1413000" cy="217440"/>
                <a:chOff x="3341520" y="5551920"/>
                <a:chExt cx="1413000" cy="21744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3410280" y="55519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96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341520" y="555192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5" name=""/>
              <p:cNvGrpSpPr/>
              <p:nvPr/>
            </p:nvGrpSpPr>
            <p:grpSpPr>
              <a:xfrm>
                <a:off x="4755240" y="5551920"/>
                <a:ext cx="1412640" cy="217440"/>
                <a:chOff x="4755240" y="5551920"/>
                <a:chExt cx="1412640" cy="217440"/>
              </a:xfrm>
            </p:grpSpPr>
            <p:sp>
              <p:nvSpPr>
                <p:cNvPr id="1946" name=""/>
                <p:cNvSpPr/>
                <p:nvPr/>
              </p:nvSpPr>
              <p:spPr>
                <a:xfrm>
                  <a:off x="4824000" y="55519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755240" y="555192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8" name=""/>
              <p:cNvGrpSpPr/>
              <p:nvPr/>
            </p:nvGrpSpPr>
            <p:grpSpPr>
              <a:xfrm>
                <a:off x="2670120" y="5769720"/>
                <a:ext cx="671040" cy="217440"/>
                <a:chOff x="2670120" y="5769720"/>
                <a:chExt cx="671040" cy="217440"/>
              </a:xfrm>
            </p:grpSpPr>
            <p:sp>
              <p:nvSpPr>
                <p:cNvPr id="1949" name=""/>
                <p:cNvSpPr/>
                <p:nvPr/>
              </p:nvSpPr>
              <p:spPr>
                <a:xfrm>
                  <a:off x="2739240" y="576972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2670120" y="576972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1" name=""/>
              <p:cNvGrpSpPr/>
              <p:nvPr/>
            </p:nvGrpSpPr>
            <p:grpSpPr>
              <a:xfrm>
                <a:off x="3341520" y="5769720"/>
                <a:ext cx="1413000" cy="217440"/>
                <a:chOff x="3341520" y="5769720"/>
                <a:chExt cx="1413000" cy="21744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3410280" y="5769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.6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3341520" y="576972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4" name=""/>
              <p:cNvGrpSpPr/>
              <p:nvPr/>
            </p:nvGrpSpPr>
            <p:grpSpPr>
              <a:xfrm>
                <a:off x="4755240" y="5769720"/>
                <a:ext cx="1412640" cy="217440"/>
                <a:chOff x="4755240" y="5769720"/>
                <a:chExt cx="1412640" cy="21744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4824000" y="576972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755240" y="576972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7" name=""/>
              <p:cNvGrpSpPr/>
              <p:nvPr/>
            </p:nvGrpSpPr>
            <p:grpSpPr>
              <a:xfrm>
                <a:off x="2670120" y="5987160"/>
                <a:ext cx="671040" cy="217440"/>
                <a:chOff x="2670120" y="5987160"/>
                <a:chExt cx="671040" cy="217440"/>
              </a:xfrm>
            </p:grpSpPr>
            <p:sp>
              <p:nvSpPr>
                <p:cNvPr id="1958" name=""/>
                <p:cNvSpPr/>
                <p:nvPr/>
              </p:nvSpPr>
              <p:spPr>
                <a:xfrm>
                  <a:off x="2739240" y="598716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2670120" y="598716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0" name=""/>
              <p:cNvGrpSpPr/>
              <p:nvPr/>
            </p:nvGrpSpPr>
            <p:grpSpPr>
              <a:xfrm>
                <a:off x="3341520" y="5987160"/>
                <a:ext cx="1413000" cy="217440"/>
                <a:chOff x="3341520" y="5987160"/>
                <a:chExt cx="1413000" cy="21744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3410280" y="5987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3341520" y="598716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3" name=""/>
              <p:cNvGrpSpPr/>
              <p:nvPr/>
            </p:nvGrpSpPr>
            <p:grpSpPr>
              <a:xfrm>
                <a:off x="4755240" y="5987160"/>
                <a:ext cx="1412640" cy="217440"/>
                <a:chOff x="4755240" y="5987160"/>
                <a:chExt cx="1412640" cy="217440"/>
              </a:xfrm>
            </p:grpSpPr>
            <p:sp>
              <p:nvSpPr>
                <p:cNvPr id="1964" name=""/>
                <p:cNvSpPr/>
                <p:nvPr/>
              </p:nvSpPr>
              <p:spPr>
                <a:xfrm>
                  <a:off x="4824000" y="598716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755240" y="598716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6" name=""/>
              <p:cNvGrpSpPr/>
              <p:nvPr/>
            </p:nvGrpSpPr>
            <p:grpSpPr>
              <a:xfrm>
                <a:off x="2670120" y="6204600"/>
                <a:ext cx="671040" cy="217440"/>
                <a:chOff x="2670120" y="6204600"/>
                <a:chExt cx="671040" cy="21744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2739240" y="620460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2670120" y="620460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9" name=""/>
              <p:cNvGrpSpPr/>
              <p:nvPr/>
            </p:nvGrpSpPr>
            <p:grpSpPr>
              <a:xfrm>
                <a:off x="3341520" y="6204600"/>
                <a:ext cx="1413000" cy="217440"/>
                <a:chOff x="3341520" y="6204600"/>
                <a:chExt cx="1413000" cy="217440"/>
              </a:xfrm>
            </p:grpSpPr>
            <p:sp>
              <p:nvSpPr>
                <p:cNvPr id="1970" name=""/>
                <p:cNvSpPr/>
                <p:nvPr/>
              </p:nvSpPr>
              <p:spPr>
                <a:xfrm>
                  <a:off x="3410280" y="6204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2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341520" y="620460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2" name=""/>
              <p:cNvGrpSpPr/>
              <p:nvPr/>
            </p:nvGrpSpPr>
            <p:grpSpPr>
              <a:xfrm>
                <a:off x="4755240" y="6204600"/>
                <a:ext cx="1412640" cy="217440"/>
                <a:chOff x="4755240" y="6204600"/>
                <a:chExt cx="1412640" cy="21744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4824000" y="620460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755240" y="620460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5" name=""/>
              <p:cNvGrpSpPr/>
              <p:nvPr/>
            </p:nvGrpSpPr>
            <p:grpSpPr>
              <a:xfrm>
                <a:off x="2670120" y="6422040"/>
                <a:ext cx="671040" cy="217440"/>
                <a:chOff x="2670120" y="6422040"/>
                <a:chExt cx="671040" cy="21744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2739240" y="642204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2670120" y="642204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8" name=""/>
              <p:cNvGrpSpPr/>
              <p:nvPr/>
            </p:nvGrpSpPr>
            <p:grpSpPr>
              <a:xfrm>
                <a:off x="3341520" y="6422040"/>
                <a:ext cx="1413000" cy="217440"/>
                <a:chOff x="3341520" y="6422040"/>
                <a:chExt cx="1413000" cy="217440"/>
              </a:xfrm>
            </p:grpSpPr>
            <p:sp>
              <p:nvSpPr>
                <p:cNvPr id="1979" name=""/>
                <p:cNvSpPr/>
                <p:nvPr/>
              </p:nvSpPr>
              <p:spPr>
                <a:xfrm>
                  <a:off x="3410280" y="6422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3341520" y="642204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1" name=""/>
              <p:cNvGrpSpPr/>
              <p:nvPr/>
            </p:nvGrpSpPr>
            <p:grpSpPr>
              <a:xfrm>
                <a:off x="4755240" y="6422040"/>
                <a:ext cx="1412640" cy="217440"/>
                <a:chOff x="4755240" y="6422040"/>
                <a:chExt cx="1412640" cy="217440"/>
              </a:xfrm>
            </p:grpSpPr>
            <p:sp>
              <p:nvSpPr>
                <p:cNvPr id="1982" name=""/>
                <p:cNvSpPr/>
                <p:nvPr/>
              </p:nvSpPr>
              <p:spPr>
                <a:xfrm>
                  <a:off x="4824000" y="642204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755240" y="642204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4" name=""/>
              <p:cNvGrpSpPr/>
              <p:nvPr/>
            </p:nvGrpSpPr>
            <p:grpSpPr>
              <a:xfrm>
                <a:off x="2670120" y="6639480"/>
                <a:ext cx="671040" cy="217440"/>
                <a:chOff x="2670120" y="6639480"/>
                <a:chExt cx="671040" cy="217440"/>
              </a:xfrm>
            </p:grpSpPr>
            <p:sp>
              <p:nvSpPr>
                <p:cNvPr id="1985" name=""/>
                <p:cNvSpPr/>
                <p:nvPr/>
              </p:nvSpPr>
              <p:spPr>
                <a:xfrm>
                  <a:off x="2739240" y="6639480"/>
                  <a:ext cx="53244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670120" y="6639480"/>
                  <a:ext cx="6710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7" name=""/>
              <p:cNvGrpSpPr/>
              <p:nvPr/>
            </p:nvGrpSpPr>
            <p:grpSpPr>
              <a:xfrm>
                <a:off x="3341520" y="6639480"/>
                <a:ext cx="1413000" cy="217440"/>
                <a:chOff x="3341520" y="6639480"/>
                <a:chExt cx="1413000" cy="217440"/>
              </a:xfrm>
            </p:grpSpPr>
            <p:sp>
              <p:nvSpPr>
                <p:cNvPr id="1988" name=""/>
                <p:cNvSpPr/>
                <p:nvPr/>
              </p:nvSpPr>
              <p:spPr>
                <a:xfrm>
                  <a:off x="3410280" y="66394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21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341520" y="6639480"/>
                  <a:ext cx="14130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0" name=""/>
              <p:cNvGrpSpPr/>
              <p:nvPr/>
            </p:nvGrpSpPr>
            <p:grpSpPr>
              <a:xfrm>
                <a:off x="4755240" y="6639480"/>
                <a:ext cx="1412640" cy="217440"/>
                <a:chOff x="4755240" y="6639480"/>
                <a:chExt cx="1412640" cy="21744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4824000" y="6639480"/>
                  <a:ext cx="12747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4755240" y="6639480"/>
                  <a:ext cx="14126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3" name=""/>
            <p:cNvSpPr/>
            <p:nvPr/>
          </p:nvSpPr>
          <p:spPr>
            <a:xfrm>
              <a:off x="2666880" y="0"/>
              <a:ext cx="3504960" cy="6858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4" name=""/>
          <p:cNvSpPr/>
          <p:nvPr/>
        </p:nvSpPr>
        <p:spPr>
          <a:xfrm>
            <a:off x="1440" y="1319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629f"/>
            </a:gs>
            <a:gs pos="50000">
              <a:srgbClr val="ffffff"/>
            </a:gs>
            <a:gs pos="100000">
              <a:srgbClr val="f862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"/>
          <p:cNvSpPr/>
          <p:nvPr/>
        </p:nvSpPr>
        <p:spPr>
          <a:xfrm>
            <a:off x="137160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60956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8" name=""/>
          <p:cNvGraphicFramePr/>
          <p:nvPr/>
        </p:nvGraphicFramePr>
        <p:xfrm>
          <a:off x="0" y="1371600"/>
          <a:ext cx="914400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"/>
          <p:cNvSpPr/>
          <p:nvPr/>
        </p:nvSpPr>
        <p:spPr>
          <a:xfrm>
            <a:off x="533520" y="380880"/>
            <a:ext cx="815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38"/>
                </a:solidFill>
                <a:latin typeface="Times New Roman"/>
              </a:rPr>
              <a:t>Test Two: The Probability of Choosing a Double-Colored Card from the D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1" name="chi2-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487080" cy="533520"/>
          </a:xfrm>
          <a:prstGeom prst="rect">
            <a:avLst/>
          </a:prstGeom>
          <a:ln w="0">
            <a:noFill/>
          </a:ln>
        </p:spPr>
      </p:pic>
      <p:pic>
        <p:nvPicPr>
          <p:cNvPr id="2002" name="chi2-2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79360" cy="304560"/>
          </a:xfrm>
          <a:prstGeom prst="rect">
            <a:avLst/>
          </a:prstGeom>
          <a:ln w="0">
            <a:noFill/>
          </a:ln>
        </p:spPr>
      </p:pic>
      <p:pic>
        <p:nvPicPr>
          <p:cNvPr id="2003" name="chi2-2" descr=""/>
          <p:cNvPicPr/>
          <p:nvPr/>
        </p:nvPicPr>
        <p:blipFill>
          <a:blip r:embed="rId3"/>
          <a:stretch/>
        </p:blipFill>
        <p:spPr>
          <a:xfrm>
            <a:off x="1066680" y="3048120"/>
            <a:ext cx="347760" cy="380880"/>
          </a:xfrm>
          <a:prstGeom prst="rect">
            <a:avLst/>
          </a:prstGeom>
          <a:ln w="0">
            <a:noFill/>
          </a:ln>
        </p:spPr>
      </p:pic>
      <p:sp>
        <p:nvSpPr>
          <p:cNvPr id="2004" name=""/>
          <p:cNvSpPr/>
          <p:nvPr/>
        </p:nvSpPr>
        <p:spPr>
          <a:xfrm>
            <a:off x="990720" y="17524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obs-exp)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17-14.438)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15-13.406)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67652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             14.438                 13.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371600" y="31240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.26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83808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447920" y="3733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8.26496) =  0.99994415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80880" y="43434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38"/>
                </a:solidFill>
                <a:latin typeface="Times New Roman"/>
              </a:rPr>
              <a:t>Conclusion:</a:t>
            </a:r>
            <a:r>
              <a:rPr b="0" lang="en-US" sz="2800" spc="-1" strike="noStrike">
                <a:solidFill>
                  <a:srgbClr val="bd0f38"/>
                </a:solidFill>
                <a:latin typeface="Times New Roman"/>
              </a:rPr>
              <a:t> We fail to reject Ho in favor of Ha because our P-value is greater than alpha (0.05). We have sufficient evidence that the observed frequency distribution for picking a single colored card fits the specified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334120" y="2971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 (k-1) =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"/>
          <p:cNvSpPr/>
          <p:nvPr/>
        </p:nvSpPr>
        <p:spPr>
          <a:xfrm>
            <a:off x="457200" y="38088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629f"/>
                </a:solidFill>
                <a:latin typeface="Times New Roman"/>
              </a:rPr>
              <a:t>Test Three: The Probability of Choosing a Character Card from the D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57200" y="1371600"/>
            <a:ext cx="8077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Ho:</a:t>
            </a:r>
            <a:r>
              <a:rPr b="0" lang="en-US" sz="2400" spc="-1" strike="noStrike">
                <a:solidFill>
                  <a:srgbClr val="f8629f"/>
                </a:solidFill>
                <a:latin typeface="Times New Roman"/>
              </a:rPr>
              <a:t>The observed frequency distribution for picking a character card fits the specified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Ha:</a:t>
            </a:r>
            <a:r>
              <a:rPr b="0" lang="en-US" sz="2400" spc="-1" strike="noStrike">
                <a:solidFill>
                  <a:srgbClr val="f8629f"/>
                </a:solidFill>
                <a:latin typeface="Times New Roman"/>
              </a:rPr>
              <a:t> The observed frequency distribution for picking a character card does not fit the specified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0481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629f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447920" y="403848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8629f"/>
                </a:solidFill>
                <a:uFillTx/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SRS</a:t>
            </a:r>
            <a:br>
              <a:rPr sz="2000"/>
            </a:b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Sample size large enough that all expected values are greater than or equal to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334120" y="4114800"/>
            <a:ext cx="2514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C</a:t>
            </a:r>
            <a:r>
              <a:rPr b="0" lang="en-US" sz="2000" spc="-1" strike="noStrike" u="sng">
                <a:solidFill>
                  <a:srgbClr val="f8629f"/>
                </a:solidFill>
                <a:uFillTx/>
                <a:latin typeface="Times New Roman"/>
              </a:rPr>
              <a:t>heck</a:t>
            </a: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862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629f"/>
                </a:solidFill>
                <a:latin typeface="Times New Roman"/>
              </a:rPr>
              <a:t>Refer to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62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990720" y="838080"/>
            <a:ext cx="70866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Character Card 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Probability Chart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1143000" y="0"/>
            <a:ext cx="6705360" cy="6858000"/>
            <a:chOff x="1143000" y="0"/>
            <a:chExt cx="6705360" cy="6858000"/>
          </a:xfrm>
        </p:grpSpPr>
        <p:grpSp>
          <p:nvGrpSpPr>
            <p:cNvPr id="2018" name=""/>
            <p:cNvGrpSpPr/>
            <p:nvPr/>
          </p:nvGrpSpPr>
          <p:grpSpPr>
            <a:xfrm>
              <a:off x="1146240" y="1080"/>
              <a:ext cx="6698160" cy="6855840"/>
              <a:chOff x="1146240" y="1080"/>
              <a:chExt cx="6698160" cy="6855840"/>
            </a:xfrm>
          </p:grpSpPr>
          <p:grpSp>
            <p:nvGrpSpPr>
              <p:cNvPr id="2019" name=""/>
              <p:cNvGrpSpPr/>
              <p:nvPr/>
            </p:nvGrpSpPr>
            <p:grpSpPr>
              <a:xfrm>
                <a:off x="1146240" y="1080"/>
                <a:ext cx="956520" cy="390240"/>
                <a:chOff x="1146240" y="1080"/>
                <a:chExt cx="956520" cy="390240"/>
              </a:xfrm>
            </p:grpSpPr>
            <p:sp>
              <p:nvSpPr>
                <p:cNvPr id="2020" name=""/>
                <p:cNvSpPr/>
                <p:nvPr/>
              </p:nvSpPr>
              <p:spPr>
                <a:xfrm>
                  <a:off x="1215720" y="1080"/>
                  <a:ext cx="81756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1146240" y="1080"/>
                  <a:ext cx="95652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2" name=""/>
              <p:cNvGrpSpPr/>
              <p:nvPr/>
            </p:nvGrpSpPr>
            <p:grpSpPr>
              <a:xfrm>
                <a:off x="2103120" y="1080"/>
                <a:ext cx="956160" cy="390240"/>
                <a:chOff x="2103120" y="1080"/>
                <a:chExt cx="956160" cy="390240"/>
              </a:xfrm>
            </p:grpSpPr>
            <p:sp>
              <p:nvSpPr>
                <p:cNvPr id="2023" name=""/>
                <p:cNvSpPr/>
                <p:nvPr/>
              </p:nvSpPr>
              <p:spPr>
                <a:xfrm>
                  <a:off x="2172240" y="1080"/>
                  <a:ext cx="81756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ingerbre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2103120" y="1080"/>
                  <a:ext cx="95616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5" name=""/>
              <p:cNvGrpSpPr/>
              <p:nvPr/>
            </p:nvGrpSpPr>
            <p:grpSpPr>
              <a:xfrm>
                <a:off x="3060000" y="1080"/>
                <a:ext cx="956520" cy="390240"/>
                <a:chOff x="3060000" y="1080"/>
                <a:chExt cx="956520" cy="390240"/>
              </a:xfrm>
            </p:grpSpPr>
            <p:sp>
              <p:nvSpPr>
                <p:cNvPr id="2026" name=""/>
                <p:cNvSpPr/>
                <p:nvPr/>
              </p:nvSpPr>
              <p:spPr>
                <a:xfrm>
                  <a:off x="3129480" y="1080"/>
                  <a:ext cx="81756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r. M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3060000" y="1080"/>
                  <a:ext cx="95652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8" name=""/>
              <p:cNvGrpSpPr/>
              <p:nvPr/>
            </p:nvGrpSpPr>
            <p:grpSpPr>
              <a:xfrm>
                <a:off x="4017240" y="1080"/>
                <a:ext cx="956160" cy="390240"/>
                <a:chOff x="4017240" y="1080"/>
                <a:chExt cx="956160" cy="390240"/>
              </a:xfrm>
            </p:grpSpPr>
            <p:sp>
              <p:nvSpPr>
                <p:cNvPr id="2029" name=""/>
                <p:cNvSpPr/>
                <p:nvPr/>
              </p:nvSpPr>
              <p:spPr>
                <a:xfrm>
                  <a:off x="4086360" y="1080"/>
                  <a:ext cx="8179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oll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017240" y="1080"/>
                  <a:ext cx="95616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1" name=""/>
              <p:cNvGrpSpPr/>
              <p:nvPr/>
            </p:nvGrpSpPr>
            <p:grpSpPr>
              <a:xfrm>
                <a:off x="4973760" y="1080"/>
                <a:ext cx="956520" cy="390240"/>
                <a:chOff x="4973760" y="1080"/>
                <a:chExt cx="956520" cy="390240"/>
              </a:xfrm>
            </p:grpSpPr>
            <p:sp>
              <p:nvSpPr>
                <p:cNvPr id="2032" name=""/>
                <p:cNvSpPr/>
                <p:nvPr/>
              </p:nvSpPr>
              <p:spPr>
                <a:xfrm>
                  <a:off x="5043240" y="1080"/>
                  <a:ext cx="81756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ncess Frost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973760" y="1080"/>
                  <a:ext cx="95652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4" name=""/>
              <p:cNvGrpSpPr/>
              <p:nvPr/>
            </p:nvGrpSpPr>
            <p:grpSpPr>
              <a:xfrm>
                <a:off x="5931000" y="1080"/>
                <a:ext cx="956160" cy="390240"/>
                <a:chOff x="5931000" y="1080"/>
                <a:chExt cx="956160" cy="390240"/>
              </a:xfrm>
            </p:grpSpPr>
            <p:sp>
              <p:nvSpPr>
                <p:cNvPr id="2035" name=""/>
                <p:cNvSpPr/>
                <p:nvPr/>
              </p:nvSpPr>
              <p:spPr>
                <a:xfrm>
                  <a:off x="6000120" y="1080"/>
                  <a:ext cx="8179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mma Nut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5931000" y="1080"/>
                  <a:ext cx="95616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7" name=""/>
              <p:cNvGrpSpPr/>
              <p:nvPr/>
            </p:nvGrpSpPr>
            <p:grpSpPr>
              <a:xfrm>
                <a:off x="6887880" y="1080"/>
                <a:ext cx="956520" cy="390240"/>
                <a:chOff x="6887880" y="1080"/>
                <a:chExt cx="956520" cy="39024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6957360" y="1080"/>
                  <a:ext cx="81756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ll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887880" y="1080"/>
                  <a:ext cx="956520" cy="39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1146240" y="391320"/>
                <a:ext cx="956520" cy="215280"/>
                <a:chOff x="1146240" y="391320"/>
                <a:chExt cx="956520" cy="21528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1215720" y="391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146240" y="391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3" name=""/>
              <p:cNvGrpSpPr/>
              <p:nvPr/>
            </p:nvGrpSpPr>
            <p:grpSpPr>
              <a:xfrm>
                <a:off x="2103120" y="391320"/>
                <a:ext cx="956160" cy="215280"/>
                <a:chOff x="2103120" y="391320"/>
                <a:chExt cx="956160" cy="215280"/>
              </a:xfrm>
            </p:grpSpPr>
            <p:sp>
              <p:nvSpPr>
                <p:cNvPr id="2044" name=""/>
                <p:cNvSpPr/>
                <p:nvPr/>
              </p:nvSpPr>
              <p:spPr>
                <a:xfrm>
                  <a:off x="2172240" y="391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103120" y="3913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6" name=""/>
              <p:cNvGrpSpPr/>
              <p:nvPr/>
            </p:nvGrpSpPr>
            <p:grpSpPr>
              <a:xfrm>
                <a:off x="3060000" y="391320"/>
                <a:ext cx="956520" cy="215280"/>
                <a:chOff x="3060000" y="391320"/>
                <a:chExt cx="956520" cy="21528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3129480" y="391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3060000" y="391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4017240" y="391320"/>
                <a:ext cx="956160" cy="215280"/>
                <a:chOff x="4017240" y="391320"/>
                <a:chExt cx="956160" cy="215280"/>
              </a:xfrm>
            </p:grpSpPr>
            <p:sp>
              <p:nvSpPr>
                <p:cNvPr id="2050" name=""/>
                <p:cNvSpPr/>
                <p:nvPr/>
              </p:nvSpPr>
              <p:spPr>
                <a:xfrm>
                  <a:off x="4086360" y="3913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017240" y="3913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2" name=""/>
              <p:cNvGrpSpPr/>
              <p:nvPr/>
            </p:nvGrpSpPr>
            <p:grpSpPr>
              <a:xfrm>
                <a:off x="4973760" y="391320"/>
                <a:ext cx="956520" cy="215280"/>
                <a:chOff x="4973760" y="391320"/>
                <a:chExt cx="956520" cy="215280"/>
              </a:xfrm>
            </p:grpSpPr>
            <p:sp>
              <p:nvSpPr>
                <p:cNvPr id="2053" name=""/>
                <p:cNvSpPr/>
                <p:nvPr/>
              </p:nvSpPr>
              <p:spPr>
                <a:xfrm>
                  <a:off x="5043240" y="391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973760" y="391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5" name=""/>
              <p:cNvGrpSpPr/>
              <p:nvPr/>
            </p:nvGrpSpPr>
            <p:grpSpPr>
              <a:xfrm>
                <a:off x="5931000" y="391320"/>
                <a:ext cx="956160" cy="215280"/>
                <a:chOff x="5931000" y="391320"/>
                <a:chExt cx="956160" cy="215280"/>
              </a:xfrm>
            </p:grpSpPr>
            <p:sp>
              <p:nvSpPr>
                <p:cNvPr id="2056" name=""/>
                <p:cNvSpPr/>
                <p:nvPr/>
              </p:nvSpPr>
              <p:spPr>
                <a:xfrm>
                  <a:off x="6000120" y="3913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5931000" y="3913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8" name=""/>
              <p:cNvGrpSpPr/>
              <p:nvPr/>
            </p:nvGrpSpPr>
            <p:grpSpPr>
              <a:xfrm>
                <a:off x="6887880" y="391320"/>
                <a:ext cx="956520" cy="215280"/>
                <a:chOff x="6887880" y="391320"/>
                <a:chExt cx="956520" cy="215280"/>
              </a:xfrm>
            </p:grpSpPr>
            <p:sp>
              <p:nvSpPr>
                <p:cNvPr id="2059" name=""/>
                <p:cNvSpPr/>
                <p:nvPr/>
              </p:nvSpPr>
              <p:spPr>
                <a:xfrm>
                  <a:off x="6957360" y="391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6887880" y="391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"/>
              <p:cNvGrpSpPr/>
              <p:nvPr/>
            </p:nvGrpSpPr>
            <p:grpSpPr>
              <a:xfrm>
                <a:off x="1146240" y="606960"/>
                <a:ext cx="956520" cy="215280"/>
                <a:chOff x="1146240" y="606960"/>
                <a:chExt cx="956520" cy="215280"/>
              </a:xfrm>
            </p:grpSpPr>
            <p:sp>
              <p:nvSpPr>
                <p:cNvPr id="2062" name=""/>
                <p:cNvSpPr/>
                <p:nvPr/>
              </p:nvSpPr>
              <p:spPr>
                <a:xfrm>
                  <a:off x="1215720" y="6069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1146240" y="6069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4" name=""/>
              <p:cNvGrpSpPr/>
              <p:nvPr/>
            </p:nvGrpSpPr>
            <p:grpSpPr>
              <a:xfrm>
                <a:off x="2103120" y="606960"/>
                <a:ext cx="956160" cy="215280"/>
                <a:chOff x="2103120" y="606960"/>
                <a:chExt cx="956160" cy="215280"/>
              </a:xfrm>
            </p:grpSpPr>
            <p:sp>
              <p:nvSpPr>
                <p:cNvPr id="2065" name=""/>
                <p:cNvSpPr/>
                <p:nvPr/>
              </p:nvSpPr>
              <p:spPr>
                <a:xfrm>
                  <a:off x="2172240" y="6069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2103120" y="6069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7" name=""/>
              <p:cNvGrpSpPr/>
              <p:nvPr/>
            </p:nvGrpSpPr>
            <p:grpSpPr>
              <a:xfrm>
                <a:off x="3060000" y="606960"/>
                <a:ext cx="956520" cy="215280"/>
                <a:chOff x="3060000" y="606960"/>
                <a:chExt cx="956520" cy="215280"/>
              </a:xfrm>
            </p:grpSpPr>
            <p:sp>
              <p:nvSpPr>
                <p:cNvPr id="2068" name=""/>
                <p:cNvSpPr/>
                <p:nvPr/>
              </p:nvSpPr>
              <p:spPr>
                <a:xfrm>
                  <a:off x="3129480" y="6069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3060000" y="6069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0" name=""/>
              <p:cNvGrpSpPr/>
              <p:nvPr/>
            </p:nvGrpSpPr>
            <p:grpSpPr>
              <a:xfrm>
                <a:off x="4017240" y="606960"/>
                <a:ext cx="956160" cy="215280"/>
                <a:chOff x="4017240" y="606960"/>
                <a:chExt cx="956160" cy="21528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4086360" y="6069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017240" y="6069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3" name=""/>
              <p:cNvGrpSpPr/>
              <p:nvPr/>
            </p:nvGrpSpPr>
            <p:grpSpPr>
              <a:xfrm>
                <a:off x="4973760" y="606960"/>
                <a:ext cx="956520" cy="215280"/>
                <a:chOff x="4973760" y="606960"/>
                <a:chExt cx="956520" cy="215280"/>
              </a:xfrm>
            </p:grpSpPr>
            <p:sp>
              <p:nvSpPr>
                <p:cNvPr id="2074" name=""/>
                <p:cNvSpPr/>
                <p:nvPr/>
              </p:nvSpPr>
              <p:spPr>
                <a:xfrm>
                  <a:off x="5043240" y="6069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973760" y="6069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6" name=""/>
              <p:cNvGrpSpPr/>
              <p:nvPr/>
            </p:nvGrpSpPr>
            <p:grpSpPr>
              <a:xfrm>
                <a:off x="5931000" y="606960"/>
                <a:ext cx="956160" cy="215280"/>
                <a:chOff x="5931000" y="606960"/>
                <a:chExt cx="956160" cy="215280"/>
              </a:xfrm>
            </p:grpSpPr>
            <p:sp>
              <p:nvSpPr>
                <p:cNvPr id="2077" name=""/>
                <p:cNvSpPr/>
                <p:nvPr/>
              </p:nvSpPr>
              <p:spPr>
                <a:xfrm>
                  <a:off x="6000120" y="6069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5931000" y="6069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9" name=""/>
              <p:cNvGrpSpPr/>
              <p:nvPr/>
            </p:nvGrpSpPr>
            <p:grpSpPr>
              <a:xfrm>
                <a:off x="6887880" y="606960"/>
                <a:ext cx="956520" cy="215280"/>
                <a:chOff x="6887880" y="606960"/>
                <a:chExt cx="956520" cy="215280"/>
              </a:xfrm>
            </p:grpSpPr>
            <p:sp>
              <p:nvSpPr>
                <p:cNvPr id="2080" name=""/>
                <p:cNvSpPr/>
                <p:nvPr/>
              </p:nvSpPr>
              <p:spPr>
                <a:xfrm>
                  <a:off x="6957360" y="6069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6887880" y="6069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2" name=""/>
              <p:cNvGrpSpPr/>
              <p:nvPr/>
            </p:nvGrpSpPr>
            <p:grpSpPr>
              <a:xfrm>
                <a:off x="1146240" y="822240"/>
                <a:ext cx="956520" cy="215280"/>
                <a:chOff x="1146240" y="822240"/>
                <a:chExt cx="956520" cy="215280"/>
              </a:xfrm>
            </p:grpSpPr>
            <p:sp>
              <p:nvSpPr>
                <p:cNvPr id="2083" name=""/>
                <p:cNvSpPr/>
                <p:nvPr/>
              </p:nvSpPr>
              <p:spPr>
                <a:xfrm>
                  <a:off x="1215720" y="822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1146240" y="822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5" name=""/>
              <p:cNvGrpSpPr/>
              <p:nvPr/>
            </p:nvGrpSpPr>
            <p:grpSpPr>
              <a:xfrm>
                <a:off x="2103120" y="822240"/>
                <a:ext cx="956160" cy="215280"/>
                <a:chOff x="2103120" y="822240"/>
                <a:chExt cx="956160" cy="215280"/>
              </a:xfrm>
            </p:grpSpPr>
            <p:sp>
              <p:nvSpPr>
                <p:cNvPr id="2086" name=""/>
                <p:cNvSpPr/>
                <p:nvPr/>
              </p:nvSpPr>
              <p:spPr>
                <a:xfrm>
                  <a:off x="2172240" y="822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2103120" y="8222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8" name=""/>
              <p:cNvGrpSpPr/>
              <p:nvPr/>
            </p:nvGrpSpPr>
            <p:grpSpPr>
              <a:xfrm>
                <a:off x="3060000" y="822240"/>
                <a:ext cx="956520" cy="215280"/>
                <a:chOff x="3060000" y="822240"/>
                <a:chExt cx="956520" cy="21528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3129480" y="822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3060000" y="822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1" name=""/>
              <p:cNvGrpSpPr/>
              <p:nvPr/>
            </p:nvGrpSpPr>
            <p:grpSpPr>
              <a:xfrm>
                <a:off x="4017240" y="822240"/>
                <a:ext cx="956160" cy="215280"/>
                <a:chOff x="4017240" y="822240"/>
                <a:chExt cx="956160" cy="215280"/>
              </a:xfrm>
            </p:grpSpPr>
            <p:sp>
              <p:nvSpPr>
                <p:cNvPr id="2092" name=""/>
                <p:cNvSpPr/>
                <p:nvPr/>
              </p:nvSpPr>
              <p:spPr>
                <a:xfrm>
                  <a:off x="4086360" y="8222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4017240" y="8222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4" name=""/>
              <p:cNvGrpSpPr/>
              <p:nvPr/>
            </p:nvGrpSpPr>
            <p:grpSpPr>
              <a:xfrm>
                <a:off x="4973760" y="822240"/>
                <a:ext cx="956520" cy="215280"/>
                <a:chOff x="4973760" y="822240"/>
                <a:chExt cx="956520" cy="215280"/>
              </a:xfrm>
            </p:grpSpPr>
            <p:sp>
              <p:nvSpPr>
                <p:cNvPr id="2095" name=""/>
                <p:cNvSpPr/>
                <p:nvPr/>
              </p:nvSpPr>
              <p:spPr>
                <a:xfrm>
                  <a:off x="5043240" y="822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4973760" y="822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7" name=""/>
              <p:cNvGrpSpPr/>
              <p:nvPr/>
            </p:nvGrpSpPr>
            <p:grpSpPr>
              <a:xfrm>
                <a:off x="5931000" y="822240"/>
                <a:ext cx="956160" cy="215280"/>
                <a:chOff x="5931000" y="822240"/>
                <a:chExt cx="956160" cy="215280"/>
              </a:xfrm>
            </p:grpSpPr>
            <p:sp>
              <p:nvSpPr>
                <p:cNvPr id="2098" name=""/>
                <p:cNvSpPr/>
                <p:nvPr/>
              </p:nvSpPr>
              <p:spPr>
                <a:xfrm>
                  <a:off x="6000120" y="8222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931000" y="8222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0" name=""/>
              <p:cNvGrpSpPr/>
              <p:nvPr/>
            </p:nvGrpSpPr>
            <p:grpSpPr>
              <a:xfrm>
                <a:off x="6887880" y="822240"/>
                <a:ext cx="956520" cy="215280"/>
                <a:chOff x="6887880" y="822240"/>
                <a:chExt cx="956520" cy="215280"/>
              </a:xfrm>
            </p:grpSpPr>
            <p:sp>
              <p:nvSpPr>
                <p:cNvPr id="2101" name=""/>
                <p:cNvSpPr/>
                <p:nvPr/>
              </p:nvSpPr>
              <p:spPr>
                <a:xfrm>
                  <a:off x="6957360" y="822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6887880" y="822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3" name=""/>
              <p:cNvGrpSpPr/>
              <p:nvPr/>
            </p:nvGrpSpPr>
            <p:grpSpPr>
              <a:xfrm>
                <a:off x="1146240" y="1037880"/>
                <a:ext cx="956520" cy="215280"/>
                <a:chOff x="1146240" y="1037880"/>
                <a:chExt cx="956520" cy="215280"/>
              </a:xfrm>
            </p:grpSpPr>
            <p:sp>
              <p:nvSpPr>
                <p:cNvPr id="2104" name=""/>
                <p:cNvSpPr/>
                <p:nvPr/>
              </p:nvSpPr>
              <p:spPr>
                <a:xfrm>
                  <a:off x="1215720" y="1037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146240" y="1037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6" name=""/>
              <p:cNvGrpSpPr/>
              <p:nvPr/>
            </p:nvGrpSpPr>
            <p:grpSpPr>
              <a:xfrm>
                <a:off x="2103120" y="1037880"/>
                <a:ext cx="956160" cy="215280"/>
                <a:chOff x="2103120" y="1037880"/>
                <a:chExt cx="956160" cy="215280"/>
              </a:xfrm>
            </p:grpSpPr>
            <p:sp>
              <p:nvSpPr>
                <p:cNvPr id="2107" name=""/>
                <p:cNvSpPr/>
                <p:nvPr/>
              </p:nvSpPr>
              <p:spPr>
                <a:xfrm>
                  <a:off x="2172240" y="1037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103120" y="10378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9" name=""/>
              <p:cNvGrpSpPr/>
              <p:nvPr/>
            </p:nvGrpSpPr>
            <p:grpSpPr>
              <a:xfrm>
                <a:off x="3060000" y="1037880"/>
                <a:ext cx="956520" cy="215280"/>
                <a:chOff x="3060000" y="1037880"/>
                <a:chExt cx="956520" cy="215280"/>
              </a:xfrm>
            </p:grpSpPr>
            <p:sp>
              <p:nvSpPr>
                <p:cNvPr id="2110" name=""/>
                <p:cNvSpPr/>
                <p:nvPr/>
              </p:nvSpPr>
              <p:spPr>
                <a:xfrm>
                  <a:off x="3129480" y="1037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3060000" y="1037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2" name=""/>
              <p:cNvGrpSpPr/>
              <p:nvPr/>
            </p:nvGrpSpPr>
            <p:grpSpPr>
              <a:xfrm>
                <a:off x="4017240" y="1037880"/>
                <a:ext cx="956160" cy="215280"/>
                <a:chOff x="4017240" y="1037880"/>
                <a:chExt cx="956160" cy="215280"/>
              </a:xfrm>
            </p:grpSpPr>
            <p:sp>
              <p:nvSpPr>
                <p:cNvPr id="2113" name=""/>
                <p:cNvSpPr/>
                <p:nvPr/>
              </p:nvSpPr>
              <p:spPr>
                <a:xfrm>
                  <a:off x="4086360" y="10378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4017240" y="10378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5" name=""/>
              <p:cNvGrpSpPr/>
              <p:nvPr/>
            </p:nvGrpSpPr>
            <p:grpSpPr>
              <a:xfrm>
                <a:off x="4973760" y="1037880"/>
                <a:ext cx="956520" cy="215280"/>
                <a:chOff x="4973760" y="1037880"/>
                <a:chExt cx="956520" cy="215280"/>
              </a:xfrm>
            </p:grpSpPr>
            <p:sp>
              <p:nvSpPr>
                <p:cNvPr id="2116" name=""/>
                <p:cNvSpPr/>
                <p:nvPr/>
              </p:nvSpPr>
              <p:spPr>
                <a:xfrm>
                  <a:off x="5043240" y="1037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4973760" y="1037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8" name=""/>
              <p:cNvGrpSpPr/>
              <p:nvPr/>
            </p:nvGrpSpPr>
            <p:grpSpPr>
              <a:xfrm>
                <a:off x="5931000" y="1037880"/>
                <a:ext cx="956160" cy="215280"/>
                <a:chOff x="5931000" y="1037880"/>
                <a:chExt cx="956160" cy="215280"/>
              </a:xfrm>
            </p:grpSpPr>
            <p:sp>
              <p:nvSpPr>
                <p:cNvPr id="2119" name=""/>
                <p:cNvSpPr/>
                <p:nvPr/>
              </p:nvSpPr>
              <p:spPr>
                <a:xfrm>
                  <a:off x="6000120" y="10378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5931000" y="10378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1" name=""/>
              <p:cNvGrpSpPr/>
              <p:nvPr/>
            </p:nvGrpSpPr>
            <p:grpSpPr>
              <a:xfrm>
                <a:off x="6887880" y="1037880"/>
                <a:ext cx="956520" cy="215280"/>
                <a:chOff x="6887880" y="1037880"/>
                <a:chExt cx="956520" cy="215280"/>
              </a:xfrm>
            </p:grpSpPr>
            <p:sp>
              <p:nvSpPr>
                <p:cNvPr id="2122" name=""/>
                <p:cNvSpPr/>
                <p:nvPr/>
              </p:nvSpPr>
              <p:spPr>
                <a:xfrm>
                  <a:off x="6957360" y="1037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6887880" y="1037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4" name=""/>
              <p:cNvGrpSpPr/>
              <p:nvPr/>
            </p:nvGrpSpPr>
            <p:grpSpPr>
              <a:xfrm>
                <a:off x="1146240" y="1253520"/>
                <a:ext cx="956520" cy="215280"/>
                <a:chOff x="1146240" y="1253520"/>
                <a:chExt cx="956520" cy="215280"/>
              </a:xfrm>
            </p:grpSpPr>
            <p:sp>
              <p:nvSpPr>
                <p:cNvPr id="2125" name=""/>
                <p:cNvSpPr/>
                <p:nvPr/>
              </p:nvSpPr>
              <p:spPr>
                <a:xfrm>
                  <a:off x="1215720" y="12535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1146240" y="12535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7" name=""/>
              <p:cNvGrpSpPr/>
              <p:nvPr/>
            </p:nvGrpSpPr>
            <p:grpSpPr>
              <a:xfrm>
                <a:off x="2103120" y="1253520"/>
                <a:ext cx="956160" cy="215280"/>
                <a:chOff x="2103120" y="1253520"/>
                <a:chExt cx="956160" cy="215280"/>
              </a:xfrm>
            </p:grpSpPr>
            <p:sp>
              <p:nvSpPr>
                <p:cNvPr id="2128" name=""/>
                <p:cNvSpPr/>
                <p:nvPr/>
              </p:nvSpPr>
              <p:spPr>
                <a:xfrm>
                  <a:off x="2172240" y="12535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103120" y="12535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0" name=""/>
              <p:cNvGrpSpPr/>
              <p:nvPr/>
            </p:nvGrpSpPr>
            <p:grpSpPr>
              <a:xfrm>
                <a:off x="3060000" y="1253520"/>
                <a:ext cx="956520" cy="215280"/>
                <a:chOff x="3060000" y="1253520"/>
                <a:chExt cx="956520" cy="215280"/>
              </a:xfrm>
            </p:grpSpPr>
            <p:sp>
              <p:nvSpPr>
                <p:cNvPr id="2131" name=""/>
                <p:cNvSpPr/>
                <p:nvPr/>
              </p:nvSpPr>
              <p:spPr>
                <a:xfrm>
                  <a:off x="3129480" y="12535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3060000" y="12535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3" name=""/>
              <p:cNvGrpSpPr/>
              <p:nvPr/>
            </p:nvGrpSpPr>
            <p:grpSpPr>
              <a:xfrm>
                <a:off x="4017240" y="1253520"/>
                <a:ext cx="956160" cy="215280"/>
                <a:chOff x="4017240" y="1253520"/>
                <a:chExt cx="956160" cy="215280"/>
              </a:xfrm>
            </p:grpSpPr>
            <p:sp>
              <p:nvSpPr>
                <p:cNvPr id="2134" name=""/>
                <p:cNvSpPr/>
                <p:nvPr/>
              </p:nvSpPr>
              <p:spPr>
                <a:xfrm>
                  <a:off x="4086360" y="12535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4017240" y="12535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6" name=""/>
              <p:cNvGrpSpPr/>
              <p:nvPr/>
            </p:nvGrpSpPr>
            <p:grpSpPr>
              <a:xfrm>
                <a:off x="4973760" y="1253520"/>
                <a:ext cx="956520" cy="215280"/>
                <a:chOff x="4973760" y="1253520"/>
                <a:chExt cx="956520" cy="215280"/>
              </a:xfrm>
            </p:grpSpPr>
            <p:sp>
              <p:nvSpPr>
                <p:cNvPr id="2137" name=""/>
                <p:cNvSpPr/>
                <p:nvPr/>
              </p:nvSpPr>
              <p:spPr>
                <a:xfrm>
                  <a:off x="5043240" y="12535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4973760" y="12535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9" name=""/>
              <p:cNvGrpSpPr/>
              <p:nvPr/>
            </p:nvGrpSpPr>
            <p:grpSpPr>
              <a:xfrm>
                <a:off x="5931000" y="1253520"/>
                <a:ext cx="956160" cy="215280"/>
                <a:chOff x="5931000" y="1253520"/>
                <a:chExt cx="956160" cy="215280"/>
              </a:xfrm>
            </p:grpSpPr>
            <p:sp>
              <p:nvSpPr>
                <p:cNvPr id="2140" name=""/>
                <p:cNvSpPr/>
                <p:nvPr/>
              </p:nvSpPr>
              <p:spPr>
                <a:xfrm>
                  <a:off x="6000120" y="12535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5931000" y="12535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2" name=""/>
              <p:cNvGrpSpPr/>
              <p:nvPr/>
            </p:nvGrpSpPr>
            <p:grpSpPr>
              <a:xfrm>
                <a:off x="6887880" y="1253520"/>
                <a:ext cx="956520" cy="215280"/>
                <a:chOff x="6887880" y="1253520"/>
                <a:chExt cx="956520" cy="215280"/>
              </a:xfrm>
            </p:grpSpPr>
            <p:sp>
              <p:nvSpPr>
                <p:cNvPr id="2143" name=""/>
                <p:cNvSpPr/>
                <p:nvPr/>
              </p:nvSpPr>
              <p:spPr>
                <a:xfrm>
                  <a:off x="6957360" y="12535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6887880" y="12535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5" name=""/>
              <p:cNvGrpSpPr/>
              <p:nvPr/>
            </p:nvGrpSpPr>
            <p:grpSpPr>
              <a:xfrm>
                <a:off x="1146240" y="1468800"/>
                <a:ext cx="956520" cy="215280"/>
                <a:chOff x="1146240" y="1468800"/>
                <a:chExt cx="956520" cy="215280"/>
              </a:xfrm>
            </p:grpSpPr>
            <p:sp>
              <p:nvSpPr>
                <p:cNvPr id="2146" name=""/>
                <p:cNvSpPr/>
                <p:nvPr/>
              </p:nvSpPr>
              <p:spPr>
                <a:xfrm>
                  <a:off x="1215720" y="1468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1146240" y="1468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8" name=""/>
              <p:cNvGrpSpPr/>
              <p:nvPr/>
            </p:nvGrpSpPr>
            <p:grpSpPr>
              <a:xfrm>
                <a:off x="2103120" y="1468800"/>
                <a:ext cx="956160" cy="215280"/>
                <a:chOff x="2103120" y="1468800"/>
                <a:chExt cx="956160" cy="21528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2172240" y="1468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2103120" y="14688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1" name=""/>
              <p:cNvGrpSpPr/>
              <p:nvPr/>
            </p:nvGrpSpPr>
            <p:grpSpPr>
              <a:xfrm>
                <a:off x="3060000" y="1468800"/>
                <a:ext cx="956520" cy="215280"/>
                <a:chOff x="3060000" y="1468800"/>
                <a:chExt cx="956520" cy="21528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3129480" y="1468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060000" y="1468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4" name=""/>
              <p:cNvGrpSpPr/>
              <p:nvPr/>
            </p:nvGrpSpPr>
            <p:grpSpPr>
              <a:xfrm>
                <a:off x="4017240" y="1468800"/>
                <a:ext cx="956160" cy="215280"/>
                <a:chOff x="4017240" y="1468800"/>
                <a:chExt cx="956160" cy="215280"/>
              </a:xfrm>
            </p:grpSpPr>
            <p:sp>
              <p:nvSpPr>
                <p:cNvPr id="2155" name=""/>
                <p:cNvSpPr/>
                <p:nvPr/>
              </p:nvSpPr>
              <p:spPr>
                <a:xfrm>
                  <a:off x="4086360" y="14688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017240" y="14688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7" name=""/>
              <p:cNvGrpSpPr/>
              <p:nvPr/>
            </p:nvGrpSpPr>
            <p:grpSpPr>
              <a:xfrm>
                <a:off x="4973760" y="1468800"/>
                <a:ext cx="956520" cy="215280"/>
                <a:chOff x="4973760" y="1468800"/>
                <a:chExt cx="956520" cy="215280"/>
              </a:xfrm>
            </p:grpSpPr>
            <p:sp>
              <p:nvSpPr>
                <p:cNvPr id="2158" name=""/>
                <p:cNvSpPr/>
                <p:nvPr/>
              </p:nvSpPr>
              <p:spPr>
                <a:xfrm>
                  <a:off x="5043240" y="1468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4973760" y="1468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0" name=""/>
              <p:cNvGrpSpPr/>
              <p:nvPr/>
            </p:nvGrpSpPr>
            <p:grpSpPr>
              <a:xfrm>
                <a:off x="5931000" y="1468800"/>
                <a:ext cx="956160" cy="215280"/>
                <a:chOff x="5931000" y="1468800"/>
                <a:chExt cx="956160" cy="215280"/>
              </a:xfrm>
            </p:grpSpPr>
            <p:sp>
              <p:nvSpPr>
                <p:cNvPr id="2161" name=""/>
                <p:cNvSpPr/>
                <p:nvPr/>
              </p:nvSpPr>
              <p:spPr>
                <a:xfrm>
                  <a:off x="6000120" y="14688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5931000" y="14688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3" name=""/>
              <p:cNvGrpSpPr/>
              <p:nvPr/>
            </p:nvGrpSpPr>
            <p:grpSpPr>
              <a:xfrm>
                <a:off x="6887880" y="1468800"/>
                <a:ext cx="956520" cy="215280"/>
                <a:chOff x="6887880" y="1468800"/>
                <a:chExt cx="956520" cy="21528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6957360" y="1468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6887880" y="1468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6" name=""/>
              <p:cNvGrpSpPr/>
              <p:nvPr/>
            </p:nvGrpSpPr>
            <p:grpSpPr>
              <a:xfrm>
                <a:off x="1146240" y="1684440"/>
                <a:ext cx="956520" cy="215280"/>
                <a:chOff x="1146240" y="1684440"/>
                <a:chExt cx="956520" cy="215280"/>
              </a:xfrm>
            </p:grpSpPr>
            <p:sp>
              <p:nvSpPr>
                <p:cNvPr id="2167" name=""/>
                <p:cNvSpPr/>
                <p:nvPr/>
              </p:nvSpPr>
              <p:spPr>
                <a:xfrm>
                  <a:off x="1215720" y="1684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1146240" y="1684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9" name=""/>
              <p:cNvGrpSpPr/>
              <p:nvPr/>
            </p:nvGrpSpPr>
            <p:grpSpPr>
              <a:xfrm>
                <a:off x="2103120" y="1684440"/>
                <a:ext cx="956160" cy="215280"/>
                <a:chOff x="2103120" y="1684440"/>
                <a:chExt cx="956160" cy="215280"/>
              </a:xfrm>
            </p:grpSpPr>
            <p:sp>
              <p:nvSpPr>
                <p:cNvPr id="2170" name=""/>
                <p:cNvSpPr/>
                <p:nvPr/>
              </p:nvSpPr>
              <p:spPr>
                <a:xfrm>
                  <a:off x="2172240" y="1684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2103120" y="16844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2" name=""/>
              <p:cNvGrpSpPr/>
              <p:nvPr/>
            </p:nvGrpSpPr>
            <p:grpSpPr>
              <a:xfrm>
                <a:off x="3060000" y="1684440"/>
                <a:ext cx="956520" cy="215280"/>
                <a:chOff x="3060000" y="1684440"/>
                <a:chExt cx="956520" cy="215280"/>
              </a:xfrm>
            </p:grpSpPr>
            <p:sp>
              <p:nvSpPr>
                <p:cNvPr id="2173" name=""/>
                <p:cNvSpPr/>
                <p:nvPr/>
              </p:nvSpPr>
              <p:spPr>
                <a:xfrm>
                  <a:off x="3129480" y="1684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3060000" y="1684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5" name=""/>
              <p:cNvGrpSpPr/>
              <p:nvPr/>
            </p:nvGrpSpPr>
            <p:grpSpPr>
              <a:xfrm>
                <a:off x="4017240" y="1684440"/>
                <a:ext cx="956160" cy="215280"/>
                <a:chOff x="4017240" y="1684440"/>
                <a:chExt cx="956160" cy="215280"/>
              </a:xfrm>
            </p:grpSpPr>
            <p:sp>
              <p:nvSpPr>
                <p:cNvPr id="2176" name=""/>
                <p:cNvSpPr/>
                <p:nvPr/>
              </p:nvSpPr>
              <p:spPr>
                <a:xfrm>
                  <a:off x="4086360" y="16844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017240" y="16844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8" name=""/>
              <p:cNvGrpSpPr/>
              <p:nvPr/>
            </p:nvGrpSpPr>
            <p:grpSpPr>
              <a:xfrm>
                <a:off x="4973760" y="1684440"/>
                <a:ext cx="956520" cy="215280"/>
                <a:chOff x="4973760" y="1684440"/>
                <a:chExt cx="956520" cy="215280"/>
              </a:xfrm>
            </p:grpSpPr>
            <p:sp>
              <p:nvSpPr>
                <p:cNvPr id="2179" name=""/>
                <p:cNvSpPr/>
                <p:nvPr/>
              </p:nvSpPr>
              <p:spPr>
                <a:xfrm>
                  <a:off x="5043240" y="1684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973760" y="1684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1" name=""/>
              <p:cNvGrpSpPr/>
              <p:nvPr/>
            </p:nvGrpSpPr>
            <p:grpSpPr>
              <a:xfrm>
                <a:off x="5931000" y="1684440"/>
                <a:ext cx="956160" cy="215280"/>
                <a:chOff x="5931000" y="1684440"/>
                <a:chExt cx="956160" cy="215280"/>
              </a:xfrm>
            </p:grpSpPr>
            <p:sp>
              <p:nvSpPr>
                <p:cNvPr id="2182" name=""/>
                <p:cNvSpPr/>
                <p:nvPr/>
              </p:nvSpPr>
              <p:spPr>
                <a:xfrm>
                  <a:off x="6000120" y="16844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5931000" y="16844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4" name=""/>
              <p:cNvGrpSpPr/>
              <p:nvPr/>
            </p:nvGrpSpPr>
            <p:grpSpPr>
              <a:xfrm>
                <a:off x="6887880" y="1684440"/>
                <a:ext cx="956520" cy="215280"/>
                <a:chOff x="6887880" y="1684440"/>
                <a:chExt cx="956520" cy="215280"/>
              </a:xfrm>
            </p:grpSpPr>
            <p:sp>
              <p:nvSpPr>
                <p:cNvPr id="2185" name=""/>
                <p:cNvSpPr/>
                <p:nvPr/>
              </p:nvSpPr>
              <p:spPr>
                <a:xfrm>
                  <a:off x="6957360" y="1684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6887880" y="1684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7" name=""/>
              <p:cNvGrpSpPr/>
              <p:nvPr/>
            </p:nvGrpSpPr>
            <p:grpSpPr>
              <a:xfrm>
                <a:off x="1146240" y="1900080"/>
                <a:ext cx="956520" cy="215280"/>
                <a:chOff x="1146240" y="1900080"/>
                <a:chExt cx="956520" cy="215280"/>
              </a:xfrm>
            </p:grpSpPr>
            <p:sp>
              <p:nvSpPr>
                <p:cNvPr id="2188" name=""/>
                <p:cNvSpPr/>
                <p:nvPr/>
              </p:nvSpPr>
              <p:spPr>
                <a:xfrm>
                  <a:off x="1215720" y="19000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1146240" y="19000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0" name=""/>
              <p:cNvGrpSpPr/>
              <p:nvPr/>
            </p:nvGrpSpPr>
            <p:grpSpPr>
              <a:xfrm>
                <a:off x="2103120" y="1900080"/>
                <a:ext cx="956160" cy="215280"/>
                <a:chOff x="2103120" y="1900080"/>
                <a:chExt cx="956160" cy="21528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2172240" y="19000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2103120" y="19000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3" name=""/>
              <p:cNvGrpSpPr/>
              <p:nvPr/>
            </p:nvGrpSpPr>
            <p:grpSpPr>
              <a:xfrm>
                <a:off x="3060000" y="1900080"/>
                <a:ext cx="956520" cy="215280"/>
                <a:chOff x="3060000" y="1900080"/>
                <a:chExt cx="956520" cy="215280"/>
              </a:xfrm>
            </p:grpSpPr>
            <p:sp>
              <p:nvSpPr>
                <p:cNvPr id="2194" name=""/>
                <p:cNvSpPr/>
                <p:nvPr/>
              </p:nvSpPr>
              <p:spPr>
                <a:xfrm>
                  <a:off x="3129480" y="19000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3060000" y="19000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6" name=""/>
              <p:cNvGrpSpPr/>
              <p:nvPr/>
            </p:nvGrpSpPr>
            <p:grpSpPr>
              <a:xfrm>
                <a:off x="4017240" y="1900080"/>
                <a:ext cx="956160" cy="215280"/>
                <a:chOff x="4017240" y="1900080"/>
                <a:chExt cx="956160" cy="215280"/>
              </a:xfrm>
            </p:grpSpPr>
            <p:sp>
              <p:nvSpPr>
                <p:cNvPr id="2197" name=""/>
                <p:cNvSpPr/>
                <p:nvPr/>
              </p:nvSpPr>
              <p:spPr>
                <a:xfrm>
                  <a:off x="4086360" y="19000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4017240" y="19000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9" name=""/>
              <p:cNvGrpSpPr/>
              <p:nvPr/>
            </p:nvGrpSpPr>
            <p:grpSpPr>
              <a:xfrm>
                <a:off x="4973760" y="1900080"/>
                <a:ext cx="956520" cy="215280"/>
                <a:chOff x="4973760" y="1900080"/>
                <a:chExt cx="956520" cy="215280"/>
              </a:xfrm>
            </p:grpSpPr>
            <p:sp>
              <p:nvSpPr>
                <p:cNvPr id="2200" name=""/>
                <p:cNvSpPr/>
                <p:nvPr/>
              </p:nvSpPr>
              <p:spPr>
                <a:xfrm>
                  <a:off x="5043240" y="19000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4973760" y="19000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2" name=""/>
              <p:cNvGrpSpPr/>
              <p:nvPr/>
            </p:nvGrpSpPr>
            <p:grpSpPr>
              <a:xfrm>
                <a:off x="5931000" y="1900080"/>
                <a:ext cx="956160" cy="215280"/>
                <a:chOff x="5931000" y="1900080"/>
                <a:chExt cx="956160" cy="21528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6000120" y="19000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931000" y="19000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6887880" y="1900080"/>
                <a:ext cx="956520" cy="215280"/>
                <a:chOff x="6887880" y="1900080"/>
                <a:chExt cx="956520" cy="215280"/>
              </a:xfrm>
            </p:grpSpPr>
            <p:sp>
              <p:nvSpPr>
                <p:cNvPr id="2206" name=""/>
                <p:cNvSpPr/>
                <p:nvPr/>
              </p:nvSpPr>
              <p:spPr>
                <a:xfrm>
                  <a:off x="6957360" y="19000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6887880" y="19000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8" name=""/>
              <p:cNvGrpSpPr/>
              <p:nvPr/>
            </p:nvGrpSpPr>
            <p:grpSpPr>
              <a:xfrm>
                <a:off x="1146240" y="2115360"/>
                <a:ext cx="956520" cy="215280"/>
                <a:chOff x="1146240" y="2115360"/>
                <a:chExt cx="956520" cy="215280"/>
              </a:xfrm>
            </p:grpSpPr>
            <p:sp>
              <p:nvSpPr>
                <p:cNvPr id="2209" name=""/>
                <p:cNvSpPr/>
                <p:nvPr/>
              </p:nvSpPr>
              <p:spPr>
                <a:xfrm>
                  <a:off x="1215720" y="2115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1146240" y="2115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1" name=""/>
              <p:cNvGrpSpPr/>
              <p:nvPr/>
            </p:nvGrpSpPr>
            <p:grpSpPr>
              <a:xfrm>
                <a:off x="2103120" y="2115360"/>
                <a:ext cx="956160" cy="215280"/>
                <a:chOff x="2103120" y="2115360"/>
                <a:chExt cx="956160" cy="215280"/>
              </a:xfrm>
            </p:grpSpPr>
            <p:sp>
              <p:nvSpPr>
                <p:cNvPr id="2212" name=""/>
                <p:cNvSpPr/>
                <p:nvPr/>
              </p:nvSpPr>
              <p:spPr>
                <a:xfrm>
                  <a:off x="2172240" y="2115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2103120" y="21153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4" name=""/>
              <p:cNvGrpSpPr/>
              <p:nvPr/>
            </p:nvGrpSpPr>
            <p:grpSpPr>
              <a:xfrm>
                <a:off x="3060000" y="2115360"/>
                <a:ext cx="956520" cy="215280"/>
                <a:chOff x="3060000" y="2115360"/>
                <a:chExt cx="956520" cy="21528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3129480" y="2115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3060000" y="2115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7" name=""/>
              <p:cNvGrpSpPr/>
              <p:nvPr/>
            </p:nvGrpSpPr>
            <p:grpSpPr>
              <a:xfrm>
                <a:off x="4017240" y="2115360"/>
                <a:ext cx="956160" cy="215280"/>
                <a:chOff x="4017240" y="2115360"/>
                <a:chExt cx="956160" cy="215280"/>
              </a:xfrm>
            </p:grpSpPr>
            <p:sp>
              <p:nvSpPr>
                <p:cNvPr id="2218" name=""/>
                <p:cNvSpPr/>
                <p:nvPr/>
              </p:nvSpPr>
              <p:spPr>
                <a:xfrm>
                  <a:off x="4086360" y="21153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4017240" y="21153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0" name=""/>
              <p:cNvGrpSpPr/>
              <p:nvPr/>
            </p:nvGrpSpPr>
            <p:grpSpPr>
              <a:xfrm>
                <a:off x="4973760" y="2115360"/>
                <a:ext cx="956520" cy="215280"/>
                <a:chOff x="4973760" y="2115360"/>
                <a:chExt cx="956520" cy="215280"/>
              </a:xfrm>
            </p:grpSpPr>
            <p:sp>
              <p:nvSpPr>
                <p:cNvPr id="2221" name=""/>
                <p:cNvSpPr/>
                <p:nvPr/>
              </p:nvSpPr>
              <p:spPr>
                <a:xfrm>
                  <a:off x="5043240" y="2115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4973760" y="2115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3" name=""/>
              <p:cNvGrpSpPr/>
              <p:nvPr/>
            </p:nvGrpSpPr>
            <p:grpSpPr>
              <a:xfrm>
                <a:off x="5931000" y="2115360"/>
                <a:ext cx="956160" cy="215280"/>
                <a:chOff x="5931000" y="2115360"/>
                <a:chExt cx="956160" cy="215280"/>
              </a:xfrm>
            </p:grpSpPr>
            <p:sp>
              <p:nvSpPr>
                <p:cNvPr id="2224" name=""/>
                <p:cNvSpPr/>
                <p:nvPr/>
              </p:nvSpPr>
              <p:spPr>
                <a:xfrm>
                  <a:off x="6000120" y="21153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5931000" y="21153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6" name=""/>
              <p:cNvGrpSpPr/>
              <p:nvPr/>
            </p:nvGrpSpPr>
            <p:grpSpPr>
              <a:xfrm>
                <a:off x="6887880" y="2115360"/>
                <a:ext cx="956520" cy="215280"/>
                <a:chOff x="6887880" y="2115360"/>
                <a:chExt cx="956520" cy="21528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6957360" y="2115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6887880" y="2115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9" name=""/>
              <p:cNvGrpSpPr/>
              <p:nvPr/>
            </p:nvGrpSpPr>
            <p:grpSpPr>
              <a:xfrm>
                <a:off x="1146240" y="2331000"/>
                <a:ext cx="956520" cy="215280"/>
                <a:chOff x="1146240" y="2331000"/>
                <a:chExt cx="956520" cy="215280"/>
              </a:xfrm>
            </p:grpSpPr>
            <p:sp>
              <p:nvSpPr>
                <p:cNvPr id="2230" name=""/>
                <p:cNvSpPr/>
                <p:nvPr/>
              </p:nvSpPr>
              <p:spPr>
                <a:xfrm>
                  <a:off x="1215720" y="2331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1146240" y="2331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2" name=""/>
              <p:cNvGrpSpPr/>
              <p:nvPr/>
            </p:nvGrpSpPr>
            <p:grpSpPr>
              <a:xfrm>
                <a:off x="2103120" y="2331000"/>
                <a:ext cx="956160" cy="215280"/>
                <a:chOff x="2103120" y="2331000"/>
                <a:chExt cx="956160" cy="215280"/>
              </a:xfrm>
            </p:grpSpPr>
            <p:sp>
              <p:nvSpPr>
                <p:cNvPr id="2233" name=""/>
                <p:cNvSpPr/>
                <p:nvPr/>
              </p:nvSpPr>
              <p:spPr>
                <a:xfrm>
                  <a:off x="2172240" y="2331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2103120" y="23310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5" name=""/>
              <p:cNvGrpSpPr/>
              <p:nvPr/>
            </p:nvGrpSpPr>
            <p:grpSpPr>
              <a:xfrm>
                <a:off x="3060000" y="2331000"/>
                <a:ext cx="956520" cy="215280"/>
                <a:chOff x="3060000" y="2331000"/>
                <a:chExt cx="956520" cy="215280"/>
              </a:xfrm>
            </p:grpSpPr>
            <p:sp>
              <p:nvSpPr>
                <p:cNvPr id="2236" name=""/>
                <p:cNvSpPr/>
                <p:nvPr/>
              </p:nvSpPr>
              <p:spPr>
                <a:xfrm>
                  <a:off x="3129480" y="2331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060000" y="2331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8" name=""/>
              <p:cNvGrpSpPr/>
              <p:nvPr/>
            </p:nvGrpSpPr>
            <p:grpSpPr>
              <a:xfrm>
                <a:off x="4017240" y="2331000"/>
                <a:ext cx="956160" cy="215280"/>
                <a:chOff x="4017240" y="2331000"/>
                <a:chExt cx="956160" cy="215280"/>
              </a:xfrm>
            </p:grpSpPr>
            <p:sp>
              <p:nvSpPr>
                <p:cNvPr id="2239" name=""/>
                <p:cNvSpPr/>
                <p:nvPr/>
              </p:nvSpPr>
              <p:spPr>
                <a:xfrm>
                  <a:off x="4086360" y="23310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4017240" y="23310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1" name=""/>
              <p:cNvGrpSpPr/>
              <p:nvPr/>
            </p:nvGrpSpPr>
            <p:grpSpPr>
              <a:xfrm>
                <a:off x="4973760" y="2331000"/>
                <a:ext cx="956520" cy="215280"/>
                <a:chOff x="4973760" y="2331000"/>
                <a:chExt cx="956520" cy="215280"/>
              </a:xfrm>
            </p:grpSpPr>
            <p:sp>
              <p:nvSpPr>
                <p:cNvPr id="2242" name=""/>
                <p:cNvSpPr/>
                <p:nvPr/>
              </p:nvSpPr>
              <p:spPr>
                <a:xfrm>
                  <a:off x="5043240" y="2331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4973760" y="2331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4" name=""/>
              <p:cNvGrpSpPr/>
              <p:nvPr/>
            </p:nvGrpSpPr>
            <p:grpSpPr>
              <a:xfrm>
                <a:off x="5931000" y="2331000"/>
                <a:ext cx="956160" cy="215280"/>
                <a:chOff x="5931000" y="2331000"/>
                <a:chExt cx="956160" cy="215280"/>
              </a:xfrm>
            </p:grpSpPr>
            <p:sp>
              <p:nvSpPr>
                <p:cNvPr id="2245" name=""/>
                <p:cNvSpPr/>
                <p:nvPr/>
              </p:nvSpPr>
              <p:spPr>
                <a:xfrm>
                  <a:off x="6000120" y="23310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5931000" y="23310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7" name=""/>
              <p:cNvGrpSpPr/>
              <p:nvPr/>
            </p:nvGrpSpPr>
            <p:grpSpPr>
              <a:xfrm>
                <a:off x="6887880" y="2331000"/>
                <a:ext cx="956520" cy="215280"/>
                <a:chOff x="6887880" y="2331000"/>
                <a:chExt cx="956520" cy="21528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6957360" y="2331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6887880" y="2331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0" name=""/>
              <p:cNvGrpSpPr/>
              <p:nvPr/>
            </p:nvGrpSpPr>
            <p:grpSpPr>
              <a:xfrm>
                <a:off x="1146240" y="2546640"/>
                <a:ext cx="956520" cy="215280"/>
                <a:chOff x="1146240" y="2546640"/>
                <a:chExt cx="956520" cy="215280"/>
              </a:xfrm>
            </p:grpSpPr>
            <p:sp>
              <p:nvSpPr>
                <p:cNvPr id="2251" name=""/>
                <p:cNvSpPr/>
                <p:nvPr/>
              </p:nvSpPr>
              <p:spPr>
                <a:xfrm>
                  <a:off x="1215720" y="2546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1146240" y="2546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3" name=""/>
              <p:cNvGrpSpPr/>
              <p:nvPr/>
            </p:nvGrpSpPr>
            <p:grpSpPr>
              <a:xfrm>
                <a:off x="2103120" y="2546640"/>
                <a:ext cx="956160" cy="215280"/>
                <a:chOff x="2103120" y="2546640"/>
                <a:chExt cx="956160" cy="21528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2172240" y="2546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2103120" y="25466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6" name=""/>
              <p:cNvGrpSpPr/>
              <p:nvPr/>
            </p:nvGrpSpPr>
            <p:grpSpPr>
              <a:xfrm>
                <a:off x="3060000" y="2546640"/>
                <a:ext cx="956520" cy="215280"/>
                <a:chOff x="3060000" y="2546640"/>
                <a:chExt cx="956520" cy="215280"/>
              </a:xfrm>
            </p:grpSpPr>
            <p:sp>
              <p:nvSpPr>
                <p:cNvPr id="2257" name=""/>
                <p:cNvSpPr/>
                <p:nvPr/>
              </p:nvSpPr>
              <p:spPr>
                <a:xfrm>
                  <a:off x="3129480" y="2546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3060000" y="2546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9" name=""/>
              <p:cNvGrpSpPr/>
              <p:nvPr/>
            </p:nvGrpSpPr>
            <p:grpSpPr>
              <a:xfrm>
                <a:off x="4017240" y="2546640"/>
                <a:ext cx="956160" cy="215280"/>
                <a:chOff x="4017240" y="2546640"/>
                <a:chExt cx="956160" cy="21528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4086360" y="25466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4017240" y="25466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2" name=""/>
              <p:cNvGrpSpPr/>
              <p:nvPr/>
            </p:nvGrpSpPr>
            <p:grpSpPr>
              <a:xfrm>
                <a:off x="4973760" y="2546640"/>
                <a:ext cx="956520" cy="215280"/>
                <a:chOff x="4973760" y="2546640"/>
                <a:chExt cx="956520" cy="215280"/>
              </a:xfrm>
            </p:grpSpPr>
            <p:sp>
              <p:nvSpPr>
                <p:cNvPr id="2263" name=""/>
                <p:cNvSpPr/>
                <p:nvPr/>
              </p:nvSpPr>
              <p:spPr>
                <a:xfrm>
                  <a:off x="5043240" y="2546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4973760" y="2546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5" name=""/>
              <p:cNvGrpSpPr/>
              <p:nvPr/>
            </p:nvGrpSpPr>
            <p:grpSpPr>
              <a:xfrm>
                <a:off x="5931000" y="2546640"/>
                <a:ext cx="956160" cy="215280"/>
                <a:chOff x="5931000" y="2546640"/>
                <a:chExt cx="956160" cy="215280"/>
              </a:xfrm>
            </p:grpSpPr>
            <p:sp>
              <p:nvSpPr>
                <p:cNvPr id="2266" name=""/>
                <p:cNvSpPr/>
                <p:nvPr/>
              </p:nvSpPr>
              <p:spPr>
                <a:xfrm>
                  <a:off x="6000120" y="25466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931000" y="25466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8" name=""/>
              <p:cNvGrpSpPr/>
              <p:nvPr/>
            </p:nvGrpSpPr>
            <p:grpSpPr>
              <a:xfrm>
                <a:off x="6887880" y="2546640"/>
                <a:ext cx="956520" cy="215280"/>
                <a:chOff x="6887880" y="2546640"/>
                <a:chExt cx="956520" cy="215280"/>
              </a:xfrm>
            </p:grpSpPr>
            <p:sp>
              <p:nvSpPr>
                <p:cNvPr id="2269" name=""/>
                <p:cNvSpPr/>
                <p:nvPr/>
              </p:nvSpPr>
              <p:spPr>
                <a:xfrm>
                  <a:off x="6957360" y="2546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6887880" y="2546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1" name=""/>
              <p:cNvGrpSpPr/>
              <p:nvPr/>
            </p:nvGrpSpPr>
            <p:grpSpPr>
              <a:xfrm>
                <a:off x="1146240" y="2761920"/>
                <a:ext cx="956520" cy="215280"/>
                <a:chOff x="1146240" y="2761920"/>
                <a:chExt cx="956520" cy="215280"/>
              </a:xfrm>
            </p:grpSpPr>
            <p:sp>
              <p:nvSpPr>
                <p:cNvPr id="2272" name=""/>
                <p:cNvSpPr/>
                <p:nvPr/>
              </p:nvSpPr>
              <p:spPr>
                <a:xfrm>
                  <a:off x="1215720" y="27619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1146240" y="27619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4" name=""/>
              <p:cNvGrpSpPr/>
              <p:nvPr/>
            </p:nvGrpSpPr>
            <p:grpSpPr>
              <a:xfrm>
                <a:off x="2103120" y="2761920"/>
                <a:ext cx="956160" cy="215280"/>
                <a:chOff x="2103120" y="2761920"/>
                <a:chExt cx="956160" cy="215280"/>
              </a:xfrm>
            </p:grpSpPr>
            <p:sp>
              <p:nvSpPr>
                <p:cNvPr id="2275" name=""/>
                <p:cNvSpPr/>
                <p:nvPr/>
              </p:nvSpPr>
              <p:spPr>
                <a:xfrm>
                  <a:off x="2172240" y="27619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2103120" y="27619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7" name=""/>
              <p:cNvGrpSpPr/>
              <p:nvPr/>
            </p:nvGrpSpPr>
            <p:grpSpPr>
              <a:xfrm>
                <a:off x="3060000" y="2761920"/>
                <a:ext cx="956520" cy="215280"/>
                <a:chOff x="3060000" y="2761920"/>
                <a:chExt cx="956520" cy="215280"/>
              </a:xfrm>
            </p:grpSpPr>
            <p:sp>
              <p:nvSpPr>
                <p:cNvPr id="2278" name=""/>
                <p:cNvSpPr/>
                <p:nvPr/>
              </p:nvSpPr>
              <p:spPr>
                <a:xfrm>
                  <a:off x="3129480" y="27619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3060000" y="27619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0" name=""/>
              <p:cNvGrpSpPr/>
              <p:nvPr/>
            </p:nvGrpSpPr>
            <p:grpSpPr>
              <a:xfrm>
                <a:off x="4017240" y="2761920"/>
                <a:ext cx="956160" cy="215280"/>
                <a:chOff x="4017240" y="2761920"/>
                <a:chExt cx="956160" cy="215280"/>
              </a:xfrm>
            </p:grpSpPr>
            <p:sp>
              <p:nvSpPr>
                <p:cNvPr id="2281" name=""/>
                <p:cNvSpPr/>
                <p:nvPr/>
              </p:nvSpPr>
              <p:spPr>
                <a:xfrm>
                  <a:off x="4086360" y="27619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4017240" y="27619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3" name=""/>
              <p:cNvGrpSpPr/>
              <p:nvPr/>
            </p:nvGrpSpPr>
            <p:grpSpPr>
              <a:xfrm>
                <a:off x="4973760" y="2761920"/>
                <a:ext cx="956520" cy="215280"/>
                <a:chOff x="4973760" y="2761920"/>
                <a:chExt cx="956520" cy="215280"/>
              </a:xfrm>
            </p:grpSpPr>
            <p:sp>
              <p:nvSpPr>
                <p:cNvPr id="2284" name=""/>
                <p:cNvSpPr/>
                <p:nvPr/>
              </p:nvSpPr>
              <p:spPr>
                <a:xfrm>
                  <a:off x="5043240" y="27619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4973760" y="27619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6" name=""/>
              <p:cNvGrpSpPr/>
              <p:nvPr/>
            </p:nvGrpSpPr>
            <p:grpSpPr>
              <a:xfrm>
                <a:off x="5931000" y="2761920"/>
                <a:ext cx="956160" cy="215280"/>
                <a:chOff x="5931000" y="2761920"/>
                <a:chExt cx="956160" cy="21528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6000120" y="27619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931000" y="27619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9" name=""/>
              <p:cNvGrpSpPr/>
              <p:nvPr/>
            </p:nvGrpSpPr>
            <p:grpSpPr>
              <a:xfrm>
                <a:off x="6887880" y="2761920"/>
                <a:ext cx="956520" cy="215280"/>
                <a:chOff x="6887880" y="2761920"/>
                <a:chExt cx="956520" cy="215280"/>
              </a:xfrm>
            </p:grpSpPr>
            <p:sp>
              <p:nvSpPr>
                <p:cNvPr id="2290" name=""/>
                <p:cNvSpPr/>
                <p:nvPr/>
              </p:nvSpPr>
              <p:spPr>
                <a:xfrm>
                  <a:off x="6957360" y="27619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6887880" y="27619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2" name=""/>
              <p:cNvGrpSpPr/>
              <p:nvPr/>
            </p:nvGrpSpPr>
            <p:grpSpPr>
              <a:xfrm>
                <a:off x="1146240" y="2977560"/>
                <a:ext cx="956520" cy="215280"/>
                <a:chOff x="1146240" y="2977560"/>
                <a:chExt cx="956520" cy="21528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1215720" y="29775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1146240" y="29775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5" name=""/>
              <p:cNvGrpSpPr/>
              <p:nvPr/>
            </p:nvGrpSpPr>
            <p:grpSpPr>
              <a:xfrm>
                <a:off x="2103120" y="2977560"/>
                <a:ext cx="956160" cy="215280"/>
                <a:chOff x="2103120" y="2977560"/>
                <a:chExt cx="956160" cy="215280"/>
              </a:xfrm>
            </p:grpSpPr>
            <p:sp>
              <p:nvSpPr>
                <p:cNvPr id="2296" name=""/>
                <p:cNvSpPr/>
                <p:nvPr/>
              </p:nvSpPr>
              <p:spPr>
                <a:xfrm>
                  <a:off x="2172240" y="29775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2103120" y="29775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8" name=""/>
              <p:cNvGrpSpPr/>
              <p:nvPr/>
            </p:nvGrpSpPr>
            <p:grpSpPr>
              <a:xfrm>
                <a:off x="3060000" y="2977560"/>
                <a:ext cx="956520" cy="215280"/>
                <a:chOff x="3060000" y="2977560"/>
                <a:chExt cx="956520" cy="215280"/>
              </a:xfrm>
            </p:grpSpPr>
            <p:sp>
              <p:nvSpPr>
                <p:cNvPr id="2299" name=""/>
                <p:cNvSpPr/>
                <p:nvPr/>
              </p:nvSpPr>
              <p:spPr>
                <a:xfrm>
                  <a:off x="3129480" y="29775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3060000" y="29775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1" name=""/>
              <p:cNvGrpSpPr/>
              <p:nvPr/>
            </p:nvGrpSpPr>
            <p:grpSpPr>
              <a:xfrm>
                <a:off x="4017240" y="2977560"/>
                <a:ext cx="956160" cy="215280"/>
                <a:chOff x="4017240" y="2977560"/>
                <a:chExt cx="956160" cy="215280"/>
              </a:xfrm>
            </p:grpSpPr>
            <p:sp>
              <p:nvSpPr>
                <p:cNvPr id="2302" name=""/>
                <p:cNvSpPr/>
                <p:nvPr/>
              </p:nvSpPr>
              <p:spPr>
                <a:xfrm>
                  <a:off x="4086360" y="29775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4017240" y="29775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4" name=""/>
              <p:cNvGrpSpPr/>
              <p:nvPr/>
            </p:nvGrpSpPr>
            <p:grpSpPr>
              <a:xfrm>
                <a:off x="4973760" y="2977560"/>
                <a:ext cx="956520" cy="215280"/>
                <a:chOff x="4973760" y="2977560"/>
                <a:chExt cx="956520" cy="215280"/>
              </a:xfrm>
            </p:grpSpPr>
            <p:sp>
              <p:nvSpPr>
                <p:cNvPr id="2305" name=""/>
                <p:cNvSpPr/>
                <p:nvPr/>
              </p:nvSpPr>
              <p:spPr>
                <a:xfrm>
                  <a:off x="5043240" y="29775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973760" y="29775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7" name=""/>
              <p:cNvGrpSpPr/>
              <p:nvPr/>
            </p:nvGrpSpPr>
            <p:grpSpPr>
              <a:xfrm>
                <a:off x="5931000" y="2977560"/>
                <a:ext cx="956160" cy="215280"/>
                <a:chOff x="5931000" y="2977560"/>
                <a:chExt cx="956160" cy="215280"/>
              </a:xfrm>
            </p:grpSpPr>
            <p:sp>
              <p:nvSpPr>
                <p:cNvPr id="2308" name=""/>
                <p:cNvSpPr/>
                <p:nvPr/>
              </p:nvSpPr>
              <p:spPr>
                <a:xfrm>
                  <a:off x="6000120" y="29775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5931000" y="29775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0" name=""/>
              <p:cNvGrpSpPr/>
              <p:nvPr/>
            </p:nvGrpSpPr>
            <p:grpSpPr>
              <a:xfrm>
                <a:off x="6887880" y="2977560"/>
                <a:ext cx="956520" cy="215280"/>
                <a:chOff x="6887880" y="2977560"/>
                <a:chExt cx="956520" cy="215280"/>
              </a:xfrm>
            </p:grpSpPr>
            <p:sp>
              <p:nvSpPr>
                <p:cNvPr id="2311" name=""/>
                <p:cNvSpPr/>
                <p:nvPr/>
              </p:nvSpPr>
              <p:spPr>
                <a:xfrm>
                  <a:off x="6957360" y="29775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6887880" y="29775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3" name=""/>
              <p:cNvGrpSpPr/>
              <p:nvPr/>
            </p:nvGrpSpPr>
            <p:grpSpPr>
              <a:xfrm>
                <a:off x="1146240" y="3193200"/>
                <a:ext cx="956520" cy="215280"/>
                <a:chOff x="1146240" y="3193200"/>
                <a:chExt cx="956520" cy="215280"/>
              </a:xfrm>
            </p:grpSpPr>
            <p:sp>
              <p:nvSpPr>
                <p:cNvPr id="2314" name=""/>
                <p:cNvSpPr/>
                <p:nvPr/>
              </p:nvSpPr>
              <p:spPr>
                <a:xfrm>
                  <a:off x="1215720" y="31932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1146240" y="31932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6" name=""/>
              <p:cNvGrpSpPr/>
              <p:nvPr/>
            </p:nvGrpSpPr>
            <p:grpSpPr>
              <a:xfrm>
                <a:off x="2103120" y="3193200"/>
                <a:ext cx="956160" cy="215280"/>
                <a:chOff x="2103120" y="3193200"/>
                <a:chExt cx="956160" cy="215280"/>
              </a:xfrm>
            </p:grpSpPr>
            <p:sp>
              <p:nvSpPr>
                <p:cNvPr id="2317" name=""/>
                <p:cNvSpPr/>
                <p:nvPr/>
              </p:nvSpPr>
              <p:spPr>
                <a:xfrm>
                  <a:off x="2172240" y="31932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2103120" y="31932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9" name=""/>
              <p:cNvGrpSpPr/>
              <p:nvPr/>
            </p:nvGrpSpPr>
            <p:grpSpPr>
              <a:xfrm>
                <a:off x="3060000" y="3193200"/>
                <a:ext cx="956520" cy="215280"/>
                <a:chOff x="3060000" y="3193200"/>
                <a:chExt cx="956520" cy="215280"/>
              </a:xfrm>
            </p:grpSpPr>
            <p:sp>
              <p:nvSpPr>
                <p:cNvPr id="2320" name=""/>
                <p:cNvSpPr/>
                <p:nvPr/>
              </p:nvSpPr>
              <p:spPr>
                <a:xfrm>
                  <a:off x="3129480" y="31932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3060000" y="31932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2" name=""/>
              <p:cNvGrpSpPr/>
              <p:nvPr/>
            </p:nvGrpSpPr>
            <p:grpSpPr>
              <a:xfrm>
                <a:off x="4017240" y="3193200"/>
                <a:ext cx="956160" cy="215280"/>
                <a:chOff x="4017240" y="3193200"/>
                <a:chExt cx="956160" cy="215280"/>
              </a:xfrm>
            </p:grpSpPr>
            <p:sp>
              <p:nvSpPr>
                <p:cNvPr id="2323" name=""/>
                <p:cNvSpPr/>
                <p:nvPr/>
              </p:nvSpPr>
              <p:spPr>
                <a:xfrm>
                  <a:off x="4086360" y="31932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017240" y="31932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5" name=""/>
              <p:cNvGrpSpPr/>
              <p:nvPr/>
            </p:nvGrpSpPr>
            <p:grpSpPr>
              <a:xfrm>
                <a:off x="4973760" y="3193200"/>
                <a:ext cx="956520" cy="215280"/>
                <a:chOff x="4973760" y="3193200"/>
                <a:chExt cx="956520" cy="215280"/>
              </a:xfrm>
            </p:grpSpPr>
            <p:sp>
              <p:nvSpPr>
                <p:cNvPr id="2326" name=""/>
                <p:cNvSpPr/>
                <p:nvPr/>
              </p:nvSpPr>
              <p:spPr>
                <a:xfrm>
                  <a:off x="5043240" y="31932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973760" y="31932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8" name=""/>
              <p:cNvGrpSpPr/>
              <p:nvPr/>
            </p:nvGrpSpPr>
            <p:grpSpPr>
              <a:xfrm>
                <a:off x="5931000" y="3193200"/>
                <a:ext cx="956160" cy="215280"/>
                <a:chOff x="5931000" y="3193200"/>
                <a:chExt cx="956160" cy="215280"/>
              </a:xfrm>
            </p:grpSpPr>
            <p:sp>
              <p:nvSpPr>
                <p:cNvPr id="2329" name=""/>
                <p:cNvSpPr/>
                <p:nvPr/>
              </p:nvSpPr>
              <p:spPr>
                <a:xfrm>
                  <a:off x="6000120" y="31932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5931000" y="31932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1" name=""/>
              <p:cNvGrpSpPr/>
              <p:nvPr/>
            </p:nvGrpSpPr>
            <p:grpSpPr>
              <a:xfrm>
                <a:off x="6887880" y="3193200"/>
                <a:ext cx="956520" cy="215280"/>
                <a:chOff x="6887880" y="3193200"/>
                <a:chExt cx="956520" cy="215280"/>
              </a:xfrm>
            </p:grpSpPr>
            <p:sp>
              <p:nvSpPr>
                <p:cNvPr id="2332" name=""/>
                <p:cNvSpPr/>
                <p:nvPr/>
              </p:nvSpPr>
              <p:spPr>
                <a:xfrm>
                  <a:off x="6957360" y="31932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6887880" y="31932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4" name=""/>
              <p:cNvGrpSpPr/>
              <p:nvPr/>
            </p:nvGrpSpPr>
            <p:grpSpPr>
              <a:xfrm>
                <a:off x="1146240" y="3408480"/>
                <a:ext cx="956520" cy="215280"/>
                <a:chOff x="1146240" y="3408480"/>
                <a:chExt cx="956520" cy="215280"/>
              </a:xfrm>
            </p:grpSpPr>
            <p:sp>
              <p:nvSpPr>
                <p:cNvPr id="2335" name=""/>
                <p:cNvSpPr/>
                <p:nvPr/>
              </p:nvSpPr>
              <p:spPr>
                <a:xfrm>
                  <a:off x="1215720" y="34084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1146240" y="34084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7" name=""/>
              <p:cNvGrpSpPr/>
              <p:nvPr/>
            </p:nvGrpSpPr>
            <p:grpSpPr>
              <a:xfrm>
                <a:off x="2103120" y="3408480"/>
                <a:ext cx="956160" cy="215280"/>
                <a:chOff x="2103120" y="3408480"/>
                <a:chExt cx="956160" cy="215280"/>
              </a:xfrm>
            </p:grpSpPr>
            <p:sp>
              <p:nvSpPr>
                <p:cNvPr id="2338" name=""/>
                <p:cNvSpPr/>
                <p:nvPr/>
              </p:nvSpPr>
              <p:spPr>
                <a:xfrm>
                  <a:off x="2172240" y="34084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2103120" y="34084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0" name=""/>
              <p:cNvGrpSpPr/>
              <p:nvPr/>
            </p:nvGrpSpPr>
            <p:grpSpPr>
              <a:xfrm>
                <a:off x="3060000" y="3408480"/>
                <a:ext cx="956520" cy="215280"/>
                <a:chOff x="3060000" y="3408480"/>
                <a:chExt cx="956520" cy="215280"/>
              </a:xfrm>
            </p:grpSpPr>
            <p:sp>
              <p:nvSpPr>
                <p:cNvPr id="2341" name=""/>
                <p:cNvSpPr/>
                <p:nvPr/>
              </p:nvSpPr>
              <p:spPr>
                <a:xfrm>
                  <a:off x="3129480" y="34084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3060000" y="34084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3" name=""/>
              <p:cNvGrpSpPr/>
              <p:nvPr/>
            </p:nvGrpSpPr>
            <p:grpSpPr>
              <a:xfrm>
                <a:off x="4017240" y="3408480"/>
                <a:ext cx="956160" cy="215280"/>
                <a:chOff x="4017240" y="3408480"/>
                <a:chExt cx="956160" cy="215280"/>
              </a:xfrm>
            </p:grpSpPr>
            <p:sp>
              <p:nvSpPr>
                <p:cNvPr id="2344" name=""/>
                <p:cNvSpPr/>
                <p:nvPr/>
              </p:nvSpPr>
              <p:spPr>
                <a:xfrm>
                  <a:off x="4086360" y="34084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017240" y="34084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6" name=""/>
              <p:cNvGrpSpPr/>
              <p:nvPr/>
            </p:nvGrpSpPr>
            <p:grpSpPr>
              <a:xfrm>
                <a:off x="4973760" y="3408480"/>
                <a:ext cx="956520" cy="215280"/>
                <a:chOff x="4973760" y="3408480"/>
                <a:chExt cx="956520" cy="215280"/>
              </a:xfrm>
            </p:grpSpPr>
            <p:sp>
              <p:nvSpPr>
                <p:cNvPr id="2347" name=""/>
                <p:cNvSpPr/>
                <p:nvPr/>
              </p:nvSpPr>
              <p:spPr>
                <a:xfrm>
                  <a:off x="5043240" y="34084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4973760" y="34084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9" name=""/>
              <p:cNvGrpSpPr/>
              <p:nvPr/>
            </p:nvGrpSpPr>
            <p:grpSpPr>
              <a:xfrm>
                <a:off x="5931000" y="3408480"/>
                <a:ext cx="956160" cy="215280"/>
                <a:chOff x="5931000" y="3408480"/>
                <a:chExt cx="956160" cy="215280"/>
              </a:xfrm>
            </p:grpSpPr>
            <p:sp>
              <p:nvSpPr>
                <p:cNvPr id="2350" name=""/>
                <p:cNvSpPr/>
                <p:nvPr/>
              </p:nvSpPr>
              <p:spPr>
                <a:xfrm>
                  <a:off x="6000120" y="34084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931000" y="34084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2" name=""/>
              <p:cNvGrpSpPr/>
              <p:nvPr/>
            </p:nvGrpSpPr>
            <p:grpSpPr>
              <a:xfrm>
                <a:off x="6887880" y="3408480"/>
                <a:ext cx="956520" cy="215280"/>
                <a:chOff x="6887880" y="3408480"/>
                <a:chExt cx="956520" cy="215280"/>
              </a:xfrm>
            </p:grpSpPr>
            <p:sp>
              <p:nvSpPr>
                <p:cNvPr id="2353" name=""/>
                <p:cNvSpPr/>
                <p:nvPr/>
              </p:nvSpPr>
              <p:spPr>
                <a:xfrm>
                  <a:off x="6957360" y="34084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6887880" y="34084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5" name=""/>
              <p:cNvGrpSpPr/>
              <p:nvPr/>
            </p:nvGrpSpPr>
            <p:grpSpPr>
              <a:xfrm>
                <a:off x="1146240" y="3624120"/>
                <a:ext cx="956520" cy="215280"/>
                <a:chOff x="1146240" y="3624120"/>
                <a:chExt cx="956520" cy="215280"/>
              </a:xfrm>
            </p:grpSpPr>
            <p:sp>
              <p:nvSpPr>
                <p:cNvPr id="2356" name=""/>
                <p:cNvSpPr/>
                <p:nvPr/>
              </p:nvSpPr>
              <p:spPr>
                <a:xfrm>
                  <a:off x="1215720" y="36241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1146240" y="36241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8" name=""/>
              <p:cNvGrpSpPr/>
              <p:nvPr/>
            </p:nvGrpSpPr>
            <p:grpSpPr>
              <a:xfrm>
                <a:off x="2103120" y="3624120"/>
                <a:ext cx="956160" cy="215280"/>
                <a:chOff x="2103120" y="3624120"/>
                <a:chExt cx="956160" cy="215280"/>
              </a:xfrm>
            </p:grpSpPr>
            <p:sp>
              <p:nvSpPr>
                <p:cNvPr id="2359" name=""/>
                <p:cNvSpPr/>
                <p:nvPr/>
              </p:nvSpPr>
              <p:spPr>
                <a:xfrm>
                  <a:off x="2172240" y="36241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2103120" y="36241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"/>
              <p:cNvGrpSpPr/>
              <p:nvPr/>
            </p:nvGrpSpPr>
            <p:grpSpPr>
              <a:xfrm>
                <a:off x="3060000" y="3624120"/>
                <a:ext cx="956520" cy="215280"/>
                <a:chOff x="3060000" y="3624120"/>
                <a:chExt cx="956520" cy="215280"/>
              </a:xfrm>
            </p:grpSpPr>
            <p:sp>
              <p:nvSpPr>
                <p:cNvPr id="2362" name=""/>
                <p:cNvSpPr/>
                <p:nvPr/>
              </p:nvSpPr>
              <p:spPr>
                <a:xfrm>
                  <a:off x="3129480" y="36241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3060000" y="36241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4" name=""/>
              <p:cNvGrpSpPr/>
              <p:nvPr/>
            </p:nvGrpSpPr>
            <p:grpSpPr>
              <a:xfrm>
                <a:off x="4017240" y="3624120"/>
                <a:ext cx="956160" cy="215280"/>
                <a:chOff x="4017240" y="3624120"/>
                <a:chExt cx="956160" cy="215280"/>
              </a:xfrm>
            </p:grpSpPr>
            <p:sp>
              <p:nvSpPr>
                <p:cNvPr id="2365" name=""/>
                <p:cNvSpPr/>
                <p:nvPr/>
              </p:nvSpPr>
              <p:spPr>
                <a:xfrm>
                  <a:off x="4086360" y="36241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4017240" y="36241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7" name=""/>
              <p:cNvGrpSpPr/>
              <p:nvPr/>
            </p:nvGrpSpPr>
            <p:grpSpPr>
              <a:xfrm>
                <a:off x="4973760" y="3624120"/>
                <a:ext cx="956520" cy="215280"/>
                <a:chOff x="4973760" y="3624120"/>
                <a:chExt cx="956520" cy="215280"/>
              </a:xfrm>
            </p:grpSpPr>
            <p:sp>
              <p:nvSpPr>
                <p:cNvPr id="2368" name=""/>
                <p:cNvSpPr/>
                <p:nvPr/>
              </p:nvSpPr>
              <p:spPr>
                <a:xfrm>
                  <a:off x="5043240" y="36241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4973760" y="36241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0" name=""/>
              <p:cNvGrpSpPr/>
              <p:nvPr/>
            </p:nvGrpSpPr>
            <p:grpSpPr>
              <a:xfrm>
                <a:off x="5931000" y="3624120"/>
                <a:ext cx="956160" cy="215280"/>
                <a:chOff x="5931000" y="3624120"/>
                <a:chExt cx="956160" cy="215280"/>
              </a:xfrm>
            </p:grpSpPr>
            <p:sp>
              <p:nvSpPr>
                <p:cNvPr id="2371" name=""/>
                <p:cNvSpPr/>
                <p:nvPr/>
              </p:nvSpPr>
              <p:spPr>
                <a:xfrm>
                  <a:off x="6000120" y="36241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931000" y="36241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3" name=""/>
              <p:cNvGrpSpPr/>
              <p:nvPr/>
            </p:nvGrpSpPr>
            <p:grpSpPr>
              <a:xfrm>
                <a:off x="6887880" y="3624120"/>
                <a:ext cx="956520" cy="215280"/>
                <a:chOff x="6887880" y="3624120"/>
                <a:chExt cx="956520" cy="215280"/>
              </a:xfrm>
            </p:grpSpPr>
            <p:sp>
              <p:nvSpPr>
                <p:cNvPr id="2374" name=""/>
                <p:cNvSpPr/>
                <p:nvPr/>
              </p:nvSpPr>
              <p:spPr>
                <a:xfrm>
                  <a:off x="6957360" y="36241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887880" y="36241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6" name=""/>
              <p:cNvGrpSpPr/>
              <p:nvPr/>
            </p:nvGrpSpPr>
            <p:grpSpPr>
              <a:xfrm>
                <a:off x="1146240" y="3839760"/>
                <a:ext cx="956520" cy="215280"/>
                <a:chOff x="1146240" y="3839760"/>
                <a:chExt cx="956520" cy="215280"/>
              </a:xfrm>
            </p:grpSpPr>
            <p:sp>
              <p:nvSpPr>
                <p:cNvPr id="2377" name=""/>
                <p:cNvSpPr/>
                <p:nvPr/>
              </p:nvSpPr>
              <p:spPr>
                <a:xfrm>
                  <a:off x="1215720" y="38397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1146240" y="38397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9" name=""/>
              <p:cNvGrpSpPr/>
              <p:nvPr/>
            </p:nvGrpSpPr>
            <p:grpSpPr>
              <a:xfrm>
                <a:off x="2103120" y="3839760"/>
                <a:ext cx="956160" cy="215280"/>
                <a:chOff x="2103120" y="3839760"/>
                <a:chExt cx="956160" cy="215280"/>
              </a:xfrm>
            </p:grpSpPr>
            <p:sp>
              <p:nvSpPr>
                <p:cNvPr id="2380" name=""/>
                <p:cNvSpPr/>
                <p:nvPr/>
              </p:nvSpPr>
              <p:spPr>
                <a:xfrm>
                  <a:off x="2172240" y="38397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2103120" y="38397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2" name=""/>
              <p:cNvGrpSpPr/>
              <p:nvPr/>
            </p:nvGrpSpPr>
            <p:grpSpPr>
              <a:xfrm>
                <a:off x="3060000" y="3839760"/>
                <a:ext cx="956520" cy="215280"/>
                <a:chOff x="3060000" y="3839760"/>
                <a:chExt cx="956520" cy="21528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3129480" y="38397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3060000" y="38397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5" name=""/>
              <p:cNvGrpSpPr/>
              <p:nvPr/>
            </p:nvGrpSpPr>
            <p:grpSpPr>
              <a:xfrm>
                <a:off x="4017240" y="3839760"/>
                <a:ext cx="956160" cy="215280"/>
                <a:chOff x="4017240" y="3839760"/>
                <a:chExt cx="956160" cy="215280"/>
              </a:xfrm>
            </p:grpSpPr>
            <p:sp>
              <p:nvSpPr>
                <p:cNvPr id="2386" name=""/>
                <p:cNvSpPr/>
                <p:nvPr/>
              </p:nvSpPr>
              <p:spPr>
                <a:xfrm>
                  <a:off x="4086360" y="38397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4017240" y="38397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8" name=""/>
              <p:cNvGrpSpPr/>
              <p:nvPr/>
            </p:nvGrpSpPr>
            <p:grpSpPr>
              <a:xfrm>
                <a:off x="4973760" y="3839760"/>
                <a:ext cx="956520" cy="215280"/>
                <a:chOff x="4973760" y="3839760"/>
                <a:chExt cx="956520" cy="21528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5043240" y="38397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4973760" y="38397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1" name=""/>
              <p:cNvGrpSpPr/>
              <p:nvPr/>
            </p:nvGrpSpPr>
            <p:grpSpPr>
              <a:xfrm>
                <a:off x="5931000" y="3839760"/>
                <a:ext cx="956160" cy="215280"/>
                <a:chOff x="5931000" y="3839760"/>
                <a:chExt cx="956160" cy="215280"/>
              </a:xfrm>
            </p:grpSpPr>
            <p:sp>
              <p:nvSpPr>
                <p:cNvPr id="2392" name=""/>
                <p:cNvSpPr/>
                <p:nvPr/>
              </p:nvSpPr>
              <p:spPr>
                <a:xfrm>
                  <a:off x="6000120" y="38397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931000" y="38397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4" name=""/>
              <p:cNvGrpSpPr/>
              <p:nvPr/>
            </p:nvGrpSpPr>
            <p:grpSpPr>
              <a:xfrm>
                <a:off x="6887880" y="3839760"/>
                <a:ext cx="956520" cy="215280"/>
                <a:chOff x="6887880" y="3839760"/>
                <a:chExt cx="956520" cy="215280"/>
              </a:xfrm>
            </p:grpSpPr>
            <p:sp>
              <p:nvSpPr>
                <p:cNvPr id="2395" name=""/>
                <p:cNvSpPr/>
                <p:nvPr/>
              </p:nvSpPr>
              <p:spPr>
                <a:xfrm>
                  <a:off x="6957360" y="38397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6887880" y="38397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7" name=""/>
              <p:cNvGrpSpPr/>
              <p:nvPr/>
            </p:nvGrpSpPr>
            <p:grpSpPr>
              <a:xfrm>
                <a:off x="1146240" y="4055040"/>
                <a:ext cx="956520" cy="215280"/>
                <a:chOff x="1146240" y="4055040"/>
                <a:chExt cx="956520" cy="215280"/>
              </a:xfrm>
            </p:grpSpPr>
            <p:sp>
              <p:nvSpPr>
                <p:cNvPr id="2398" name=""/>
                <p:cNvSpPr/>
                <p:nvPr/>
              </p:nvSpPr>
              <p:spPr>
                <a:xfrm>
                  <a:off x="1215720" y="40550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1146240" y="40550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0" name=""/>
              <p:cNvGrpSpPr/>
              <p:nvPr/>
            </p:nvGrpSpPr>
            <p:grpSpPr>
              <a:xfrm>
                <a:off x="2103120" y="4055040"/>
                <a:ext cx="956160" cy="215280"/>
                <a:chOff x="2103120" y="4055040"/>
                <a:chExt cx="956160" cy="215280"/>
              </a:xfrm>
            </p:grpSpPr>
            <p:sp>
              <p:nvSpPr>
                <p:cNvPr id="2401" name=""/>
                <p:cNvSpPr/>
                <p:nvPr/>
              </p:nvSpPr>
              <p:spPr>
                <a:xfrm>
                  <a:off x="2172240" y="40550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2103120" y="40550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3" name=""/>
              <p:cNvGrpSpPr/>
              <p:nvPr/>
            </p:nvGrpSpPr>
            <p:grpSpPr>
              <a:xfrm>
                <a:off x="3060000" y="4055040"/>
                <a:ext cx="956520" cy="215280"/>
                <a:chOff x="3060000" y="4055040"/>
                <a:chExt cx="956520" cy="215280"/>
              </a:xfrm>
            </p:grpSpPr>
            <p:sp>
              <p:nvSpPr>
                <p:cNvPr id="2404" name=""/>
                <p:cNvSpPr/>
                <p:nvPr/>
              </p:nvSpPr>
              <p:spPr>
                <a:xfrm>
                  <a:off x="3129480" y="40550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3060000" y="40550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6" name=""/>
              <p:cNvGrpSpPr/>
              <p:nvPr/>
            </p:nvGrpSpPr>
            <p:grpSpPr>
              <a:xfrm>
                <a:off x="4017240" y="4055040"/>
                <a:ext cx="956160" cy="215280"/>
                <a:chOff x="4017240" y="4055040"/>
                <a:chExt cx="956160" cy="215280"/>
              </a:xfrm>
            </p:grpSpPr>
            <p:sp>
              <p:nvSpPr>
                <p:cNvPr id="2407" name=""/>
                <p:cNvSpPr/>
                <p:nvPr/>
              </p:nvSpPr>
              <p:spPr>
                <a:xfrm>
                  <a:off x="4086360" y="40550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4017240" y="40550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9" name=""/>
              <p:cNvGrpSpPr/>
              <p:nvPr/>
            </p:nvGrpSpPr>
            <p:grpSpPr>
              <a:xfrm>
                <a:off x="4973760" y="4055040"/>
                <a:ext cx="956520" cy="215280"/>
                <a:chOff x="4973760" y="4055040"/>
                <a:chExt cx="956520" cy="215280"/>
              </a:xfrm>
            </p:grpSpPr>
            <p:sp>
              <p:nvSpPr>
                <p:cNvPr id="2410" name=""/>
                <p:cNvSpPr/>
                <p:nvPr/>
              </p:nvSpPr>
              <p:spPr>
                <a:xfrm>
                  <a:off x="5043240" y="40550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4973760" y="40550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2" name=""/>
              <p:cNvGrpSpPr/>
              <p:nvPr/>
            </p:nvGrpSpPr>
            <p:grpSpPr>
              <a:xfrm>
                <a:off x="5931000" y="4055040"/>
                <a:ext cx="956160" cy="215280"/>
                <a:chOff x="5931000" y="4055040"/>
                <a:chExt cx="956160" cy="21528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6000120" y="40550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931000" y="40550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5" name=""/>
              <p:cNvGrpSpPr/>
              <p:nvPr/>
            </p:nvGrpSpPr>
            <p:grpSpPr>
              <a:xfrm>
                <a:off x="6887880" y="4055040"/>
                <a:ext cx="956520" cy="215280"/>
                <a:chOff x="6887880" y="4055040"/>
                <a:chExt cx="956520" cy="215280"/>
              </a:xfrm>
            </p:grpSpPr>
            <p:sp>
              <p:nvSpPr>
                <p:cNvPr id="2416" name=""/>
                <p:cNvSpPr/>
                <p:nvPr/>
              </p:nvSpPr>
              <p:spPr>
                <a:xfrm>
                  <a:off x="6957360" y="40550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6887880" y="40550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8" name=""/>
              <p:cNvGrpSpPr/>
              <p:nvPr/>
            </p:nvGrpSpPr>
            <p:grpSpPr>
              <a:xfrm>
                <a:off x="1146240" y="4270680"/>
                <a:ext cx="956520" cy="215280"/>
                <a:chOff x="1146240" y="4270680"/>
                <a:chExt cx="956520" cy="21528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1215720" y="42706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1146240" y="42706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2103120" y="4270680"/>
                <a:ext cx="956160" cy="215280"/>
                <a:chOff x="2103120" y="4270680"/>
                <a:chExt cx="956160" cy="215280"/>
              </a:xfrm>
            </p:grpSpPr>
            <p:sp>
              <p:nvSpPr>
                <p:cNvPr id="2422" name=""/>
                <p:cNvSpPr/>
                <p:nvPr/>
              </p:nvSpPr>
              <p:spPr>
                <a:xfrm>
                  <a:off x="2172240" y="42706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2103120" y="42706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4" name=""/>
              <p:cNvGrpSpPr/>
              <p:nvPr/>
            </p:nvGrpSpPr>
            <p:grpSpPr>
              <a:xfrm>
                <a:off x="3060000" y="4270680"/>
                <a:ext cx="956520" cy="215280"/>
                <a:chOff x="3060000" y="4270680"/>
                <a:chExt cx="956520" cy="215280"/>
              </a:xfrm>
            </p:grpSpPr>
            <p:sp>
              <p:nvSpPr>
                <p:cNvPr id="2425" name=""/>
                <p:cNvSpPr/>
                <p:nvPr/>
              </p:nvSpPr>
              <p:spPr>
                <a:xfrm>
                  <a:off x="3129480" y="42706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3060000" y="42706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7" name=""/>
              <p:cNvGrpSpPr/>
              <p:nvPr/>
            </p:nvGrpSpPr>
            <p:grpSpPr>
              <a:xfrm>
                <a:off x="4017240" y="4270680"/>
                <a:ext cx="956160" cy="215280"/>
                <a:chOff x="4017240" y="4270680"/>
                <a:chExt cx="956160" cy="21528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4086360" y="42706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4017240" y="42706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0" name=""/>
              <p:cNvGrpSpPr/>
              <p:nvPr/>
            </p:nvGrpSpPr>
            <p:grpSpPr>
              <a:xfrm>
                <a:off x="4973760" y="4270680"/>
                <a:ext cx="956520" cy="215280"/>
                <a:chOff x="4973760" y="4270680"/>
                <a:chExt cx="956520" cy="215280"/>
              </a:xfrm>
            </p:grpSpPr>
            <p:sp>
              <p:nvSpPr>
                <p:cNvPr id="2431" name=""/>
                <p:cNvSpPr/>
                <p:nvPr/>
              </p:nvSpPr>
              <p:spPr>
                <a:xfrm>
                  <a:off x="5043240" y="42706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4973760" y="42706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3" name=""/>
              <p:cNvGrpSpPr/>
              <p:nvPr/>
            </p:nvGrpSpPr>
            <p:grpSpPr>
              <a:xfrm>
                <a:off x="5931000" y="4270680"/>
                <a:ext cx="956160" cy="215280"/>
                <a:chOff x="5931000" y="4270680"/>
                <a:chExt cx="956160" cy="21528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6000120" y="42706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931000" y="42706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6887880" y="4270680"/>
                <a:ext cx="956520" cy="215280"/>
                <a:chOff x="6887880" y="4270680"/>
                <a:chExt cx="956520" cy="21528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6957360" y="42706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887880" y="42706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9" name=""/>
              <p:cNvGrpSpPr/>
              <p:nvPr/>
            </p:nvGrpSpPr>
            <p:grpSpPr>
              <a:xfrm>
                <a:off x="1146240" y="4486320"/>
                <a:ext cx="956520" cy="215280"/>
                <a:chOff x="1146240" y="4486320"/>
                <a:chExt cx="956520" cy="215280"/>
              </a:xfrm>
            </p:grpSpPr>
            <p:sp>
              <p:nvSpPr>
                <p:cNvPr id="2440" name=""/>
                <p:cNvSpPr/>
                <p:nvPr/>
              </p:nvSpPr>
              <p:spPr>
                <a:xfrm>
                  <a:off x="1215720" y="4486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1146240" y="4486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2" name=""/>
              <p:cNvGrpSpPr/>
              <p:nvPr/>
            </p:nvGrpSpPr>
            <p:grpSpPr>
              <a:xfrm>
                <a:off x="2103120" y="4486320"/>
                <a:ext cx="956160" cy="215280"/>
                <a:chOff x="2103120" y="4486320"/>
                <a:chExt cx="956160" cy="215280"/>
              </a:xfrm>
            </p:grpSpPr>
            <p:sp>
              <p:nvSpPr>
                <p:cNvPr id="2443" name=""/>
                <p:cNvSpPr/>
                <p:nvPr/>
              </p:nvSpPr>
              <p:spPr>
                <a:xfrm>
                  <a:off x="2172240" y="4486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2103120" y="44863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5" name=""/>
              <p:cNvGrpSpPr/>
              <p:nvPr/>
            </p:nvGrpSpPr>
            <p:grpSpPr>
              <a:xfrm>
                <a:off x="3060000" y="4486320"/>
                <a:ext cx="956520" cy="215280"/>
                <a:chOff x="3060000" y="4486320"/>
                <a:chExt cx="956520" cy="21528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3129480" y="4486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3060000" y="4486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8" name=""/>
              <p:cNvGrpSpPr/>
              <p:nvPr/>
            </p:nvGrpSpPr>
            <p:grpSpPr>
              <a:xfrm>
                <a:off x="4017240" y="4486320"/>
                <a:ext cx="956160" cy="215280"/>
                <a:chOff x="4017240" y="4486320"/>
                <a:chExt cx="956160" cy="21528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4086360" y="44863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4017240" y="44863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1" name=""/>
              <p:cNvGrpSpPr/>
              <p:nvPr/>
            </p:nvGrpSpPr>
            <p:grpSpPr>
              <a:xfrm>
                <a:off x="4973760" y="4486320"/>
                <a:ext cx="956520" cy="215280"/>
                <a:chOff x="4973760" y="4486320"/>
                <a:chExt cx="956520" cy="215280"/>
              </a:xfrm>
            </p:grpSpPr>
            <p:sp>
              <p:nvSpPr>
                <p:cNvPr id="2452" name=""/>
                <p:cNvSpPr/>
                <p:nvPr/>
              </p:nvSpPr>
              <p:spPr>
                <a:xfrm>
                  <a:off x="5043240" y="4486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4973760" y="4486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4" name=""/>
              <p:cNvGrpSpPr/>
              <p:nvPr/>
            </p:nvGrpSpPr>
            <p:grpSpPr>
              <a:xfrm>
                <a:off x="5931000" y="4486320"/>
                <a:ext cx="956160" cy="215280"/>
                <a:chOff x="5931000" y="4486320"/>
                <a:chExt cx="956160" cy="21528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6000120" y="44863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5931000" y="44863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7" name=""/>
              <p:cNvGrpSpPr/>
              <p:nvPr/>
            </p:nvGrpSpPr>
            <p:grpSpPr>
              <a:xfrm>
                <a:off x="6887880" y="4486320"/>
                <a:ext cx="956520" cy="215280"/>
                <a:chOff x="6887880" y="4486320"/>
                <a:chExt cx="956520" cy="215280"/>
              </a:xfrm>
            </p:grpSpPr>
            <p:sp>
              <p:nvSpPr>
                <p:cNvPr id="2458" name=""/>
                <p:cNvSpPr/>
                <p:nvPr/>
              </p:nvSpPr>
              <p:spPr>
                <a:xfrm>
                  <a:off x="6957360" y="44863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887880" y="44863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0" name=""/>
              <p:cNvGrpSpPr/>
              <p:nvPr/>
            </p:nvGrpSpPr>
            <p:grpSpPr>
              <a:xfrm>
                <a:off x="1146240" y="4701600"/>
                <a:ext cx="956520" cy="215280"/>
                <a:chOff x="1146240" y="4701600"/>
                <a:chExt cx="956520" cy="215280"/>
              </a:xfrm>
            </p:grpSpPr>
            <p:sp>
              <p:nvSpPr>
                <p:cNvPr id="2461" name=""/>
                <p:cNvSpPr/>
                <p:nvPr/>
              </p:nvSpPr>
              <p:spPr>
                <a:xfrm>
                  <a:off x="1215720" y="47016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1146240" y="47016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3" name=""/>
              <p:cNvGrpSpPr/>
              <p:nvPr/>
            </p:nvGrpSpPr>
            <p:grpSpPr>
              <a:xfrm>
                <a:off x="2103120" y="4701600"/>
                <a:ext cx="956160" cy="215280"/>
                <a:chOff x="2103120" y="4701600"/>
                <a:chExt cx="956160" cy="21528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2172240" y="47016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2103120" y="47016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3060000" y="4701600"/>
                <a:ext cx="956520" cy="215280"/>
                <a:chOff x="3060000" y="4701600"/>
                <a:chExt cx="956520" cy="21528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3129480" y="47016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3060000" y="47016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9" name=""/>
              <p:cNvGrpSpPr/>
              <p:nvPr/>
            </p:nvGrpSpPr>
            <p:grpSpPr>
              <a:xfrm>
                <a:off x="4017240" y="4701600"/>
                <a:ext cx="956160" cy="215280"/>
                <a:chOff x="4017240" y="4701600"/>
                <a:chExt cx="956160" cy="215280"/>
              </a:xfrm>
            </p:grpSpPr>
            <p:sp>
              <p:nvSpPr>
                <p:cNvPr id="2470" name=""/>
                <p:cNvSpPr/>
                <p:nvPr/>
              </p:nvSpPr>
              <p:spPr>
                <a:xfrm>
                  <a:off x="4086360" y="47016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4017240" y="47016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4973760" y="4701600"/>
                <a:ext cx="956520" cy="215280"/>
                <a:chOff x="4973760" y="4701600"/>
                <a:chExt cx="956520" cy="21528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5043240" y="47016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4973760" y="47016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5" name=""/>
              <p:cNvGrpSpPr/>
              <p:nvPr/>
            </p:nvGrpSpPr>
            <p:grpSpPr>
              <a:xfrm>
                <a:off x="5931000" y="4701600"/>
                <a:ext cx="956160" cy="215280"/>
                <a:chOff x="5931000" y="4701600"/>
                <a:chExt cx="956160" cy="215280"/>
              </a:xfrm>
            </p:grpSpPr>
            <p:sp>
              <p:nvSpPr>
                <p:cNvPr id="2476" name=""/>
                <p:cNvSpPr/>
                <p:nvPr/>
              </p:nvSpPr>
              <p:spPr>
                <a:xfrm>
                  <a:off x="6000120" y="47016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5931000" y="47016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8" name=""/>
              <p:cNvGrpSpPr/>
              <p:nvPr/>
            </p:nvGrpSpPr>
            <p:grpSpPr>
              <a:xfrm>
                <a:off x="6887880" y="4701600"/>
                <a:ext cx="956520" cy="215280"/>
                <a:chOff x="6887880" y="4701600"/>
                <a:chExt cx="956520" cy="21528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6957360" y="47016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887880" y="47016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1" name=""/>
              <p:cNvGrpSpPr/>
              <p:nvPr/>
            </p:nvGrpSpPr>
            <p:grpSpPr>
              <a:xfrm>
                <a:off x="1146240" y="4917240"/>
                <a:ext cx="956520" cy="215280"/>
                <a:chOff x="1146240" y="4917240"/>
                <a:chExt cx="956520" cy="215280"/>
              </a:xfrm>
            </p:grpSpPr>
            <p:sp>
              <p:nvSpPr>
                <p:cNvPr id="2482" name=""/>
                <p:cNvSpPr/>
                <p:nvPr/>
              </p:nvSpPr>
              <p:spPr>
                <a:xfrm>
                  <a:off x="1215720" y="4917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1146240" y="4917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4" name=""/>
              <p:cNvGrpSpPr/>
              <p:nvPr/>
            </p:nvGrpSpPr>
            <p:grpSpPr>
              <a:xfrm>
                <a:off x="2103120" y="4917240"/>
                <a:ext cx="956160" cy="215280"/>
                <a:chOff x="2103120" y="4917240"/>
                <a:chExt cx="956160" cy="21528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2172240" y="4917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2103120" y="49172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7" name=""/>
              <p:cNvGrpSpPr/>
              <p:nvPr/>
            </p:nvGrpSpPr>
            <p:grpSpPr>
              <a:xfrm>
                <a:off x="3060000" y="4917240"/>
                <a:ext cx="956520" cy="215280"/>
                <a:chOff x="3060000" y="4917240"/>
                <a:chExt cx="956520" cy="21528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3129480" y="4917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3060000" y="4917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4017240" y="4917240"/>
                <a:ext cx="956160" cy="215280"/>
                <a:chOff x="4017240" y="4917240"/>
                <a:chExt cx="956160" cy="215280"/>
              </a:xfrm>
            </p:grpSpPr>
            <p:sp>
              <p:nvSpPr>
                <p:cNvPr id="2491" name=""/>
                <p:cNvSpPr/>
                <p:nvPr/>
              </p:nvSpPr>
              <p:spPr>
                <a:xfrm>
                  <a:off x="4086360" y="49172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4017240" y="49172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3" name=""/>
              <p:cNvGrpSpPr/>
              <p:nvPr/>
            </p:nvGrpSpPr>
            <p:grpSpPr>
              <a:xfrm>
                <a:off x="4973760" y="4917240"/>
                <a:ext cx="956520" cy="215280"/>
                <a:chOff x="4973760" y="4917240"/>
                <a:chExt cx="956520" cy="215280"/>
              </a:xfrm>
            </p:grpSpPr>
            <p:sp>
              <p:nvSpPr>
                <p:cNvPr id="2494" name=""/>
                <p:cNvSpPr/>
                <p:nvPr/>
              </p:nvSpPr>
              <p:spPr>
                <a:xfrm>
                  <a:off x="5043240" y="4917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4973760" y="4917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5931000" y="4917240"/>
                <a:ext cx="956160" cy="215280"/>
                <a:chOff x="5931000" y="4917240"/>
                <a:chExt cx="956160" cy="215280"/>
              </a:xfrm>
            </p:grpSpPr>
            <p:sp>
              <p:nvSpPr>
                <p:cNvPr id="2497" name=""/>
                <p:cNvSpPr/>
                <p:nvPr/>
              </p:nvSpPr>
              <p:spPr>
                <a:xfrm>
                  <a:off x="6000120" y="49172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5931000" y="49172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9" name=""/>
              <p:cNvGrpSpPr/>
              <p:nvPr/>
            </p:nvGrpSpPr>
            <p:grpSpPr>
              <a:xfrm>
                <a:off x="6887880" y="4917240"/>
                <a:ext cx="956520" cy="215280"/>
                <a:chOff x="6887880" y="4917240"/>
                <a:chExt cx="956520" cy="215280"/>
              </a:xfrm>
            </p:grpSpPr>
            <p:sp>
              <p:nvSpPr>
                <p:cNvPr id="2500" name=""/>
                <p:cNvSpPr/>
                <p:nvPr/>
              </p:nvSpPr>
              <p:spPr>
                <a:xfrm>
                  <a:off x="6957360" y="49172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887880" y="49172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2" name=""/>
              <p:cNvGrpSpPr/>
              <p:nvPr/>
            </p:nvGrpSpPr>
            <p:grpSpPr>
              <a:xfrm>
                <a:off x="1146240" y="5132880"/>
                <a:ext cx="956520" cy="215280"/>
                <a:chOff x="1146240" y="5132880"/>
                <a:chExt cx="956520" cy="215280"/>
              </a:xfrm>
            </p:grpSpPr>
            <p:sp>
              <p:nvSpPr>
                <p:cNvPr id="2503" name=""/>
                <p:cNvSpPr/>
                <p:nvPr/>
              </p:nvSpPr>
              <p:spPr>
                <a:xfrm>
                  <a:off x="1215720" y="5132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1146240" y="5132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5" name=""/>
              <p:cNvGrpSpPr/>
              <p:nvPr/>
            </p:nvGrpSpPr>
            <p:grpSpPr>
              <a:xfrm>
                <a:off x="2103120" y="5132880"/>
                <a:ext cx="956160" cy="215280"/>
                <a:chOff x="2103120" y="5132880"/>
                <a:chExt cx="956160" cy="21528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2172240" y="5132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2103120" y="51328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8" name=""/>
              <p:cNvGrpSpPr/>
              <p:nvPr/>
            </p:nvGrpSpPr>
            <p:grpSpPr>
              <a:xfrm>
                <a:off x="3060000" y="5132880"/>
                <a:ext cx="956520" cy="215280"/>
                <a:chOff x="3060000" y="5132880"/>
                <a:chExt cx="956520" cy="21528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3129480" y="5132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3060000" y="5132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1" name=""/>
              <p:cNvGrpSpPr/>
              <p:nvPr/>
            </p:nvGrpSpPr>
            <p:grpSpPr>
              <a:xfrm>
                <a:off x="4017240" y="5132880"/>
                <a:ext cx="956160" cy="215280"/>
                <a:chOff x="4017240" y="5132880"/>
                <a:chExt cx="956160" cy="215280"/>
              </a:xfrm>
            </p:grpSpPr>
            <p:sp>
              <p:nvSpPr>
                <p:cNvPr id="2512" name=""/>
                <p:cNvSpPr/>
                <p:nvPr/>
              </p:nvSpPr>
              <p:spPr>
                <a:xfrm>
                  <a:off x="4086360" y="51328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4017240" y="51328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4" name=""/>
              <p:cNvGrpSpPr/>
              <p:nvPr/>
            </p:nvGrpSpPr>
            <p:grpSpPr>
              <a:xfrm>
                <a:off x="4973760" y="5132880"/>
                <a:ext cx="956520" cy="215280"/>
                <a:chOff x="4973760" y="5132880"/>
                <a:chExt cx="956520" cy="215280"/>
              </a:xfrm>
            </p:grpSpPr>
            <p:sp>
              <p:nvSpPr>
                <p:cNvPr id="2515" name=""/>
                <p:cNvSpPr/>
                <p:nvPr/>
              </p:nvSpPr>
              <p:spPr>
                <a:xfrm>
                  <a:off x="5043240" y="5132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4973760" y="5132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7" name=""/>
              <p:cNvGrpSpPr/>
              <p:nvPr/>
            </p:nvGrpSpPr>
            <p:grpSpPr>
              <a:xfrm>
                <a:off x="5931000" y="5132880"/>
                <a:ext cx="956160" cy="215280"/>
                <a:chOff x="5931000" y="5132880"/>
                <a:chExt cx="956160" cy="21528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6000120" y="513288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5931000" y="513288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0" name=""/>
              <p:cNvGrpSpPr/>
              <p:nvPr/>
            </p:nvGrpSpPr>
            <p:grpSpPr>
              <a:xfrm>
                <a:off x="6887880" y="5132880"/>
                <a:ext cx="956520" cy="215280"/>
                <a:chOff x="6887880" y="5132880"/>
                <a:chExt cx="956520" cy="215280"/>
              </a:xfrm>
            </p:grpSpPr>
            <p:sp>
              <p:nvSpPr>
                <p:cNvPr id="2521" name=""/>
                <p:cNvSpPr/>
                <p:nvPr/>
              </p:nvSpPr>
              <p:spPr>
                <a:xfrm>
                  <a:off x="6957360" y="513288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6887880" y="513288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3" name=""/>
              <p:cNvGrpSpPr/>
              <p:nvPr/>
            </p:nvGrpSpPr>
            <p:grpSpPr>
              <a:xfrm>
                <a:off x="1146240" y="5348160"/>
                <a:ext cx="956520" cy="215280"/>
                <a:chOff x="1146240" y="5348160"/>
                <a:chExt cx="956520" cy="21528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1215720" y="53481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1146240" y="53481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6" name=""/>
              <p:cNvGrpSpPr/>
              <p:nvPr/>
            </p:nvGrpSpPr>
            <p:grpSpPr>
              <a:xfrm>
                <a:off x="2103120" y="5348160"/>
                <a:ext cx="956160" cy="215280"/>
                <a:chOff x="2103120" y="5348160"/>
                <a:chExt cx="956160" cy="215280"/>
              </a:xfrm>
            </p:grpSpPr>
            <p:sp>
              <p:nvSpPr>
                <p:cNvPr id="2527" name=""/>
                <p:cNvSpPr/>
                <p:nvPr/>
              </p:nvSpPr>
              <p:spPr>
                <a:xfrm>
                  <a:off x="2172240" y="53481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2103120" y="53481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9" name=""/>
              <p:cNvGrpSpPr/>
              <p:nvPr/>
            </p:nvGrpSpPr>
            <p:grpSpPr>
              <a:xfrm>
                <a:off x="3060000" y="5348160"/>
                <a:ext cx="956520" cy="215280"/>
                <a:chOff x="3060000" y="5348160"/>
                <a:chExt cx="956520" cy="215280"/>
              </a:xfrm>
            </p:grpSpPr>
            <p:sp>
              <p:nvSpPr>
                <p:cNvPr id="2530" name=""/>
                <p:cNvSpPr/>
                <p:nvPr/>
              </p:nvSpPr>
              <p:spPr>
                <a:xfrm>
                  <a:off x="3129480" y="53481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3060000" y="53481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2" name=""/>
              <p:cNvGrpSpPr/>
              <p:nvPr/>
            </p:nvGrpSpPr>
            <p:grpSpPr>
              <a:xfrm>
                <a:off x="4017240" y="5348160"/>
                <a:ext cx="956160" cy="215280"/>
                <a:chOff x="4017240" y="5348160"/>
                <a:chExt cx="956160" cy="215280"/>
              </a:xfrm>
            </p:grpSpPr>
            <p:sp>
              <p:nvSpPr>
                <p:cNvPr id="2533" name=""/>
                <p:cNvSpPr/>
                <p:nvPr/>
              </p:nvSpPr>
              <p:spPr>
                <a:xfrm>
                  <a:off x="4086360" y="53481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4017240" y="53481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5" name=""/>
              <p:cNvGrpSpPr/>
              <p:nvPr/>
            </p:nvGrpSpPr>
            <p:grpSpPr>
              <a:xfrm>
                <a:off x="4973760" y="5348160"/>
                <a:ext cx="956520" cy="215280"/>
                <a:chOff x="4973760" y="5348160"/>
                <a:chExt cx="956520" cy="215280"/>
              </a:xfrm>
            </p:grpSpPr>
            <p:sp>
              <p:nvSpPr>
                <p:cNvPr id="2536" name=""/>
                <p:cNvSpPr/>
                <p:nvPr/>
              </p:nvSpPr>
              <p:spPr>
                <a:xfrm>
                  <a:off x="5043240" y="53481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4973760" y="53481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5931000" y="5348160"/>
                <a:ext cx="956160" cy="215280"/>
                <a:chOff x="5931000" y="5348160"/>
                <a:chExt cx="956160" cy="215280"/>
              </a:xfrm>
            </p:grpSpPr>
            <p:sp>
              <p:nvSpPr>
                <p:cNvPr id="2539" name=""/>
                <p:cNvSpPr/>
                <p:nvPr/>
              </p:nvSpPr>
              <p:spPr>
                <a:xfrm>
                  <a:off x="6000120" y="53481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5931000" y="53481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1" name=""/>
              <p:cNvGrpSpPr/>
              <p:nvPr/>
            </p:nvGrpSpPr>
            <p:grpSpPr>
              <a:xfrm>
                <a:off x="6887880" y="5348160"/>
                <a:ext cx="956520" cy="215280"/>
                <a:chOff x="6887880" y="5348160"/>
                <a:chExt cx="956520" cy="215280"/>
              </a:xfrm>
            </p:grpSpPr>
            <p:sp>
              <p:nvSpPr>
                <p:cNvPr id="2542" name=""/>
                <p:cNvSpPr/>
                <p:nvPr/>
              </p:nvSpPr>
              <p:spPr>
                <a:xfrm>
                  <a:off x="6957360" y="53481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6887880" y="53481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4" name=""/>
              <p:cNvGrpSpPr/>
              <p:nvPr/>
            </p:nvGrpSpPr>
            <p:grpSpPr>
              <a:xfrm>
                <a:off x="1146240" y="5563800"/>
                <a:ext cx="956520" cy="215280"/>
                <a:chOff x="1146240" y="5563800"/>
                <a:chExt cx="956520" cy="215280"/>
              </a:xfrm>
            </p:grpSpPr>
            <p:sp>
              <p:nvSpPr>
                <p:cNvPr id="2545" name=""/>
                <p:cNvSpPr/>
                <p:nvPr/>
              </p:nvSpPr>
              <p:spPr>
                <a:xfrm>
                  <a:off x="1215720" y="5563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1146240" y="5563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7" name=""/>
              <p:cNvGrpSpPr/>
              <p:nvPr/>
            </p:nvGrpSpPr>
            <p:grpSpPr>
              <a:xfrm>
                <a:off x="2103120" y="5563800"/>
                <a:ext cx="956160" cy="215280"/>
                <a:chOff x="2103120" y="5563800"/>
                <a:chExt cx="956160" cy="215280"/>
              </a:xfrm>
            </p:grpSpPr>
            <p:sp>
              <p:nvSpPr>
                <p:cNvPr id="2548" name=""/>
                <p:cNvSpPr/>
                <p:nvPr/>
              </p:nvSpPr>
              <p:spPr>
                <a:xfrm>
                  <a:off x="2172240" y="5563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2103120" y="55638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0" name=""/>
              <p:cNvGrpSpPr/>
              <p:nvPr/>
            </p:nvGrpSpPr>
            <p:grpSpPr>
              <a:xfrm>
                <a:off x="3060000" y="5563800"/>
                <a:ext cx="956520" cy="215280"/>
                <a:chOff x="3060000" y="5563800"/>
                <a:chExt cx="956520" cy="215280"/>
              </a:xfrm>
            </p:grpSpPr>
            <p:sp>
              <p:nvSpPr>
                <p:cNvPr id="2551" name=""/>
                <p:cNvSpPr/>
                <p:nvPr/>
              </p:nvSpPr>
              <p:spPr>
                <a:xfrm>
                  <a:off x="3129480" y="5563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3060000" y="5563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3" name=""/>
              <p:cNvGrpSpPr/>
              <p:nvPr/>
            </p:nvGrpSpPr>
            <p:grpSpPr>
              <a:xfrm>
                <a:off x="4017240" y="5563800"/>
                <a:ext cx="956160" cy="215280"/>
                <a:chOff x="4017240" y="5563800"/>
                <a:chExt cx="956160" cy="21528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4086360" y="55638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4017240" y="55638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4973760" y="5563800"/>
                <a:ext cx="956520" cy="215280"/>
                <a:chOff x="4973760" y="5563800"/>
                <a:chExt cx="956520" cy="21528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5043240" y="5563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4973760" y="5563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5931000" y="5563800"/>
                <a:ext cx="956160" cy="215280"/>
                <a:chOff x="5931000" y="5563800"/>
                <a:chExt cx="956160" cy="21528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6000120" y="55638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5931000" y="55638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6887880" y="5563800"/>
                <a:ext cx="956520" cy="215280"/>
                <a:chOff x="6887880" y="5563800"/>
                <a:chExt cx="956520" cy="21528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6957360" y="55638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6887880" y="55638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1146240" y="5779440"/>
                <a:ext cx="956520" cy="215280"/>
                <a:chOff x="1146240" y="5779440"/>
                <a:chExt cx="956520" cy="21528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1215720" y="5779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1146240" y="5779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2103120" y="5779440"/>
                <a:ext cx="956160" cy="215280"/>
                <a:chOff x="2103120" y="5779440"/>
                <a:chExt cx="956160" cy="21528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2172240" y="5779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2103120" y="57794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3060000" y="5779440"/>
                <a:ext cx="956520" cy="215280"/>
                <a:chOff x="3060000" y="5779440"/>
                <a:chExt cx="956520" cy="21528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3129480" y="5779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3060000" y="5779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4017240" y="5779440"/>
                <a:ext cx="956160" cy="215280"/>
                <a:chOff x="4017240" y="5779440"/>
                <a:chExt cx="956160" cy="21528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4086360" y="57794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4017240" y="57794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7" name=""/>
              <p:cNvGrpSpPr/>
              <p:nvPr/>
            </p:nvGrpSpPr>
            <p:grpSpPr>
              <a:xfrm>
                <a:off x="4973760" y="5779440"/>
                <a:ext cx="956520" cy="215280"/>
                <a:chOff x="4973760" y="5779440"/>
                <a:chExt cx="956520" cy="215280"/>
              </a:xfrm>
            </p:grpSpPr>
            <p:sp>
              <p:nvSpPr>
                <p:cNvPr id="2578" name=""/>
                <p:cNvSpPr/>
                <p:nvPr/>
              </p:nvSpPr>
              <p:spPr>
                <a:xfrm>
                  <a:off x="5043240" y="5779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4973760" y="5779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0" name=""/>
              <p:cNvGrpSpPr/>
              <p:nvPr/>
            </p:nvGrpSpPr>
            <p:grpSpPr>
              <a:xfrm>
                <a:off x="5931000" y="5779440"/>
                <a:ext cx="956160" cy="215280"/>
                <a:chOff x="5931000" y="5779440"/>
                <a:chExt cx="956160" cy="215280"/>
              </a:xfrm>
            </p:grpSpPr>
            <p:sp>
              <p:nvSpPr>
                <p:cNvPr id="2581" name=""/>
                <p:cNvSpPr/>
                <p:nvPr/>
              </p:nvSpPr>
              <p:spPr>
                <a:xfrm>
                  <a:off x="6000120" y="57794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5931000" y="57794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3" name=""/>
              <p:cNvGrpSpPr/>
              <p:nvPr/>
            </p:nvGrpSpPr>
            <p:grpSpPr>
              <a:xfrm>
                <a:off x="6887880" y="5779440"/>
                <a:ext cx="956520" cy="215280"/>
                <a:chOff x="6887880" y="5779440"/>
                <a:chExt cx="956520" cy="215280"/>
              </a:xfrm>
            </p:grpSpPr>
            <p:sp>
              <p:nvSpPr>
                <p:cNvPr id="2584" name=""/>
                <p:cNvSpPr/>
                <p:nvPr/>
              </p:nvSpPr>
              <p:spPr>
                <a:xfrm>
                  <a:off x="6957360" y="57794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887880" y="57794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6" name=""/>
              <p:cNvGrpSpPr/>
              <p:nvPr/>
            </p:nvGrpSpPr>
            <p:grpSpPr>
              <a:xfrm>
                <a:off x="1146240" y="5994720"/>
                <a:ext cx="956520" cy="215280"/>
                <a:chOff x="1146240" y="5994720"/>
                <a:chExt cx="956520" cy="215280"/>
              </a:xfrm>
            </p:grpSpPr>
            <p:sp>
              <p:nvSpPr>
                <p:cNvPr id="2587" name=""/>
                <p:cNvSpPr/>
                <p:nvPr/>
              </p:nvSpPr>
              <p:spPr>
                <a:xfrm>
                  <a:off x="1215720" y="59947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1146240" y="59947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9" name=""/>
              <p:cNvGrpSpPr/>
              <p:nvPr/>
            </p:nvGrpSpPr>
            <p:grpSpPr>
              <a:xfrm>
                <a:off x="2103120" y="5994720"/>
                <a:ext cx="956160" cy="215280"/>
                <a:chOff x="2103120" y="5994720"/>
                <a:chExt cx="956160" cy="215280"/>
              </a:xfrm>
            </p:grpSpPr>
            <p:sp>
              <p:nvSpPr>
                <p:cNvPr id="2590" name=""/>
                <p:cNvSpPr/>
                <p:nvPr/>
              </p:nvSpPr>
              <p:spPr>
                <a:xfrm>
                  <a:off x="2172240" y="59947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2103120" y="59947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2" name=""/>
              <p:cNvGrpSpPr/>
              <p:nvPr/>
            </p:nvGrpSpPr>
            <p:grpSpPr>
              <a:xfrm>
                <a:off x="3060000" y="5994720"/>
                <a:ext cx="956520" cy="215280"/>
                <a:chOff x="3060000" y="5994720"/>
                <a:chExt cx="956520" cy="215280"/>
              </a:xfrm>
            </p:grpSpPr>
            <p:sp>
              <p:nvSpPr>
                <p:cNvPr id="2593" name=""/>
                <p:cNvSpPr/>
                <p:nvPr/>
              </p:nvSpPr>
              <p:spPr>
                <a:xfrm>
                  <a:off x="3129480" y="59947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3060000" y="59947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4017240" y="5994720"/>
                <a:ext cx="956160" cy="215280"/>
                <a:chOff x="4017240" y="5994720"/>
                <a:chExt cx="956160" cy="21528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4086360" y="59947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4017240" y="59947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8" name=""/>
              <p:cNvGrpSpPr/>
              <p:nvPr/>
            </p:nvGrpSpPr>
            <p:grpSpPr>
              <a:xfrm>
                <a:off x="4973760" y="5994720"/>
                <a:ext cx="956520" cy="215280"/>
                <a:chOff x="4973760" y="5994720"/>
                <a:chExt cx="956520" cy="215280"/>
              </a:xfrm>
            </p:grpSpPr>
            <p:sp>
              <p:nvSpPr>
                <p:cNvPr id="2599" name=""/>
                <p:cNvSpPr/>
                <p:nvPr/>
              </p:nvSpPr>
              <p:spPr>
                <a:xfrm>
                  <a:off x="5043240" y="59947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4973760" y="59947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1" name=""/>
              <p:cNvGrpSpPr/>
              <p:nvPr/>
            </p:nvGrpSpPr>
            <p:grpSpPr>
              <a:xfrm>
                <a:off x="5931000" y="5994720"/>
                <a:ext cx="956160" cy="215280"/>
                <a:chOff x="5931000" y="5994720"/>
                <a:chExt cx="956160" cy="215280"/>
              </a:xfrm>
            </p:grpSpPr>
            <p:sp>
              <p:nvSpPr>
                <p:cNvPr id="2602" name=""/>
                <p:cNvSpPr/>
                <p:nvPr/>
              </p:nvSpPr>
              <p:spPr>
                <a:xfrm>
                  <a:off x="6000120" y="599472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5931000" y="599472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4" name=""/>
              <p:cNvGrpSpPr/>
              <p:nvPr/>
            </p:nvGrpSpPr>
            <p:grpSpPr>
              <a:xfrm>
                <a:off x="6887880" y="5994720"/>
                <a:ext cx="956520" cy="215280"/>
                <a:chOff x="6887880" y="5994720"/>
                <a:chExt cx="956520" cy="215280"/>
              </a:xfrm>
            </p:grpSpPr>
            <p:sp>
              <p:nvSpPr>
                <p:cNvPr id="2605" name=""/>
                <p:cNvSpPr/>
                <p:nvPr/>
              </p:nvSpPr>
              <p:spPr>
                <a:xfrm>
                  <a:off x="6957360" y="599472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887880" y="599472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7" name=""/>
              <p:cNvGrpSpPr/>
              <p:nvPr/>
            </p:nvGrpSpPr>
            <p:grpSpPr>
              <a:xfrm>
                <a:off x="1146240" y="6210360"/>
                <a:ext cx="956520" cy="215280"/>
                <a:chOff x="1146240" y="6210360"/>
                <a:chExt cx="956520" cy="215280"/>
              </a:xfrm>
            </p:grpSpPr>
            <p:sp>
              <p:nvSpPr>
                <p:cNvPr id="2608" name=""/>
                <p:cNvSpPr/>
                <p:nvPr/>
              </p:nvSpPr>
              <p:spPr>
                <a:xfrm>
                  <a:off x="1215720" y="6210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1146240" y="6210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0" name=""/>
              <p:cNvGrpSpPr/>
              <p:nvPr/>
            </p:nvGrpSpPr>
            <p:grpSpPr>
              <a:xfrm>
                <a:off x="2103120" y="6210360"/>
                <a:ext cx="956160" cy="215280"/>
                <a:chOff x="2103120" y="6210360"/>
                <a:chExt cx="956160" cy="215280"/>
              </a:xfrm>
            </p:grpSpPr>
            <p:sp>
              <p:nvSpPr>
                <p:cNvPr id="2611" name=""/>
                <p:cNvSpPr/>
                <p:nvPr/>
              </p:nvSpPr>
              <p:spPr>
                <a:xfrm>
                  <a:off x="2172240" y="6210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2103120" y="62103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3" name=""/>
              <p:cNvGrpSpPr/>
              <p:nvPr/>
            </p:nvGrpSpPr>
            <p:grpSpPr>
              <a:xfrm>
                <a:off x="3060000" y="6210360"/>
                <a:ext cx="956520" cy="215280"/>
                <a:chOff x="3060000" y="6210360"/>
                <a:chExt cx="956520" cy="215280"/>
              </a:xfrm>
            </p:grpSpPr>
            <p:sp>
              <p:nvSpPr>
                <p:cNvPr id="2614" name=""/>
                <p:cNvSpPr/>
                <p:nvPr/>
              </p:nvSpPr>
              <p:spPr>
                <a:xfrm>
                  <a:off x="3129480" y="6210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3060000" y="6210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6" name=""/>
              <p:cNvGrpSpPr/>
              <p:nvPr/>
            </p:nvGrpSpPr>
            <p:grpSpPr>
              <a:xfrm>
                <a:off x="4017240" y="6210360"/>
                <a:ext cx="956160" cy="215280"/>
                <a:chOff x="4017240" y="6210360"/>
                <a:chExt cx="956160" cy="215280"/>
              </a:xfrm>
            </p:grpSpPr>
            <p:sp>
              <p:nvSpPr>
                <p:cNvPr id="2617" name=""/>
                <p:cNvSpPr/>
                <p:nvPr/>
              </p:nvSpPr>
              <p:spPr>
                <a:xfrm>
                  <a:off x="4086360" y="62103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4017240" y="62103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9" name=""/>
              <p:cNvGrpSpPr/>
              <p:nvPr/>
            </p:nvGrpSpPr>
            <p:grpSpPr>
              <a:xfrm>
                <a:off x="4973760" y="6210360"/>
                <a:ext cx="956520" cy="215280"/>
                <a:chOff x="4973760" y="6210360"/>
                <a:chExt cx="956520" cy="215280"/>
              </a:xfrm>
            </p:grpSpPr>
            <p:sp>
              <p:nvSpPr>
                <p:cNvPr id="2620" name=""/>
                <p:cNvSpPr/>
                <p:nvPr/>
              </p:nvSpPr>
              <p:spPr>
                <a:xfrm>
                  <a:off x="5043240" y="6210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4973760" y="6210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2" name=""/>
              <p:cNvGrpSpPr/>
              <p:nvPr/>
            </p:nvGrpSpPr>
            <p:grpSpPr>
              <a:xfrm>
                <a:off x="5931000" y="6210360"/>
                <a:ext cx="956160" cy="215280"/>
                <a:chOff x="5931000" y="6210360"/>
                <a:chExt cx="956160" cy="215280"/>
              </a:xfrm>
            </p:grpSpPr>
            <p:sp>
              <p:nvSpPr>
                <p:cNvPr id="2623" name=""/>
                <p:cNvSpPr/>
                <p:nvPr/>
              </p:nvSpPr>
              <p:spPr>
                <a:xfrm>
                  <a:off x="6000120" y="621036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5931000" y="621036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6887880" y="6210360"/>
                <a:ext cx="956520" cy="215280"/>
                <a:chOff x="6887880" y="6210360"/>
                <a:chExt cx="956520" cy="21528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6957360" y="621036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887880" y="621036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8" name=""/>
              <p:cNvGrpSpPr/>
              <p:nvPr/>
            </p:nvGrpSpPr>
            <p:grpSpPr>
              <a:xfrm>
                <a:off x="1146240" y="6426000"/>
                <a:ext cx="956520" cy="215280"/>
                <a:chOff x="1146240" y="6426000"/>
                <a:chExt cx="956520" cy="21528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1215720" y="6426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1146240" y="6426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2103120" y="6426000"/>
                <a:ext cx="956160" cy="215280"/>
                <a:chOff x="2103120" y="6426000"/>
                <a:chExt cx="956160" cy="21528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2172240" y="6426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2103120" y="64260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3060000" y="6426000"/>
                <a:ext cx="956520" cy="215280"/>
                <a:chOff x="3060000" y="6426000"/>
                <a:chExt cx="956520" cy="21528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3129480" y="6426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3060000" y="6426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4017240" y="6426000"/>
                <a:ext cx="956160" cy="215280"/>
                <a:chOff x="4017240" y="6426000"/>
                <a:chExt cx="956160" cy="21528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4086360" y="64260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4017240" y="64260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4973760" y="6426000"/>
                <a:ext cx="956520" cy="215280"/>
                <a:chOff x="4973760" y="6426000"/>
                <a:chExt cx="956520" cy="21528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043240" y="6426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4973760" y="6426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5931000" y="6426000"/>
                <a:ext cx="956160" cy="215280"/>
                <a:chOff x="5931000" y="6426000"/>
                <a:chExt cx="956160" cy="21528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000120" y="642600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5931000" y="642600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6887880" y="6426000"/>
                <a:ext cx="956520" cy="215280"/>
                <a:chOff x="6887880" y="6426000"/>
                <a:chExt cx="956520" cy="21528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6957360" y="642600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6887880" y="642600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1146240" y="6641640"/>
                <a:ext cx="956520" cy="215280"/>
                <a:chOff x="1146240" y="6641640"/>
                <a:chExt cx="956520" cy="21528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1215720" y="6641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1146240" y="6641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2" name=""/>
              <p:cNvGrpSpPr/>
              <p:nvPr/>
            </p:nvGrpSpPr>
            <p:grpSpPr>
              <a:xfrm>
                <a:off x="2103120" y="6641640"/>
                <a:ext cx="956160" cy="215280"/>
                <a:chOff x="2103120" y="6641640"/>
                <a:chExt cx="956160" cy="215280"/>
              </a:xfrm>
            </p:grpSpPr>
            <p:sp>
              <p:nvSpPr>
                <p:cNvPr id="2653" name=""/>
                <p:cNvSpPr/>
                <p:nvPr/>
              </p:nvSpPr>
              <p:spPr>
                <a:xfrm>
                  <a:off x="2172240" y="6641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2103120" y="66416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5" name=""/>
              <p:cNvGrpSpPr/>
              <p:nvPr/>
            </p:nvGrpSpPr>
            <p:grpSpPr>
              <a:xfrm>
                <a:off x="3060000" y="6641640"/>
                <a:ext cx="956520" cy="215280"/>
                <a:chOff x="3060000" y="6641640"/>
                <a:chExt cx="956520" cy="215280"/>
              </a:xfrm>
            </p:grpSpPr>
            <p:sp>
              <p:nvSpPr>
                <p:cNvPr id="2656" name=""/>
                <p:cNvSpPr/>
                <p:nvPr/>
              </p:nvSpPr>
              <p:spPr>
                <a:xfrm>
                  <a:off x="3129480" y="6641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3060000" y="6641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8" name=""/>
              <p:cNvGrpSpPr/>
              <p:nvPr/>
            </p:nvGrpSpPr>
            <p:grpSpPr>
              <a:xfrm>
                <a:off x="4017240" y="6641640"/>
                <a:ext cx="956160" cy="215280"/>
                <a:chOff x="4017240" y="6641640"/>
                <a:chExt cx="956160" cy="215280"/>
              </a:xfrm>
            </p:grpSpPr>
            <p:sp>
              <p:nvSpPr>
                <p:cNvPr id="2659" name=""/>
                <p:cNvSpPr/>
                <p:nvPr/>
              </p:nvSpPr>
              <p:spPr>
                <a:xfrm>
                  <a:off x="4086360" y="66416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4017240" y="66416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1" name=""/>
              <p:cNvGrpSpPr/>
              <p:nvPr/>
            </p:nvGrpSpPr>
            <p:grpSpPr>
              <a:xfrm>
                <a:off x="4973760" y="6641640"/>
                <a:ext cx="956520" cy="215280"/>
                <a:chOff x="4973760" y="6641640"/>
                <a:chExt cx="956520" cy="215280"/>
              </a:xfrm>
            </p:grpSpPr>
            <p:sp>
              <p:nvSpPr>
                <p:cNvPr id="2662" name=""/>
                <p:cNvSpPr/>
                <p:nvPr/>
              </p:nvSpPr>
              <p:spPr>
                <a:xfrm>
                  <a:off x="5043240" y="6641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4973760" y="6641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4" name=""/>
              <p:cNvGrpSpPr/>
              <p:nvPr/>
            </p:nvGrpSpPr>
            <p:grpSpPr>
              <a:xfrm>
                <a:off x="5931000" y="6641640"/>
                <a:ext cx="956160" cy="215280"/>
                <a:chOff x="5931000" y="6641640"/>
                <a:chExt cx="956160" cy="215280"/>
              </a:xfrm>
            </p:grpSpPr>
            <p:sp>
              <p:nvSpPr>
                <p:cNvPr id="2665" name=""/>
                <p:cNvSpPr/>
                <p:nvPr/>
              </p:nvSpPr>
              <p:spPr>
                <a:xfrm>
                  <a:off x="6000120" y="6641640"/>
                  <a:ext cx="81792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5931000" y="6641640"/>
                  <a:ext cx="95616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7" name=""/>
              <p:cNvGrpSpPr/>
              <p:nvPr/>
            </p:nvGrpSpPr>
            <p:grpSpPr>
              <a:xfrm>
                <a:off x="6887880" y="6641640"/>
                <a:ext cx="956520" cy="215280"/>
                <a:chOff x="6887880" y="6641640"/>
                <a:chExt cx="956520" cy="215280"/>
              </a:xfrm>
            </p:grpSpPr>
            <p:sp>
              <p:nvSpPr>
                <p:cNvPr id="2668" name=""/>
                <p:cNvSpPr/>
                <p:nvPr/>
              </p:nvSpPr>
              <p:spPr>
                <a:xfrm>
                  <a:off x="6957360" y="6641640"/>
                  <a:ext cx="817560" cy="2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6887880" y="6641640"/>
                  <a:ext cx="956520" cy="21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70" name=""/>
            <p:cNvSpPr/>
            <p:nvPr/>
          </p:nvSpPr>
          <p:spPr>
            <a:xfrm>
              <a:off x="1143000" y="0"/>
              <a:ext cx="6705360" cy="6858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1" name=""/>
          <p:cNvSpPr/>
          <p:nvPr/>
        </p:nvSpPr>
        <p:spPr>
          <a:xfrm>
            <a:off x="0" y="13258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"/>
          <p:cNvSpPr txBox="1"/>
          <p:nvPr/>
        </p:nvSpPr>
        <p:spPr>
          <a:xfrm>
            <a:off x="2057400" y="685800"/>
            <a:ext cx="4809960" cy="50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Observed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Vs. 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Frequency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2673" name=""/>
          <p:cNvGrpSpPr/>
          <p:nvPr/>
        </p:nvGrpSpPr>
        <p:grpSpPr>
          <a:xfrm>
            <a:off x="2209680" y="0"/>
            <a:ext cx="4647960" cy="6858000"/>
            <a:chOff x="2209680" y="0"/>
            <a:chExt cx="4647960" cy="6858000"/>
          </a:xfrm>
        </p:grpSpPr>
        <p:grpSp>
          <p:nvGrpSpPr>
            <p:cNvPr id="2674" name=""/>
            <p:cNvGrpSpPr/>
            <p:nvPr/>
          </p:nvGrpSpPr>
          <p:grpSpPr>
            <a:xfrm>
              <a:off x="2214000" y="1080"/>
              <a:ext cx="4638600" cy="6855840"/>
              <a:chOff x="2214000" y="1080"/>
              <a:chExt cx="4638600" cy="6855840"/>
            </a:xfrm>
          </p:grpSpPr>
          <p:grpSp>
            <p:nvGrpSpPr>
              <p:cNvPr id="2675" name=""/>
              <p:cNvGrpSpPr/>
              <p:nvPr/>
            </p:nvGrpSpPr>
            <p:grpSpPr>
              <a:xfrm>
                <a:off x="2214000" y="1080"/>
                <a:ext cx="889920" cy="331200"/>
                <a:chOff x="2214000" y="1080"/>
                <a:chExt cx="889920" cy="331200"/>
              </a:xfrm>
            </p:grpSpPr>
            <p:sp>
              <p:nvSpPr>
                <p:cNvPr id="2676" name=""/>
                <p:cNvSpPr/>
                <p:nvPr/>
              </p:nvSpPr>
              <p:spPr>
                <a:xfrm>
                  <a:off x="2305800" y="1080"/>
                  <a:ext cx="70596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2214000" y="1080"/>
                  <a:ext cx="88992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8" name=""/>
              <p:cNvGrpSpPr/>
              <p:nvPr/>
            </p:nvGrpSpPr>
            <p:grpSpPr>
              <a:xfrm>
                <a:off x="3104280" y="1080"/>
                <a:ext cx="1874160" cy="331200"/>
                <a:chOff x="3104280" y="1080"/>
                <a:chExt cx="1874160" cy="33120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3195720" y="1080"/>
                  <a:ext cx="169092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xpected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3104280" y="1080"/>
                  <a:ext cx="187416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4978800" y="1080"/>
                <a:ext cx="1873800" cy="331200"/>
                <a:chOff x="4978800" y="1080"/>
                <a:chExt cx="1873800" cy="33120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5070240" y="1080"/>
                  <a:ext cx="169092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served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4978800" y="1080"/>
                  <a:ext cx="187380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2214000" y="332280"/>
                <a:ext cx="889920" cy="217440"/>
                <a:chOff x="2214000" y="332280"/>
                <a:chExt cx="889920" cy="21744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2305800" y="33228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2214000" y="33228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3104280" y="332280"/>
                <a:ext cx="1874160" cy="217440"/>
                <a:chOff x="3104280" y="332280"/>
                <a:chExt cx="1874160" cy="21744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3195720" y="332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3104280" y="33228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4978800" y="332280"/>
                <a:ext cx="1873800" cy="217440"/>
                <a:chOff x="4978800" y="332280"/>
                <a:chExt cx="1873800" cy="21744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070240" y="332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4978800" y="33228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2214000" y="549720"/>
                <a:ext cx="889920" cy="217440"/>
                <a:chOff x="2214000" y="549720"/>
                <a:chExt cx="889920" cy="21744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2305800" y="54972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2214000" y="54972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3104280" y="549720"/>
                <a:ext cx="1874160" cy="217440"/>
                <a:chOff x="3104280" y="549720"/>
                <a:chExt cx="1874160" cy="21744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3195720" y="549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36563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3104280" y="54972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4978800" y="549720"/>
                <a:ext cx="1873800" cy="217440"/>
                <a:chOff x="4978800" y="549720"/>
                <a:chExt cx="1873800" cy="21744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070240" y="549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4978800" y="54972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2" name=""/>
              <p:cNvGrpSpPr/>
              <p:nvPr/>
            </p:nvGrpSpPr>
            <p:grpSpPr>
              <a:xfrm>
                <a:off x="2214000" y="767160"/>
                <a:ext cx="889920" cy="217440"/>
                <a:chOff x="2214000" y="767160"/>
                <a:chExt cx="889920" cy="217440"/>
              </a:xfrm>
            </p:grpSpPr>
            <p:sp>
              <p:nvSpPr>
                <p:cNvPr id="2703" name=""/>
                <p:cNvSpPr/>
                <p:nvPr/>
              </p:nvSpPr>
              <p:spPr>
                <a:xfrm>
                  <a:off x="2305800" y="76716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2214000" y="76716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5" name=""/>
              <p:cNvGrpSpPr/>
              <p:nvPr/>
            </p:nvGrpSpPr>
            <p:grpSpPr>
              <a:xfrm>
                <a:off x="3104280" y="767160"/>
                <a:ext cx="1874160" cy="217440"/>
                <a:chOff x="3104280" y="767160"/>
                <a:chExt cx="1874160" cy="217440"/>
              </a:xfrm>
            </p:grpSpPr>
            <p:sp>
              <p:nvSpPr>
                <p:cNvPr id="2706" name=""/>
                <p:cNvSpPr/>
                <p:nvPr/>
              </p:nvSpPr>
              <p:spPr>
                <a:xfrm>
                  <a:off x="3195720" y="767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96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3104280" y="76716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4978800" y="767160"/>
                <a:ext cx="1873800" cy="217440"/>
                <a:chOff x="4978800" y="767160"/>
                <a:chExt cx="1873800" cy="21744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5070240" y="767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4978800" y="76716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1" name=""/>
              <p:cNvGrpSpPr/>
              <p:nvPr/>
            </p:nvGrpSpPr>
            <p:grpSpPr>
              <a:xfrm>
                <a:off x="2214000" y="984600"/>
                <a:ext cx="889920" cy="217440"/>
                <a:chOff x="2214000" y="984600"/>
                <a:chExt cx="889920" cy="217440"/>
              </a:xfrm>
            </p:grpSpPr>
            <p:sp>
              <p:nvSpPr>
                <p:cNvPr id="2712" name=""/>
                <p:cNvSpPr/>
                <p:nvPr/>
              </p:nvSpPr>
              <p:spPr>
                <a:xfrm>
                  <a:off x="2305800" y="98460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2214000" y="98460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4" name=""/>
              <p:cNvGrpSpPr/>
              <p:nvPr/>
            </p:nvGrpSpPr>
            <p:grpSpPr>
              <a:xfrm>
                <a:off x="3104280" y="984600"/>
                <a:ext cx="1874160" cy="217440"/>
                <a:chOff x="3104280" y="984600"/>
                <a:chExt cx="1874160" cy="217440"/>
              </a:xfrm>
            </p:grpSpPr>
            <p:sp>
              <p:nvSpPr>
                <p:cNvPr id="2715" name=""/>
                <p:cNvSpPr/>
                <p:nvPr/>
              </p:nvSpPr>
              <p:spPr>
                <a:xfrm>
                  <a:off x="3195720" y="984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3104280" y="98460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7" name=""/>
              <p:cNvGrpSpPr/>
              <p:nvPr/>
            </p:nvGrpSpPr>
            <p:grpSpPr>
              <a:xfrm>
                <a:off x="4978800" y="984600"/>
                <a:ext cx="1873800" cy="217440"/>
                <a:chOff x="4978800" y="984600"/>
                <a:chExt cx="1873800" cy="217440"/>
              </a:xfrm>
            </p:grpSpPr>
            <p:sp>
              <p:nvSpPr>
                <p:cNvPr id="2718" name=""/>
                <p:cNvSpPr/>
                <p:nvPr/>
              </p:nvSpPr>
              <p:spPr>
                <a:xfrm>
                  <a:off x="5070240" y="984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4978800" y="98460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0" name=""/>
              <p:cNvGrpSpPr/>
              <p:nvPr/>
            </p:nvGrpSpPr>
            <p:grpSpPr>
              <a:xfrm>
                <a:off x="2214000" y="1202400"/>
                <a:ext cx="889920" cy="217440"/>
                <a:chOff x="2214000" y="1202400"/>
                <a:chExt cx="889920" cy="217440"/>
              </a:xfrm>
            </p:grpSpPr>
            <p:sp>
              <p:nvSpPr>
                <p:cNvPr id="2721" name=""/>
                <p:cNvSpPr/>
                <p:nvPr/>
              </p:nvSpPr>
              <p:spPr>
                <a:xfrm>
                  <a:off x="2305800" y="120240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2214000" y="120240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3" name=""/>
              <p:cNvGrpSpPr/>
              <p:nvPr/>
            </p:nvGrpSpPr>
            <p:grpSpPr>
              <a:xfrm>
                <a:off x="3104280" y="1202400"/>
                <a:ext cx="1874160" cy="217440"/>
                <a:chOff x="3104280" y="1202400"/>
                <a:chExt cx="1874160" cy="217440"/>
              </a:xfrm>
            </p:grpSpPr>
            <p:sp>
              <p:nvSpPr>
                <p:cNvPr id="2724" name=""/>
                <p:cNvSpPr/>
                <p:nvPr/>
              </p:nvSpPr>
              <p:spPr>
                <a:xfrm>
                  <a:off x="3195720" y="12024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46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3104280" y="120240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6" name=""/>
              <p:cNvGrpSpPr/>
              <p:nvPr/>
            </p:nvGrpSpPr>
            <p:grpSpPr>
              <a:xfrm>
                <a:off x="4978800" y="1202400"/>
                <a:ext cx="1873800" cy="217440"/>
                <a:chOff x="4978800" y="1202400"/>
                <a:chExt cx="1873800" cy="217440"/>
              </a:xfrm>
            </p:grpSpPr>
            <p:sp>
              <p:nvSpPr>
                <p:cNvPr id="2727" name=""/>
                <p:cNvSpPr/>
                <p:nvPr/>
              </p:nvSpPr>
              <p:spPr>
                <a:xfrm>
                  <a:off x="5070240" y="12024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4978800" y="120240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9" name=""/>
              <p:cNvGrpSpPr/>
              <p:nvPr/>
            </p:nvGrpSpPr>
            <p:grpSpPr>
              <a:xfrm>
                <a:off x="2214000" y="1419840"/>
                <a:ext cx="889920" cy="217440"/>
                <a:chOff x="2214000" y="1419840"/>
                <a:chExt cx="889920" cy="217440"/>
              </a:xfrm>
            </p:grpSpPr>
            <p:sp>
              <p:nvSpPr>
                <p:cNvPr id="2730" name=""/>
                <p:cNvSpPr/>
                <p:nvPr/>
              </p:nvSpPr>
              <p:spPr>
                <a:xfrm>
                  <a:off x="2305800" y="14198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2214000" y="14198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2" name=""/>
              <p:cNvGrpSpPr/>
              <p:nvPr/>
            </p:nvGrpSpPr>
            <p:grpSpPr>
              <a:xfrm>
                <a:off x="3104280" y="1419840"/>
                <a:ext cx="1874160" cy="217440"/>
                <a:chOff x="3104280" y="1419840"/>
                <a:chExt cx="1874160" cy="21744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3195720" y="14198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3104280" y="14198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5" name=""/>
              <p:cNvGrpSpPr/>
              <p:nvPr/>
            </p:nvGrpSpPr>
            <p:grpSpPr>
              <a:xfrm>
                <a:off x="4978800" y="1419840"/>
                <a:ext cx="1873800" cy="217440"/>
                <a:chOff x="4978800" y="1419840"/>
                <a:chExt cx="1873800" cy="217440"/>
              </a:xfrm>
            </p:grpSpPr>
            <p:sp>
              <p:nvSpPr>
                <p:cNvPr id="2736" name=""/>
                <p:cNvSpPr/>
                <p:nvPr/>
              </p:nvSpPr>
              <p:spPr>
                <a:xfrm>
                  <a:off x="5070240" y="14198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4978800" y="14198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8" name=""/>
              <p:cNvGrpSpPr/>
              <p:nvPr/>
            </p:nvGrpSpPr>
            <p:grpSpPr>
              <a:xfrm>
                <a:off x="2214000" y="1637280"/>
                <a:ext cx="889920" cy="217440"/>
                <a:chOff x="2214000" y="1637280"/>
                <a:chExt cx="889920" cy="21744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2305800" y="163728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2214000" y="163728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1" name=""/>
              <p:cNvGrpSpPr/>
              <p:nvPr/>
            </p:nvGrpSpPr>
            <p:grpSpPr>
              <a:xfrm>
                <a:off x="3104280" y="1637280"/>
                <a:ext cx="1874160" cy="217440"/>
                <a:chOff x="3104280" y="1637280"/>
                <a:chExt cx="1874160" cy="217440"/>
              </a:xfrm>
            </p:grpSpPr>
            <p:sp>
              <p:nvSpPr>
                <p:cNvPr id="2742" name=""/>
                <p:cNvSpPr/>
                <p:nvPr/>
              </p:nvSpPr>
              <p:spPr>
                <a:xfrm>
                  <a:off x="3195720" y="1637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0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3104280" y="163728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4" name=""/>
              <p:cNvGrpSpPr/>
              <p:nvPr/>
            </p:nvGrpSpPr>
            <p:grpSpPr>
              <a:xfrm>
                <a:off x="4978800" y="1637280"/>
                <a:ext cx="1873800" cy="217440"/>
                <a:chOff x="4978800" y="1637280"/>
                <a:chExt cx="1873800" cy="217440"/>
              </a:xfrm>
            </p:grpSpPr>
            <p:sp>
              <p:nvSpPr>
                <p:cNvPr id="2745" name=""/>
                <p:cNvSpPr/>
                <p:nvPr/>
              </p:nvSpPr>
              <p:spPr>
                <a:xfrm>
                  <a:off x="5070240" y="1637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4978800" y="163728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7" name=""/>
              <p:cNvGrpSpPr/>
              <p:nvPr/>
            </p:nvGrpSpPr>
            <p:grpSpPr>
              <a:xfrm>
                <a:off x="2214000" y="1854720"/>
                <a:ext cx="889920" cy="217440"/>
                <a:chOff x="2214000" y="1854720"/>
                <a:chExt cx="889920" cy="217440"/>
              </a:xfrm>
            </p:grpSpPr>
            <p:sp>
              <p:nvSpPr>
                <p:cNvPr id="2748" name=""/>
                <p:cNvSpPr/>
                <p:nvPr/>
              </p:nvSpPr>
              <p:spPr>
                <a:xfrm>
                  <a:off x="2305800" y="185472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2214000" y="185472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0" name=""/>
              <p:cNvGrpSpPr/>
              <p:nvPr/>
            </p:nvGrpSpPr>
            <p:grpSpPr>
              <a:xfrm>
                <a:off x="3104280" y="1854720"/>
                <a:ext cx="1874160" cy="217440"/>
                <a:chOff x="3104280" y="1854720"/>
                <a:chExt cx="1874160" cy="217440"/>
              </a:xfrm>
            </p:grpSpPr>
            <p:sp>
              <p:nvSpPr>
                <p:cNvPr id="2751" name=""/>
                <p:cNvSpPr/>
                <p:nvPr/>
              </p:nvSpPr>
              <p:spPr>
                <a:xfrm>
                  <a:off x="3195720" y="1854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3104280" y="185472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3" name=""/>
              <p:cNvGrpSpPr/>
              <p:nvPr/>
            </p:nvGrpSpPr>
            <p:grpSpPr>
              <a:xfrm>
                <a:off x="4978800" y="1854720"/>
                <a:ext cx="1873800" cy="217440"/>
                <a:chOff x="4978800" y="1854720"/>
                <a:chExt cx="1873800" cy="217440"/>
              </a:xfrm>
            </p:grpSpPr>
            <p:sp>
              <p:nvSpPr>
                <p:cNvPr id="2754" name=""/>
                <p:cNvSpPr/>
                <p:nvPr/>
              </p:nvSpPr>
              <p:spPr>
                <a:xfrm>
                  <a:off x="5070240" y="1854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4978800" y="185472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6" name=""/>
              <p:cNvGrpSpPr/>
              <p:nvPr/>
            </p:nvGrpSpPr>
            <p:grpSpPr>
              <a:xfrm>
                <a:off x="2214000" y="2072160"/>
                <a:ext cx="889920" cy="217440"/>
                <a:chOff x="2214000" y="2072160"/>
                <a:chExt cx="889920" cy="217440"/>
              </a:xfrm>
            </p:grpSpPr>
            <p:sp>
              <p:nvSpPr>
                <p:cNvPr id="2757" name=""/>
                <p:cNvSpPr/>
                <p:nvPr/>
              </p:nvSpPr>
              <p:spPr>
                <a:xfrm>
                  <a:off x="2305800" y="207216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2214000" y="207216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9" name=""/>
              <p:cNvGrpSpPr/>
              <p:nvPr/>
            </p:nvGrpSpPr>
            <p:grpSpPr>
              <a:xfrm>
                <a:off x="3104280" y="2072160"/>
                <a:ext cx="1874160" cy="217440"/>
                <a:chOff x="3104280" y="2072160"/>
                <a:chExt cx="1874160" cy="217440"/>
              </a:xfrm>
            </p:grpSpPr>
            <p:sp>
              <p:nvSpPr>
                <p:cNvPr id="2760" name=""/>
                <p:cNvSpPr/>
                <p:nvPr/>
              </p:nvSpPr>
              <p:spPr>
                <a:xfrm>
                  <a:off x="3195720" y="2072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28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3104280" y="207216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2" name=""/>
              <p:cNvGrpSpPr/>
              <p:nvPr/>
            </p:nvGrpSpPr>
            <p:grpSpPr>
              <a:xfrm>
                <a:off x="4978800" y="2072160"/>
                <a:ext cx="1873800" cy="217440"/>
                <a:chOff x="4978800" y="2072160"/>
                <a:chExt cx="1873800" cy="21744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5070240" y="2072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4978800" y="207216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5" name=""/>
              <p:cNvGrpSpPr/>
              <p:nvPr/>
            </p:nvGrpSpPr>
            <p:grpSpPr>
              <a:xfrm>
                <a:off x="2214000" y="2289600"/>
                <a:ext cx="889920" cy="217440"/>
                <a:chOff x="2214000" y="2289600"/>
                <a:chExt cx="889920" cy="21744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2305800" y="228960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2214000" y="228960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8" name=""/>
              <p:cNvGrpSpPr/>
              <p:nvPr/>
            </p:nvGrpSpPr>
            <p:grpSpPr>
              <a:xfrm>
                <a:off x="3104280" y="2289600"/>
                <a:ext cx="1874160" cy="217440"/>
                <a:chOff x="3104280" y="2289600"/>
                <a:chExt cx="1874160" cy="217440"/>
              </a:xfrm>
            </p:grpSpPr>
            <p:sp>
              <p:nvSpPr>
                <p:cNvPr id="2769" name=""/>
                <p:cNvSpPr/>
                <p:nvPr/>
              </p:nvSpPr>
              <p:spPr>
                <a:xfrm>
                  <a:off x="3195720" y="2289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3104280" y="228960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1" name=""/>
              <p:cNvGrpSpPr/>
              <p:nvPr/>
            </p:nvGrpSpPr>
            <p:grpSpPr>
              <a:xfrm>
                <a:off x="4978800" y="2289600"/>
                <a:ext cx="1873800" cy="217440"/>
                <a:chOff x="4978800" y="2289600"/>
                <a:chExt cx="1873800" cy="217440"/>
              </a:xfrm>
            </p:grpSpPr>
            <p:sp>
              <p:nvSpPr>
                <p:cNvPr id="2772" name=""/>
                <p:cNvSpPr/>
                <p:nvPr/>
              </p:nvSpPr>
              <p:spPr>
                <a:xfrm>
                  <a:off x="5070240" y="2289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4978800" y="228960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4" name=""/>
              <p:cNvGrpSpPr/>
              <p:nvPr/>
            </p:nvGrpSpPr>
            <p:grpSpPr>
              <a:xfrm>
                <a:off x="2214000" y="2507040"/>
                <a:ext cx="889920" cy="217440"/>
                <a:chOff x="2214000" y="2507040"/>
                <a:chExt cx="889920" cy="217440"/>
              </a:xfrm>
            </p:grpSpPr>
            <p:sp>
              <p:nvSpPr>
                <p:cNvPr id="2775" name=""/>
                <p:cNvSpPr/>
                <p:nvPr/>
              </p:nvSpPr>
              <p:spPr>
                <a:xfrm>
                  <a:off x="2305800" y="25070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2214000" y="25070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7" name=""/>
              <p:cNvGrpSpPr/>
              <p:nvPr/>
            </p:nvGrpSpPr>
            <p:grpSpPr>
              <a:xfrm>
                <a:off x="3104280" y="2507040"/>
                <a:ext cx="1874160" cy="217440"/>
                <a:chOff x="3104280" y="2507040"/>
                <a:chExt cx="1874160" cy="217440"/>
              </a:xfrm>
            </p:grpSpPr>
            <p:sp>
              <p:nvSpPr>
                <p:cNvPr id="2778" name=""/>
                <p:cNvSpPr/>
                <p:nvPr/>
              </p:nvSpPr>
              <p:spPr>
                <a:xfrm>
                  <a:off x="3195720" y="2507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3104280" y="25070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0" name=""/>
              <p:cNvGrpSpPr/>
              <p:nvPr/>
            </p:nvGrpSpPr>
            <p:grpSpPr>
              <a:xfrm>
                <a:off x="4978800" y="2507040"/>
                <a:ext cx="1873800" cy="217440"/>
                <a:chOff x="4978800" y="2507040"/>
                <a:chExt cx="1873800" cy="217440"/>
              </a:xfrm>
            </p:grpSpPr>
            <p:sp>
              <p:nvSpPr>
                <p:cNvPr id="2781" name=""/>
                <p:cNvSpPr/>
                <p:nvPr/>
              </p:nvSpPr>
              <p:spPr>
                <a:xfrm>
                  <a:off x="5070240" y="2507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4978800" y="25070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3" name=""/>
              <p:cNvGrpSpPr/>
              <p:nvPr/>
            </p:nvGrpSpPr>
            <p:grpSpPr>
              <a:xfrm>
                <a:off x="2214000" y="2724840"/>
                <a:ext cx="889920" cy="217440"/>
                <a:chOff x="2214000" y="2724840"/>
                <a:chExt cx="889920" cy="217440"/>
              </a:xfrm>
            </p:grpSpPr>
            <p:sp>
              <p:nvSpPr>
                <p:cNvPr id="2784" name=""/>
                <p:cNvSpPr/>
                <p:nvPr/>
              </p:nvSpPr>
              <p:spPr>
                <a:xfrm>
                  <a:off x="2305800" y="27248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2214000" y="27248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6" name=""/>
              <p:cNvGrpSpPr/>
              <p:nvPr/>
            </p:nvGrpSpPr>
            <p:grpSpPr>
              <a:xfrm>
                <a:off x="3104280" y="2724840"/>
                <a:ext cx="1874160" cy="217440"/>
                <a:chOff x="3104280" y="2724840"/>
                <a:chExt cx="1874160" cy="217440"/>
              </a:xfrm>
            </p:grpSpPr>
            <p:sp>
              <p:nvSpPr>
                <p:cNvPr id="2787" name=""/>
                <p:cNvSpPr/>
                <p:nvPr/>
              </p:nvSpPr>
              <p:spPr>
                <a:xfrm>
                  <a:off x="3195720" y="27248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4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3104280" y="27248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9" name=""/>
              <p:cNvGrpSpPr/>
              <p:nvPr/>
            </p:nvGrpSpPr>
            <p:grpSpPr>
              <a:xfrm>
                <a:off x="4978800" y="2724840"/>
                <a:ext cx="1873800" cy="217440"/>
                <a:chOff x="4978800" y="2724840"/>
                <a:chExt cx="1873800" cy="217440"/>
              </a:xfrm>
            </p:grpSpPr>
            <p:sp>
              <p:nvSpPr>
                <p:cNvPr id="2790" name=""/>
                <p:cNvSpPr/>
                <p:nvPr/>
              </p:nvSpPr>
              <p:spPr>
                <a:xfrm>
                  <a:off x="5070240" y="27248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4978800" y="27248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2" name=""/>
              <p:cNvGrpSpPr/>
              <p:nvPr/>
            </p:nvGrpSpPr>
            <p:grpSpPr>
              <a:xfrm>
                <a:off x="2214000" y="2942280"/>
                <a:ext cx="889920" cy="217440"/>
                <a:chOff x="2214000" y="2942280"/>
                <a:chExt cx="889920" cy="217440"/>
              </a:xfrm>
            </p:grpSpPr>
            <p:sp>
              <p:nvSpPr>
                <p:cNvPr id="2793" name=""/>
                <p:cNvSpPr/>
                <p:nvPr/>
              </p:nvSpPr>
              <p:spPr>
                <a:xfrm>
                  <a:off x="2305800" y="294228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2214000" y="294228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5" name=""/>
              <p:cNvGrpSpPr/>
              <p:nvPr/>
            </p:nvGrpSpPr>
            <p:grpSpPr>
              <a:xfrm>
                <a:off x="3104280" y="2942280"/>
                <a:ext cx="1874160" cy="217440"/>
                <a:chOff x="3104280" y="2942280"/>
                <a:chExt cx="1874160" cy="217440"/>
              </a:xfrm>
            </p:grpSpPr>
            <p:sp>
              <p:nvSpPr>
                <p:cNvPr id="2796" name=""/>
                <p:cNvSpPr/>
                <p:nvPr/>
              </p:nvSpPr>
              <p:spPr>
                <a:xfrm>
                  <a:off x="3195720" y="2942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4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3104280" y="294228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8" name=""/>
              <p:cNvGrpSpPr/>
              <p:nvPr/>
            </p:nvGrpSpPr>
            <p:grpSpPr>
              <a:xfrm>
                <a:off x="4978800" y="2942280"/>
                <a:ext cx="1873800" cy="217440"/>
                <a:chOff x="4978800" y="2942280"/>
                <a:chExt cx="1873800" cy="21744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5070240" y="2942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4978800" y="294228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1" name=""/>
              <p:cNvGrpSpPr/>
              <p:nvPr/>
            </p:nvGrpSpPr>
            <p:grpSpPr>
              <a:xfrm>
                <a:off x="2214000" y="3159720"/>
                <a:ext cx="889920" cy="217440"/>
                <a:chOff x="2214000" y="3159720"/>
                <a:chExt cx="889920" cy="217440"/>
              </a:xfrm>
            </p:grpSpPr>
            <p:sp>
              <p:nvSpPr>
                <p:cNvPr id="2802" name=""/>
                <p:cNvSpPr/>
                <p:nvPr/>
              </p:nvSpPr>
              <p:spPr>
                <a:xfrm>
                  <a:off x="2305800" y="315972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2214000" y="315972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4" name=""/>
              <p:cNvGrpSpPr/>
              <p:nvPr/>
            </p:nvGrpSpPr>
            <p:grpSpPr>
              <a:xfrm>
                <a:off x="3104280" y="3159720"/>
                <a:ext cx="1874160" cy="217440"/>
                <a:chOff x="3104280" y="3159720"/>
                <a:chExt cx="1874160" cy="217440"/>
              </a:xfrm>
            </p:grpSpPr>
            <p:sp>
              <p:nvSpPr>
                <p:cNvPr id="2805" name=""/>
                <p:cNvSpPr/>
                <p:nvPr/>
              </p:nvSpPr>
              <p:spPr>
                <a:xfrm>
                  <a:off x="3195720" y="3159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8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3104280" y="315972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7" name=""/>
              <p:cNvGrpSpPr/>
              <p:nvPr/>
            </p:nvGrpSpPr>
            <p:grpSpPr>
              <a:xfrm>
                <a:off x="4978800" y="3159720"/>
                <a:ext cx="1873800" cy="217440"/>
                <a:chOff x="4978800" y="3159720"/>
                <a:chExt cx="1873800" cy="217440"/>
              </a:xfrm>
            </p:grpSpPr>
            <p:sp>
              <p:nvSpPr>
                <p:cNvPr id="2808" name=""/>
                <p:cNvSpPr/>
                <p:nvPr/>
              </p:nvSpPr>
              <p:spPr>
                <a:xfrm>
                  <a:off x="5070240" y="3159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4978800" y="315972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0" name=""/>
              <p:cNvGrpSpPr/>
              <p:nvPr/>
            </p:nvGrpSpPr>
            <p:grpSpPr>
              <a:xfrm>
                <a:off x="2214000" y="3377160"/>
                <a:ext cx="889920" cy="217440"/>
                <a:chOff x="2214000" y="3377160"/>
                <a:chExt cx="889920" cy="217440"/>
              </a:xfrm>
            </p:grpSpPr>
            <p:sp>
              <p:nvSpPr>
                <p:cNvPr id="2811" name=""/>
                <p:cNvSpPr/>
                <p:nvPr/>
              </p:nvSpPr>
              <p:spPr>
                <a:xfrm>
                  <a:off x="2305800" y="337716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2214000" y="337716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3" name=""/>
              <p:cNvGrpSpPr/>
              <p:nvPr/>
            </p:nvGrpSpPr>
            <p:grpSpPr>
              <a:xfrm>
                <a:off x="3104280" y="3377160"/>
                <a:ext cx="1874160" cy="217440"/>
                <a:chOff x="3104280" y="3377160"/>
                <a:chExt cx="1874160" cy="217440"/>
              </a:xfrm>
            </p:grpSpPr>
            <p:sp>
              <p:nvSpPr>
                <p:cNvPr id="2814" name=""/>
                <p:cNvSpPr/>
                <p:nvPr/>
              </p:nvSpPr>
              <p:spPr>
                <a:xfrm>
                  <a:off x="3195720" y="3377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3104280" y="337716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6" name=""/>
              <p:cNvGrpSpPr/>
              <p:nvPr/>
            </p:nvGrpSpPr>
            <p:grpSpPr>
              <a:xfrm>
                <a:off x="4978800" y="3377160"/>
                <a:ext cx="1873800" cy="217440"/>
                <a:chOff x="4978800" y="3377160"/>
                <a:chExt cx="1873800" cy="217440"/>
              </a:xfrm>
            </p:grpSpPr>
            <p:sp>
              <p:nvSpPr>
                <p:cNvPr id="2817" name=""/>
                <p:cNvSpPr/>
                <p:nvPr/>
              </p:nvSpPr>
              <p:spPr>
                <a:xfrm>
                  <a:off x="5070240" y="3377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4978800" y="337716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9" name=""/>
              <p:cNvGrpSpPr/>
              <p:nvPr/>
            </p:nvGrpSpPr>
            <p:grpSpPr>
              <a:xfrm>
                <a:off x="2214000" y="3594600"/>
                <a:ext cx="889920" cy="217440"/>
                <a:chOff x="2214000" y="3594600"/>
                <a:chExt cx="889920" cy="217440"/>
              </a:xfrm>
            </p:grpSpPr>
            <p:sp>
              <p:nvSpPr>
                <p:cNvPr id="2820" name=""/>
                <p:cNvSpPr/>
                <p:nvPr/>
              </p:nvSpPr>
              <p:spPr>
                <a:xfrm>
                  <a:off x="2305800" y="359460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2214000" y="359460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2" name=""/>
              <p:cNvGrpSpPr/>
              <p:nvPr/>
            </p:nvGrpSpPr>
            <p:grpSpPr>
              <a:xfrm>
                <a:off x="3104280" y="3594600"/>
                <a:ext cx="1874160" cy="217440"/>
                <a:chOff x="3104280" y="3594600"/>
                <a:chExt cx="1874160" cy="217440"/>
              </a:xfrm>
            </p:grpSpPr>
            <p:sp>
              <p:nvSpPr>
                <p:cNvPr id="2823" name=""/>
                <p:cNvSpPr/>
                <p:nvPr/>
              </p:nvSpPr>
              <p:spPr>
                <a:xfrm>
                  <a:off x="3195720" y="3594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21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3104280" y="359460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5" name=""/>
              <p:cNvGrpSpPr/>
              <p:nvPr/>
            </p:nvGrpSpPr>
            <p:grpSpPr>
              <a:xfrm>
                <a:off x="4978800" y="3594600"/>
                <a:ext cx="1873800" cy="217440"/>
                <a:chOff x="4978800" y="3594600"/>
                <a:chExt cx="1873800" cy="217440"/>
              </a:xfrm>
            </p:grpSpPr>
            <p:sp>
              <p:nvSpPr>
                <p:cNvPr id="2826" name=""/>
                <p:cNvSpPr/>
                <p:nvPr/>
              </p:nvSpPr>
              <p:spPr>
                <a:xfrm>
                  <a:off x="5070240" y="3594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4978800" y="359460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8" name=""/>
              <p:cNvGrpSpPr/>
              <p:nvPr/>
            </p:nvGrpSpPr>
            <p:grpSpPr>
              <a:xfrm>
                <a:off x="2214000" y="3812040"/>
                <a:ext cx="889920" cy="217440"/>
                <a:chOff x="2214000" y="3812040"/>
                <a:chExt cx="889920" cy="217440"/>
              </a:xfrm>
            </p:grpSpPr>
            <p:sp>
              <p:nvSpPr>
                <p:cNvPr id="2829" name=""/>
                <p:cNvSpPr/>
                <p:nvPr/>
              </p:nvSpPr>
              <p:spPr>
                <a:xfrm>
                  <a:off x="2305800" y="38120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2214000" y="38120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1" name=""/>
              <p:cNvGrpSpPr/>
              <p:nvPr/>
            </p:nvGrpSpPr>
            <p:grpSpPr>
              <a:xfrm>
                <a:off x="3104280" y="3812040"/>
                <a:ext cx="1874160" cy="217440"/>
                <a:chOff x="3104280" y="3812040"/>
                <a:chExt cx="1874160" cy="217440"/>
              </a:xfrm>
            </p:grpSpPr>
            <p:sp>
              <p:nvSpPr>
                <p:cNvPr id="2832" name=""/>
                <p:cNvSpPr/>
                <p:nvPr/>
              </p:nvSpPr>
              <p:spPr>
                <a:xfrm>
                  <a:off x="3195720" y="3812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46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3104280" y="38120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4" name=""/>
              <p:cNvGrpSpPr/>
              <p:nvPr/>
            </p:nvGrpSpPr>
            <p:grpSpPr>
              <a:xfrm>
                <a:off x="4978800" y="3812040"/>
                <a:ext cx="1873800" cy="217440"/>
                <a:chOff x="4978800" y="3812040"/>
                <a:chExt cx="1873800" cy="217440"/>
              </a:xfrm>
            </p:grpSpPr>
            <p:sp>
              <p:nvSpPr>
                <p:cNvPr id="2835" name=""/>
                <p:cNvSpPr/>
                <p:nvPr/>
              </p:nvSpPr>
              <p:spPr>
                <a:xfrm>
                  <a:off x="5070240" y="3812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4978800" y="38120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7" name=""/>
              <p:cNvGrpSpPr/>
              <p:nvPr/>
            </p:nvGrpSpPr>
            <p:grpSpPr>
              <a:xfrm>
                <a:off x="2214000" y="4029840"/>
                <a:ext cx="889920" cy="217440"/>
                <a:chOff x="2214000" y="4029840"/>
                <a:chExt cx="889920" cy="217440"/>
              </a:xfrm>
            </p:grpSpPr>
            <p:sp>
              <p:nvSpPr>
                <p:cNvPr id="2838" name=""/>
                <p:cNvSpPr/>
                <p:nvPr/>
              </p:nvSpPr>
              <p:spPr>
                <a:xfrm>
                  <a:off x="2305800" y="40298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2214000" y="40298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0" name=""/>
              <p:cNvGrpSpPr/>
              <p:nvPr/>
            </p:nvGrpSpPr>
            <p:grpSpPr>
              <a:xfrm>
                <a:off x="3104280" y="4029840"/>
                <a:ext cx="1874160" cy="217440"/>
                <a:chOff x="3104280" y="4029840"/>
                <a:chExt cx="1874160" cy="217440"/>
              </a:xfrm>
            </p:grpSpPr>
            <p:sp>
              <p:nvSpPr>
                <p:cNvPr id="2841" name=""/>
                <p:cNvSpPr/>
                <p:nvPr/>
              </p:nvSpPr>
              <p:spPr>
                <a:xfrm>
                  <a:off x="3195720" y="40298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3104280" y="40298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3" name=""/>
              <p:cNvGrpSpPr/>
              <p:nvPr/>
            </p:nvGrpSpPr>
            <p:grpSpPr>
              <a:xfrm>
                <a:off x="4978800" y="4029840"/>
                <a:ext cx="1873800" cy="217440"/>
                <a:chOff x="4978800" y="4029840"/>
                <a:chExt cx="1873800" cy="217440"/>
              </a:xfrm>
            </p:grpSpPr>
            <p:sp>
              <p:nvSpPr>
                <p:cNvPr id="2844" name=""/>
                <p:cNvSpPr/>
                <p:nvPr/>
              </p:nvSpPr>
              <p:spPr>
                <a:xfrm>
                  <a:off x="5070240" y="40298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4978800" y="40298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6" name=""/>
              <p:cNvGrpSpPr/>
              <p:nvPr/>
            </p:nvGrpSpPr>
            <p:grpSpPr>
              <a:xfrm>
                <a:off x="2214000" y="4247280"/>
                <a:ext cx="889920" cy="217440"/>
                <a:chOff x="2214000" y="4247280"/>
                <a:chExt cx="889920" cy="217440"/>
              </a:xfrm>
            </p:grpSpPr>
            <p:sp>
              <p:nvSpPr>
                <p:cNvPr id="2847" name=""/>
                <p:cNvSpPr/>
                <p:nvPr/>
              </p:nvSpPr>
              <p:spPr>
                <a:xfrm>
                  <a:off x="2305800" y="424728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2214000" y="424728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9" name=""/>
              <p:cNvGrpSpPr/>
              <p:nvPr/>
            </p:nvGrpSpPr>
            <p:grpSpPr>
              <a:xfrm>
                <a:off x="3104280" y="4247280"/>
                <a:ext cx="1874160" cy="217440"/>
                <a:chOff x="3104280" y="4247280"/>
                <a:chExt cx="1874160" cy="217440"/>
              </a:xfrm>
            </p:grpSpPr>
            <p:sp>
              <p:nvSpPr>
                <p:cNvPr id="2850" name=""/>
                <p:cNvSpPr/>
                <p:nvPr/>
              </p:nvSpPr>
              <p:spPr>
                <a:xfrm>
                  <a:off x="3195720" y="4247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4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3104280" y="424728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2" name=""/>
              <p:cNvGrpSpPr/>
              <p:nvPr/>
            </p:nvGrpSpPr>
            <p:grpSpPr>
              <a:xfrm>
                <a:off x="4978800" y="4247280"/>
                <a:ext cx="1873800" cy="217440"/>
                <a:chOff x="4978800" y="4247280"/>
                <a:chExt cx="1873800" cy="217440"/>
              </a:xfrm>
            </p:grpSpPr>
            <p:sp>
              <p:nvSpPr>
                <p:cNvPr id="2853" name=""/>
                <p:cNvSpPr/>
                <p:nvPr/>
              </p:nvSpPr>
              <p:spPr>
                <a:xfrm>
                  <a:off x="5070240" y="42472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4978800" y="424728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5" name=""/>
              <p:cNvGrpSpPr/>
              <p:nvPr/>
            </p:nvGrpSpPr>
            <p:grpSpPr>
              <a:xfrm>
                <a:off x="2214000" y="4464720"/>
                <a:ext cx="889920" cy="217440"/>
                <a:chOff x="2214000" y="4464720"/>
                <a:chExt cx="889920" cy="217440"/>
              </a:xfrm>
            </p:grpSpPr>
            <p:sp>
              <p:nvSpPr>
                <p:cNvPr id="2856" name=""/>
                <p:cNvSpPr/>
                <p:nvPr/>
              </p:nvSpPr>
              <p:spPr>
                <a:xfrm>
                  <a:off x="2305800" y="446472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2214000" y="446472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8" name=""/>
              <p:cNvGrpSpPr/>
              <p:nvPr/>
            </p:nvGrpSpPr>
            <p:grpSpPr>
              <a:xfrm>
                <a:off x="3104280" y="4464720"/>
                <a:ext cx="1874160" cy="217440"/>
                <a:chOff x="3104280" y="4464720"/>
                <a:chExt cx="1874160" cy="217440"/>
              </a:xfrm>
            </p:grpSpPr>
            <p:sp>
              <p:nvSpPr>
                <p:cNvPr id="2859" name=""/>
                <p:cNvSpPr/>
                <p:nvPr/>
              </p:nvSpPr>
              <p:spPr>
                <a:xfrm>
                  <a:off x="3195720" y="4464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4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3104280" y="446472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1" name=""/>
              <p:cNvGrpSpPr/>
              <p:nvPr/>
            </p:nvGrpSpPr>
            <p:grpSpPr>
              <a:xfrm>
                <a:off x="4978800" y="4464720"/>
                <a:ext cx="1873800" cy="217440"/>
                <a:chOff x="4978800" y="4464720"/>
                <a:chExt cx="1873800" cy="217440"/>
              </a:xfrm>
            </p:grpSpPr>
            <p:sp>
              <p:nvSpPr>
                <p:cNvPr id="2862" name=""/>
                <p:cNvSpPr/>
                <p:nvPr/>
              </p:nvSpPr>
              <p:spPr>
                <a:xfrm>
                  <a:off x="5070240" y="4464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4978800" y="446472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4" name=""/>
              <p:cNvGrpSpPr/>
              <p:nvPr/>
            </p:nvGrpSpPr>
            <p:grpSpPr>
              <a:xfrm>
                <a:off x="2214000" y="4682160"/>
                <a:ext cx="889920" cy="217440"/>
                <a:chOff x="2214000" y="4682160"/>
                <a:chExt cx="889920" cy="217440"/>
              </a:xfrm>
            </p:grpSpPr>
            <p:sp>
              <p:nvSpPr>
                <p:cNvPr id="2865" name=""/>
                <p:cNvSpPr/>
                <p:nvPr/>
              </p:nvSpPr>
              <p:spPr>
                <a:xfrm>
                  <a:off x="2305800" y="468216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2214000" y="468216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7" name=""/>
              <p:cNvGrpSpPr/>
              <p:nvPr/>
            </p:nvGrpSpPr>
            <p:grpSpPr>
              <a:xfrm>
                <a:off x="3104280" y="4682160"/>
                <a:ext cx="1874160" cy="217440"/>
                <a:chOff x="3104280" y="4682160"/>
                <a:chExt cx="1874160" cy="217440"/>
              </a:xfrm>
            </p:grpSpPr>
            <p:sp>
              <p:nvSpPr>
                <p:cNvPr id="2868" name=""/>
                <p:cNvSpPr/>
                <p:nvPr/>
              </p:nvSpPr>
              <p:spPr>
                <a:xfrm>
                  <a:off x="3195720" y="4682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84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3104280" y="468216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0" name=""/>
              <p:cNvGrpSpPr/>
              <p:nvPr/>
            </p:nvGrpSpPr>
            <p:grpSpPr>
              <a:xfrm>
                <a:off x="4978800" y="4682160"/>
                <a:ext cx="1873800" cy="217440"/>
                <a:chOff x="4978800" y="4682160"/>
                <a:chExt cx="1873800" cy="217440"/>
              </a:xfrm>
            </p:grpSpPr>
            <p:sp>
              <p:nvSpPr>
                <p:cNvPr id="2871" name=""/>
                <p:cNvSpPr/>
                <p:nvPr/>
              </p:nvSpPr>
              <p:spPr>
                <a:xfrm>
                  <a:off x="5070240" y="4682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4978800" y="468216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3" name=""/>
              <p:cNvGrpSpPr/>
              <p:nvPr/>
            </p:nvGrpSpPr>
            <p:grpSpPr>
              <a:xfrm>
                <a:off x="2214000" y="4899600"/>
                <a:ext cx="889920" cy="217440"/>
                <a:chOff x="2214000" y="4899600"/>
                <a:chExt cx="889920" cy="217440"/>
              </a:xfrm>
            </p:grpSpPr>
            <p:sp>
              <p:nvSpPr>
                <p:cNvPr id="2874" name=""/>
                <p:cNvSpPr/>
                <p:nvPr/>
              </p:nvSpPr>
              <p:spPr>
                <a:xfrm>
                  <a:off x="2305800" y="489960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2214000" y="489960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6" name=""/>
              <p:cNvGrpSpPr/>
              <p:nvPr/>
            </p:nvGrpSpPr>
            <p:grpSpPr>
              <a:xfrm>
                <a:off x="3104280" y="4899600"/>
                <a:ext cx="1874160" cy="217440"/>
                <a:chOff x="3104280" y="4899600"/>
                <a:chExt cx="1874160" cy="217440"/>
              </a:xfrm>
            </p:grpSpPr>
            <p:sp>
              <p:nvSpPr>
                <p:cNvPr id="2877" name=""/>
                <p:cNvSpPr/>
                <p:nvPr/>
              </p:nvSpPr>
              <p:spPr>
                <a:xfrm>
                  <a:off x="3195720" y="4899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6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3104280" y="489960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9" name=""/>
              <p:cNvGrpSpPr/>
              <p:nvPr/>
            </p:nvGrpSpPr>
            <p:grpSpPr>
              <a:xfrm>
                <a:off x="4978800" y="4899600"/>
                <a:ext cx="1873800" cy="217440"/>
                <a:chOff x="4978800" y="4899600"/>
                <a:chExt cx="1873800" cy="217440"/>
              </a:xfrm>
            </p:grpSpPr>
            <p:sp>
              <p:nvSpPr>
                <p:cNvPr id="2880" name=""/>
                <p:cNvSpPr/>
                <p:nvPr/>
              </p:nvSpPr>
              <p:spPr>
                <a:xfrm>
                  <a:off x="5070240" y="4899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4978800" y="489960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2" name=""/>
              <p:cNvGrpSpPr/>
              <p:nvPr/>
            </p:nvGrpSpPr>
            <p:grpSpPr>
              <a:xfrm>
                <a:off x="2214000" y="5117040"/>
                <a:ext cx="889920" cy="217440"/>
                <a:chOff x="2214000" y="5117040"/>
                <a:chExt cx="889920" cy="217440"/>
              </a:xfrm>
            </p:grpSpPr>
            <p:sp>
              <p:nvSpPr>
                <p:cNvPr id="2883" name=""/>
                <p:cNvSpPr/>
                <p:nvPr/>
              </p:nvSpPr>
              <p:spPr>
                <a:xfrm>
                  <a:off x="2305800" y="51170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2214000" y="51170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5" name=""/>
              <p:cNvGrpSpPr/>
              <p:nvPr/>
            </p:nvGrpSpPr>
            <p:grpSpPr>
              <a:xfrm>
                <a:off x="3104280" y="5117040"/>
                <a:ext cx="1874160" cy="217440"/>
                <a:chOff x="3104280" y="5117040"/>
                <a:chExt cx="1874160" cy="217440"/>
              </a:xfrm>
            </p:grpSpPr>
            <p:sp>
              <p:nvSpPr>
                <p:cNvPr id="2886" name=""/>
                <p:cNvSpPr/>
                <p:nvPr/>
              </p:nvSpPr>
              <p:spPr>
                <a:xfrm>
                  <a:off x="3195720" y="5117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0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3104280" y="51170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8" name=""/>
              <p:cNvGrpSpPr/>
              <p:nvPr/>
            </p:nvGrpSpPr>
            <p:grpSpPr>
              <a:xfrm>
                <a:off x="4978800" y="5117040"/>
                <a:ext cx="1873800" cy="217440"/>
                <a:chOff x="4978800" y="5117040"/>
                <a:chExt cx="1873800" cy="217440"/>
              </a:xfrm>
            </p:grpSpPr>
            <p:sp>
              <p:nvSpPr>
                <p:cNvPr id="2889" name=""/>
                <p:cNvSpPr/>
                <p:nvPr/>
              </p:nvSpPr>
              <p:spPr>
                <a:xfrm>
                  <a:off x="5070240" y="5117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4978800" y="51170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1" name=""/>
              <p:cNvGrpSpPr/>
              <p:nvPr/>
            </p:nvGrpSpPr>
            <p:grpSpPr>
              <a:xfrm>
                <a:off x="2214000" y="5334480"/>
                <a:ext cx="889920" cy="217440"/>
                <a:chOff x="2214000" y="5334480"/>
                <a:chExt cx="889920" cy="217440"/>
              </a:xfrm>
            </p:grpSpPr>
            <p:sp>
              <p:nvSpPr>
                <p:cNvPr id="2892" name=""/>
                <p:cNvSpPr/>
                <p:nvPr/>
              </p:nvSpPr>
              <p:spPr>
                <a:xfrm>
                  <a:off x="2305800" y="533448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2214000" y="533448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4" name=""/>
              <p:cNvGrpSpPr/>
              <p:nvPr/>
            </p:nvGrpSpPr>
            <p:grpSpPr>
              <a:xfrm>
                <a:off x="3104280" y="5334480"/>
                <a:ext cx="1874160" cy="217440"/>
                <a:chOff x="3104280" y="5334480"/>
                <a:chExt cx="1874160" cy="217440"/>
              </a:xfrm>
            </p:grpSpPr>
            <p:sp>
              <p:nvSpPr>
                <p:cNvPr id="2895" name=""/>
                <p:cNvSpPr/>
                <p:nvPr/>
              </p:nvSpPr>
              <p:spPr>
                <a:xfrm>
                  <a:off x="3195720" y="53344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3104280" y="533448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7" name=""/>
              <p:cNvGrpSpPr/>
              <p:nvPr/>
            </p:nvGrpSpPr>
            <p:grpSpPr>
              <a:xfrm>
                <a:off x="4978800" y="5334480"/>
                <a:ext cx="1873800" cy="217440"/>
                <a:chOff x="4978800" y="5334480"/>
                <a:chExt cx="1873800" cy="217440"/>
              </a:xfrm>
            </p:grpSpPr>
            <p:sp>
              <p:nvSpPr>
                <p:cNvPr id="2898" name=""/>
                <p:cNvSpPr/>
                <p:nvPr/>
              </p:nvSpPr>
              <p:spPr>
                <a:xfrm>
                  <a:off x="5070240" y="53344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4978800" y="533448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0" name=""/>
              <p:cNvGrpSpPr/>
              <p:nvPr/>
            </p:nvGrpSpPr>
            <p:grpSpPr>
              <a:xfrm>
                <a:off x="2214000" y="5551920"/>
                <a:ext cx="889920" cy="217440"/>
                <a:chOff x="2214000" y="5551920"/>
                <a:chExt cx="889920" cy="217440"/>
              </a:xfrm>
            </p:grpSpPr>
            <p:sp>
              <p:nvSpPr>
                <p:cNvPr id="2901" name=""/>
                <p:cNvSpPr/>
                <p:nvPr/>
              </p:nvSpPr>
              <p:spPr>
                <a:xfrm>
                  <a:off x="2305800" y="555192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2214000" y="555192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3" name=""/>
              <p:cNvGrpSpPr/>
              <p:nvPr/>
            </p:nvGrpSpPr>
            <p:grpSpPr>
              <a:xfrm>
                <a:off x="3104280" y="5551920"/>
                <a:ext cx="1874160" cy="217440"/>
                <a:chOff x="3104280" y="5551920"/>
                <a:chExt cx="1874160" cy="217440"/>
              </a:xfrm>
            </p:grpSpPr>
            <p:sp>
              <p:nvSpPr>
                <p:cNvPr id="2904" name=""/>
                <p:cNvSpPr/>
                <p:nvPr/>
              </p:nvSpPr>
              <p:spPr>
                <a:xfrm>
                  <a:off x="3195720" y="55519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71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3104280" y="555192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6" name=""/>
              <p:cNvGrpSpPr/>
              <p:nvPr/>
            </p:nvGrpSpPr>
            <p:grpSpPr>
              <a:xfrm>
                <a:off x="4978800" y="5551920"/>
                <a:ext cx="1873800" cy="217440"/>
                <a:chOff x="4978800" y="5551920"/>
                <a:chExt cx="1873800" cy="217440"/>
              </a:xfrm>
            </p:grpSpPr>
            <p:sp>
              <p:nvSpPr>
                <p:cNvPr id="2907" name=""/>
                <p:cNvSpPr/>
                <p:nvPr/>
              </p:nvSpPr>
              <p:spPr>
                <a:xfrm>
                  <a:off x="5070240" y="55519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4978800" y="555192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2214000" y="5769720"/>
                <a:ext cx="889920" cy="217440"/>
                <a:chOff x="2214000" y="5769720"/>
                <a:chExt cx="889920" cy="21744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2305800" y="576972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2214000" y="576972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2" name=""/>
              <p:cNvGrpSpPr/>
              <p:nvPr/>
            </p:nvGrpSpPr>
            <p:grpSpPr>
              <a:xfrm>
                <a:off x="3104280" y="5769720"/>
                <a:ext cx="1874160" cy="217440"/>
                <a:chOff x="3104280" y="5769720"/>
                <a:chExt cx="1874160" cy="217440"/>
              </a:xfrm>
            </p:grpSpPr>
            <p:sp>
              <p:nvSpPr>
                <p:cNvPr id="2913" name=""/>
                <p:cNvSpPr/>
                <p:nvPr/>
              </p:nvSpPr>
              <p:spPr>
                <a:xfrm>
                  <a:off x="3195720" y="5769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90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3104280" y="576972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5" name=""/>
              <p:cNvGrpSpPr/>
              <p:nvPr/>
            </p:nvGrpSpPr>
            <p:grpSpPr>
              <a:xfrm>
                <a:off x="4978800" y="5769720"/>
                <a:ext cx="1873800" cy="217440"/>
                <a:chOff x="4978800" y="5769720"/>
                <a:chExt cx="1873800" cy="217440"/>
              </a:xfrm>
            </p:grpSpPr>
            <p:sp>
              <p:nvSpPr>
                <p:cNvPr id="2916" name=""/>
                <p:cNvSpPr/>
                <p:nvPr/>
              </p:nvSpPr>
              <p:spPr>
                <a:xfrm>
                  <a:off x="5070240" y="576972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4978800" y="576972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8" name=""/>
              <p:cNvGrpSpPr/>
              <p:nvPr/>
            </p:nvGrpSpPr>
            <p:grpSpPr>
              <a:xfrm>
                <a:off x="2214000" y="5987160"/>
                <a:ext cx="889920" cy="217440"/>
                <a:chOff x="2214000" y="5987160"/>
                <a:chExt cx="889920" cy="217440"/>
              </a:xfrm>
            </p:grpSpPr>
            <p:sp>
              <p:nvSpPr>
                <p:cNvPr id="2919" name=""/>
                <p:cNvSpPr/>
                <p:nvPr/>
              </p:nvSpPr>
              <p:spPr>
                <a:xfrm>
                  <a:off x="2305800" y="598716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2214000" y="598716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1" name=""/>
              <p:cNvGrpSpPr/>
              <p:nvPr/>
            </p:nvGrpSpPr>
            <p:grpSpPr>
              <a:xfrm>
                <a:off x="3104280" y="5987160"/>
                <a:ext cx="1874160" cy="217440"/>
                <a:chOff x="3104280" y="5987160"/>
                <a:chExt cx="1874160" cy="217440"/>
              </a:xfrm>
            </p:grpSpPr>
            <p:sp>
              <p:nvSpPr>
                <p:cNvPr id="2922" name=""/>
                <p:cNvSpPr/>
                <p:nvPr/>
              </p:nvSpPr>
              <p:spPr>
                <a:xfrm>
                  <a:off x="3195720" y="5987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3104280" y="598716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4" name=""/>
              <p:cNvGrpSpPr/>
              <p:nvPr/>
            </p:nvGrpSpPr>
            <p:grpSpPr>
              <a:xfrm>
                <a:off x="4978800" y="5987160"/>
                <a:ext cx="1873800" cy="217440"/>
                <a:chOff x="4978800" y="5987160"/>
                <a:chExt cx="1873800" cy="217440"/>
              </a:xfrm>
            </p:grpSpPr>
            <p:sp>
              <p:nvSpPr>
                <p:cNvPr id="2925" name=""/>
                <p:cNvSpPr/>
                <p:nvPr/>
              </p:nvSpPr>
              <p:spPr>
                <a:xfrm>
                  <a:off x="5070240" y="598716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4978800" y="598716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7" name=""/>
              <p:cNvGrpSpPr/>
              <p:nvPr/>
            </p:nvGrpSpPr>
            <p:grpSpPr>
              <a:xfrm>
                <a:off x="2214000" y="6204600"/>
                <a:ext cx="889920" cy="217440"/>
                <a:chOff x="2214000" y="6204600"/>
                <a:chExt cx="889920" cy="217440"/>
              </a:xfrm>
            </p:grpSpPr>
            <p:sp>
              <p:nvSpPr>
                <p:cNvPr id="2928" name=""/>
                <p:cNvSpPr/>
                <p:nvPr/>
              </p:nvSpPr>
              <p:spPr>
                <a:xfrm>
                  <a:off x="2305800" y="620460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2214000" y="620460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0" name=""/>
              <p:cNvGrpSpPr/>
              <p:nvPr/>
            </p:nvGrpSpPr>
            <p:grpSpPr>
              <a:xfrm>
                <a:off x="3104280" y="6204600"/>
                <a:ext cx="1874160" cy="217440"/>
                <a:chOff x="3104280" y="6204600"/>
                <a:chExt cx="1874160" cy="217440"/>
              </a:xfrm>
            </p:grpSpPr>
            <p:sp>
              <p:nvSpPr>
                <p:cNvPr id="2931" name=""/>
                <p:cNvSpPr/>
                <p:nvPr/>
              </p:nvSpPr>
              <p:spPr>
                <a:xfrm>
                  <a:off x="3195720" y="6204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53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3104280" y="620460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3" name=""/>
              <p:cNvGrpSpPr/>
              <p:nvPr/>
            </p:nvGrpSpPr>
            <p:grpSpPr>
              <a:xfrm>
                <a:off x="4978800" y="6204600"/>
                <a:ext cx="1873800" cy="217440"/>
                <a:chOff x="4978800" y="6204600"/>
                <a:chExt cx="1873800" cy="217440"/>
              </a:xfrm>
            </p:grpSpPr>
            <p:sp>
              <p:nvSpPr>
                <p:cNvPr id="2934" name=""/>
                <p:cNvSpPr/>
                <p:nvPr/>
              </p:nvSpPr>
              <p:spPr>
                <a:xfrm>
                  <a:off x="5070240" y="620460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4978800" y="620460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6" name=""/>
              <p:cNvGrpSpPr/>
              <p:nvPr/>
            </p:nvGrpSpPr>
            <p:grpSpPr>
              <a:xfrm>
                <a:off x="2214000" y="6422040"/>
                <a:ext cx="889920" cy="217440"/>
                <a:chOff x="2214000" y="6422040"/>
                <a:chExt cx="889920" cy="217440"/>
              </a:xfrm>
            </p:grpSpPr>
            <p:sp>
              <p:nvSpPr>
                <p:cNvPr id="2937" name=""/>
                <p:cNvSpPr/>
                <p:nvPr/>
              </p:nvSpPr>
              <p:spPr>
                <a:xfrm>
                  <a:off x="2305800" y="642204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2214000" y="642204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9" name=""/>
              <p:cNvGrpSpPr/>
              <p:nvPr/>
            </p:nvGrpSpPr>
            <p:grpSpPr>
              <a:xfrm>
                <a:off x="3104280" y="6422040"/>
                <a:ext cx="1874160" cy="217440"/>
                <a:chOff x="3104280" y="6422040"/>
                <a:chExt cx="1874160" cy="217440"/>
              </a:xfrm>
            </p:grpSpPr>
            <p:sp>
              <p:nvSpPr>
                <p:cNvPr id="2940" name=""/>
                <p:cNvSpPr/>
                <p:nvPr/>
              </p:nvSpPr>
              <p:spPr>
                <a:xfrm>
                  <a:off x="3195720" y="6422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3104280" y="642204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2" name=""/>
              <p:cNvGrpSpPr/>
              <p:nvPr/>
            </p:nvGrpSpPr>
            <p:grpSpPr>
              <a:xfrm>
                <a:off x="4978800" y="6422040"/>
                <a:ext cx="1873800" cy="217440"/>
                <a:chOff x="4978800" y="6422040"/>
                <a:chExt cx="1873800" cy="217440"/>
              </a:xfrm>
            </p:grpSpPr>
            <p:sp>
              <p:nvSpPr>
                <p:cNvPr id="2943" name=""/>
                <p:cNvSpPr/>
                <p:nvPr/>
              </p:nvSpPr>
              <p:spPr>
                <a:xfrm>
                  <a:off x="5070240" y="642204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4978800" y="642204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5" name=""/>
              <p:cNvGrpSpPr/>
              <p:nvPr/>
            </p:nvGrpSpPr>
            <p:grpSpPr>
              <a:xfrm>
                <a:off x="2214000" y="6639480"/>
                <a:ext cx="889920" cy="217440"/>
                <a:chOff x="2214000" y="6639480"/>
                <a:chExt cx="889920" cy="217440"/>
              </a:xfrm>
            </p:grpSpPr>
            <p:sp>
              <p:nvSpPr>
                <p:cNvPr id="2946" name=""/>
                <p:cNvSpPr/>
                <p:nvPr/>
              </p:nvSpPr>
              <p:spPr>
                <a:xfrm>
                  <a:off x="2305800" y="6639480"/>
                  <a:ext cx="705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2214000" y="6639480"/>
                  <a:ext cx="88992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8" name=""/>
              <p:cNvGrpSpPr/>
              <p:nvPr/>
            </p:nvGrpSpPr>
            <p:grpSpPr>
              <a:xfrm>
                <a:off x="3104280" y="6639480"/>
                <a:ext cx="1874160" cy="217440"/>
                <a:chOff x="3104280" y="6639480"/>
                <a:chExt cx="1874160" cy="217440"/>
              </a:xfrm>
            </p:grpSpPr>
            <p:sp>
              <p:nvSpPr>
                <p:cNvPr id="2949" name=""/>
                <p:cNvSpPr/>
                <p:nvPr/>
              </p:nvSpPr>
              <p:spPr>
                <a:xfrm>
                  <a:off x="3195720" y="66394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96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3104280" y="6639480"/>
                  <a:ext cx="18741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1" name=""/>
              <p:cNvGrpSpPr/>
              <p:nvPr/>
            </p:nvGrpSpPr>
            <p:grpSpPr>
              <a:xfrm>
                <a:off x="4978800" y="6639480"/>
                <a:ext cx="1873800" cy="217440"/>
                <a:chOff x="4978800" y="6639480"/>
                <a:chExt cx="1873800" cy="217440"/>
              </a:xfrm>
            </p:grpSpPr>
            <p:sp>
              <p:nvSpPr>
                <p:cNvPr id="2952" name=""/>
                <p:cNvSpPr/>
                <p:nvPr/>
              </p:nvSpPr>
              <p:spPr>
                <a:xfrm>
                  <a:off x="5070240" y="6639480"/>
                  <a:ext cx="169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4978800" y="6639480"/>
                  <a:ext cx="18738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54" name=""/>
            <p:cNvSpPr/>
            <p:nvPr/>
          </p:nvSpPr>
          <p:spPr>
            <a:xfrm>
              <a:off x="2209680" y="0"/>
              <a:ext cx="4647960" cy="6858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5" name=""/>
          <p:cNvSpPr/>
          <p:nvPr/>
        </p:nvSpPr>
        <p:spPr>
          <a:xfrm>
            <a:off x="1440" y="1319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629f"/>
            </a:gs>
            <a:gs pos="50000">
              <a:srgbClr val="ffffff"/>
            </a:gs>
            <a:gs pos="100000">
              <a:srgbClr val="f862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"/>
          <p:cNvSpPr/>
          <p:nvPr/>
        </p:nvSpPr>
        <p:spPr>
          <a:xfrm>
            <a:off x="15429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228600" y="533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2193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"/>
          <p:cNvSpPr/>
          <p:nvPr/>
        </p:nvSpPr>
        <p:spPr>
          <a:xfrm>
            <a:off x="609480" y="380880"/>
            <a:ext cx="78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981"/>
                </a:solidFill>
                <a:latin typeface="Times New Roman"/>
              </a:rPr>
              <a:t>Test Three: The Probability of Choosing a Character Card from the D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0" name="chi2-2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487440" cy="533520"/>
          </a:xfrm>
          <a:prstGeom prst="rect">
            <a:avLst/>
          </a:prstGeom>
          <a:ln w="0">
            <a:noFill/>
          </a:ln>
        </p:spPr>
      </p:pic>
      <p:pic>
        <p:nvPicPr>
          <p:cNvPr id="2961" name="chi2-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47400" cy="380880"/>
          </a:xfrm>
          <a:prstGeom prst="rect">
            <a:avLst/>
          </a:prstGeom>
          <a:ln w="0">
            <a:noFill/>
          </a:ln>
        </p:spPr>
      </p:pic>
      <p:pic>
        <p:nvPicPr>
          <p:cNvPr id="2962" name="chi2-2" descr=""/>
          <p:cNvPicPr/>
          <p:nvPr/>
        </p:nvPicPr>
        <p:blipFill>
          <a:blip r:embed="rId3"/>
          <a:stretch/>
        </p:blipFill>
        <p:spPr>
          <a:xfrm>
            <a:off x="1295280" y="4038480"/>
            <a:ext cx="347760" cy="381240"/>
          </a:xfrm>
          <a:prstGeom prst="rect">
            <a:avLst/>
          </a:prstGeom>
          <a:ln w="0">
            <a:noFill/>
          </a:ln>
        </p:spPr>
      </p:pic>
      <p:sp>
        <p:nvSpPr>
          <p:cNvPr id="2963" name=""/>
          <p:cNvSpPr/>
          <p:nvPr/>
        </p:nvSpPr>
        <p:spPr>
          <a:xfrm>
            <a:off x="1371600" y="19810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obs-exp)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1-3.9375)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2-3.65625)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905120" y="2514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               3.9375               3.65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914400" y="4038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600200" y="4114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4.0230261) = 0.991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1295280" y="33526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4.02302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85800" y="4495680"/>
            <a:ext cx="8153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981"/>
                </a:solidFill>
                <a:latin typeface="Times New Roman"/>
              </a:rPr>
              <a:t>Conclusion: We fail to reject Ho in favor Ha because our P-value is greater than alpha (0.05). We have sufficient evidence that the observed frequency distribution for picking a character card fits the specified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5867280" y="3200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-1) =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103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home_left_1" descr=""/>
          <p:cNvPicPr/>
          <p:nvPr/>
        </p:nvPicPr>
        <p:blipFill>
          <a:blip r:embed="rId1"/>
          <a:stretch/>
        </p:blipFill>
        <p:spPr>
          <a:xfrm>
            <a:off x="2133720" y="0"/>
            <a:ext cx="4800600" cy="701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0" y="5410080"/>
            <a:ext cx="4419720" cy="1447920"/>
          </a:xfrm>
          <a:prstGeom prst="wedgeRoundRectCallout">
            <a:avLst>
              <a:gd name="adj1" fmla="val -4240"/>
              <a:gd name="adj2" fmla="val -97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542592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91981"/>
                </a:solidFill>
                <a:latin typeface="Times New Roman"/>
              </a:rPr>
              <a:t>Objective: Be the first player to reach the Candy Castle by landing on the multi-colored rainbow space at the end of the path</a:t>
            </a:r>
            <a:r>
              <a:rPr b="0" lang="en-US" sz="2200" spc="-1" strike="noStrike">
                <a:solidFill>
                  <a:srgbClr val="e91981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0f38"/>
            </a:gs>
            <a:gs pos="50000">
              <a:srgbClr val="ef2b5a"/>
            </a:gs>
            <a:gs pos="100000">
              <a:srgbClr val="bd0f3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1066680" y="990720"/>
            <a:ext cx="7162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al Opinions/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as/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1676520" y="3124080"/>
            <a:ext cx="71625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Our experiment was conducted through random samplings of the 64 cards (no b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An example of a bias experiment would be if we had arranged or drawn the cards in a specific order or pattern as to predict/control th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If the 30 trials happened to be played by separate groups, all groups had to collect data under identical condi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1523880" y="14479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We have come to the conclusion that the probabilities of picking either a single-colored, double-colored, or character card is similar to the expected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2362320"/>
            <a:ext cx="7238880" cy="452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y-four cards in a de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 single-colored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 double-colored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haracter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rd colors consist of red, orange, yellow, green, blue, and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haracters are Grandma Nutt, Mr. Mint, Jolly, Gingerbread, Lolly, and Princess Fro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80880"/>
            <a:ext cx="6705720" cy="157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52480" y="685800"/>
            <a:ext cx="5410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bd0f38"/>
                  </a:solidFill>
                  <a:miter/>
                </a:ln>
                <a:gradFill rotWithShape="0">
                  <a:gsLst>
                    <a:gs pos="0">
                      <a:srgbClr val="f03667"/>
                    </a:gs>
                    <a:gs pos="50000">
                      <a:srgbClr val="ffffff"/>
                    </a:gs>
                    <a:gs pos="100000">
                      <a:srgbClr val="f03667"/>
                    </a:gs>
                  </a:gsLst>
                  <a:lin ang="8100000"/>
                </a:gradFill>
                <a:latin typeface="Arial Black"/>
              </a:rPr>
              <a:t>CANDYLAND</a:t>
            </a:r>
            <a:endParaRPr b="0" lang="en-US" sz="2400" spc="1" strike="noStrike">
              <a:ln w="22320">
                <a:solidFill>
                  <a:srgbClr val="bd0f38"/>
                </a:solidFill>
                <a:miter/>
              </a:ln>
              <a:gradFill rotWithShape="0">
                <a:gsLst>
                  <a:gs pos="0">
                    <a:srgbClr val="f03667"/>
                  </a:gs>
                  <a:gs pos="50000">
                    <a:srgbClr val="ffffff"/>
                  </a:gs>
                  <a:gs pos="100000">
                    <a:srgbClr val="f03667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09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629f"/>
                </a:solidFill>
                <a:latin typeface="Times New Roman"/>
              </a:rPr>
              <a:t>We have chosen the Chi-Squared Test in order to examine the following probabiliti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286000"/>
            <a:ext cx="7086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 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The Probability of Choosing a Single-Colored Card from the D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 Tw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The Probability of Choosing a Double-Colored Card from the D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 T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The Probability of Choosing a Character Card from the D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228600"/>
            <a:ext cx="771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981"/>
                </a:solidFill>
                <a:latin typeface="Times New Roman"/>
              </a:rPr>
              <a:t>Test One: The Probability of Choosing a Single Colored Card from the D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90720"/>
            <a:ext cx="9372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1981"/>
                </a:solidFill>
                <a:latin typeface="Times New Roman"/>
              </a:rPr>
              <a:t>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1981"/>
                </a:solidFill>
                <a:latin typeface="Times New Roman"/>
              </a:rPr>
              <a:t>Ho:</a:t>
            </a: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The observed frequency distribution for picking a single colored card fits the specified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1981"/>
                </a:solidFill>
                <a:latin typeface="Times New Roman"/>
              </a:rPr>
              <a:t>Ha:</a:t>
            </a: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 The observed frequency distribution for picking a single colored card does not fit the specified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276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1981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809880"/>
            <a:ext cx="3733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91981"/>
                </a:solidFill>
                <a:uFillTx/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9198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SRS</a:t>
            </a:r>
            <a:br>
              <a:rPr sz="2400"/>
            </a:b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9198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Sample size large enough that all expected values are greater than or equal to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8098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91981"/>
                </a:solidFill>
                <a:uFillTx/>
                <a:latin typeface="Times New Roman"/>
              </a:rPr>
              <a:t>Check</a:t>
            </a: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9198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As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9198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1981"/>
                </a:solidFill>
                <a:latin typeface="Times New Roman"/>
              </a:rPr>
              <a:t>Refer to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62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914400"/>
            <a:ext cx="72388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Single Colored Card 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Probability Chart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440" y="140558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0" y="130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4520" y="12793680"/>
            <a:ext cx="461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ngle Color Ca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13090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19320" y="304920"/>
            <a:ext cx="6629040" cy="6324480"/>
            <a:chOff x="1219320" y="304920"/>
            <a:chExt cx="6629040" cy="6324480"/>
          </a:xfrm>
        </p:grpSpPr>
        <p:grpSp>
          <p:nvGrpSpPr>
            <p:cNvPr id="67" name=""/>
            <p:cNvGrpSpPr/>
            <p:nvPr/>
          </p:nvGrpSpPr>
          <p:grpSpPr>
            <a:xfrm>
              <a:off x="1225440" y="305640"/>
              <a:ext cx="6615360" cy="6322320"/>
              <a:chOff x="1225440" y="305640"/>
              <a:chExt cx="6615360" cy="632232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1225440" y="305640"/>
                <a:ext cx="870480" cy="259560"/>
                <a:chOff x="1225440" y="305640"/>
                <a:chExt cx="870480" cy="2595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355400" y="305640"/>
                  <a:ext cx="6098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225440" y="305640"/>
                  <a:ext cx="87048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2096280" y="305640"/>
                <a:ext cx="776520" cy="259560"/>
                <a:chOff x="2096280" y="305640"/>
                <a:chExt cx="776520" cy="2595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226240" y="305640"/>
                  <a:ext cx="51660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096280" y="305640"/>
                  <a:ext cx="77652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873160" y="305640"/>
                <a:ext cx="940320" cy="259560"/>
                <a:chOff x="2873160" y="305640"/>
                <a:chExt cx="940320" cy="2595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003120" y="305640"/>
                  <a:ext cx="679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873160" y="305640"/>
                  <a:ext cx="94032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3813840" y="305640"/>
                <a:ext cx="951840" cy="259560"/>
                <a:chOff x="3813840" y="305640"/>
                <a:chExt cx="951840" cy="2595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3943080" y="305640"/>
                  <a:ext cx="6919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llo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813840" y="305640"/>
                  <a:ext cx="95184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4766400" y="305640"/>
                <a:ext cx="903240" cy="259560"/>
                <a:chOff x="4766400" y="305640"/>
                <a:chExt cx="903240" cy="2595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895640" y="305640"/>
                  <a:ext cx="6440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766400" y="305640"/>
                  <a:ext cx="90324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5670360" y="305640"/>
                <a:ext cx="1085040" cy="259560"/>
                <a:chOff x="5670360" y="305640"/>
                <a:chExt cx="1085040" cy="2595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800320" y="305640"/>
                  <a:ext cx="8251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ang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670360" y="305640"/>
                  <a:ext cx="108504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6755760" y="305640"/>
                <a:ext cx="1085040" cy="259560"/>
                <a:chOff x="6755760" y="305640"/>
                <a:chExt cx="1085040" cy="2595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885720" y="305640"/>
                  <a:ext cx="8251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755760" y="305640"/>
                  <a:ext cx="1085040" cy="25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225440" y="565200"/>
                <a:ext cx="870480" cy="201960"/>
                <a:chOff x="1225440" y="565200"/>
                <a:chExt cx="870480" cy="201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355400" y="56520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225440" y="56520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096280" y="565200"/>
                <a:ext cx="776520" cy="201960"/>
                <a:chOff x="2096280" y="565200"/>
                <a:chExt cx="776520" cy="2019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226240" y="56520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096280" y="56520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73160" y="565200"/>
                <a:ext cx="940320" cy="201960"/>
                <a:chOff x="2873160" y="565200"/>
                <a:chExt cx="940320" cy="201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03120" y="56520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873160" y="56520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813840" y="565200"/>
                <a:ext cx="951840" cy="201960"/>
                <a:chOff x="3813840" y="565200"/>
                <a:chExt cx="951840" cy="2019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943080" y="56520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813840" y="56520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766400" y="565200"/>
                <a:ext cx="903240" cy="201960"/>
                <a:chOff x="4766400" y="565200"/>
                <a:chExt cx="903240" cy="201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895640" y="56520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766400" y="56520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670360" y="565200"/>
                <a:ext cx="1085040" cy="201960"/>
                <a:chOff x="5670360" y="565200"/>
                <a:chExt cx="1085040" cy="201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800320" y="5652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670360" y="5652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755760" y="565200"/>
                <a:ext cx="1085040" cy="201960"/>
                <a:chOff x="6755760" y="565200"/>
                <a:chExt cx="1085040" cy="201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885720" y="5652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755760" y="5652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225440" y="767160"/>
                <a:ext cx="870480" cy="201960"/>
                <a:chOff x="1225440" y="767160"/>
                <a:chExt cx="870480" cy="201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355400" y="76716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225440" y="76716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096280" y="767160"/>
                <a:ext cx="776520" cy="201960"/>
                <a:chOff x="2096280" y="767160"/>
                <a:chExt cx="776520" cy="201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226240" y="76716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096280" y="76716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873160" y="767160"/>
                <a:ext cx="940320" cy="201960"/>
                <a:chOff x="2873160" y="767160"/>
                <a:chExt cx="940320" cy="201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003120" y="76716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873160" y="76716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813840" y="767160"/>
                <a:ext cx="951840" cy="201960"/>
                <a:chOff x="3813840" y="767160"/>
                <a:chExt cx="951840" cy="2019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3080" y="76716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813840" y="76716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766400" y="767160"/>
                <a:ext cx="903240" cy="201960"/>
                <a:chOff x="4766400" y="767160"/>
                <a:chExt cx="903240" cy="2019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895640" y="76716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766400" y="76716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670360" y="767160"/>
                <a:ext cx="1085040" cy="201960"/>
                <a:chOff x="5670360" y="767160"/>
                <a:chExt cx="1085040" cy="201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800320" y="7671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670360" y="7671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755760" y="767160"/>
                <a:ext cx="1085040" cy="201960"/>
                <a:chOff x="6755760" y="767160"/>
                <a:chExt cx="1085040" cy="2019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885720" y="7671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755760" y="7671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225440" y="969480"/>
                <a:ext cx="870480" cy="201960"/>
                <a:chOff x="1225440" y="969480"/>
                <a:chExt cx="870480" cy="2019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55400" y="96948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25440" y="96948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096280" y="969480"/>
                <a:ext cx="776520" cy="201960"/>
                <a:chOff x="2096280" y="969480"/>
                <a:chExt cx="776520" cy="2019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226240" y="96948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096280" y="96948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873160" y="969480"/>
                <a:ext cx="940320" cy="201960"/>
                <a:chOff x="2873160" y="969480"/>
                <a:chExt cx="940320" cy="2019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003120" y="96948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73160" y="96948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813840" y="969480"/>
                <a:ext cx="951840" cy="201960"/>
                <a:chOff x="3813840" y="969480"/>
                <a:chExt cx="951840" cy="201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943080" y="96948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813840" y="96948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766400" y="969480"/>
                <a:ext cx="903240" cy="201960"/>
                <a:chOff x="4766400" y="969480"/>
                <a:chExt cx="903240" cy="2019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895640" y="96948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766400" y="96948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670360" y="969480"/>
                <a:ext cx="1085040" cy="201960"/>
                <a:chOff x="5670360" y="969480"/>
                <a:chExt cx="1085040" cy="201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800320" y="9694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670360" y="9694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755760" y="969480"/>
                <a:ext cx="1085040" cy="201960"/>
                <a:chOff x="6755760" y="969480"/>
                <a:chExt cx="1085040" cy="2019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885720" y="9694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55760" y="9694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225440" y="1171440"/>
                <a:ext cx="870480" cy="201960"/>
                <a:chOff x="1225440" y="1171440"/>
                <a:chExt cx="870480" cy="2019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355400" y="117144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225440" y="117144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096280" y="1171440"/>
                <a:ext cx="776520" cy="201960"/>
                <a:chOff x="2096280" y="1171440"/>
                <a:chExt cx="776520" cy="2019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226240" y="117144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096280" y="117144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873160" y="1171440"/>
                <a:ext cx="940320" cy="201960"/>
                <a:chOff x="2873160" y="1171440"/>
                <a:chExt cx="940320" cy="2019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003120" y="117144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873160" y="117144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3813840" y="1171440"/>
                <a:ext cx="951840" cy="201960"/>
                <a:chOff x="3813840" y="1171440"/>
                <a:chExt cx="951840" cy="2019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943080" y="117144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13840" y="117144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766400" y="1171440"/>
                <a:ext cx="903240" cy="201960"/>
                <a:chOff x="4766400" y="1171440"/>
                <a:chExt cx="903240" cy="2019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895640" y="117144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766400" y="117144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670360" y="1171440"/>
                <a:ext cx="1085040" cy="201960"/>
                <a:chOff x="5670360" y="1171440"/>
                <a:chExt cx="1085040" cy="2019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800320" y="11714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670360" y="11714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755760" y="1171440"/>
                <a:ext cx="1085040" cy="201960"/>
                <a:chOff x="6755760" y="1171440"/>
                <a:chExt cx="1085040" cy="2019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885720" y="11714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755760" y="11714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225440" y="1373760"/>
                <a:ext cx="870480" cy="201960"/>
                <a:chOff x="1225440" y="1373760"/>
                <a:chExt cx="870480" cy="2019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355400" y="137376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225440" y="137376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096280" y="1373760"/>
                <a:ext cx="776520" cy="201960"/>
                <a:chOff x="2096280" y="1373760"/>
                <a:chExt cx="776520" cy="2019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226240" y="137376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096280" y="137376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873160" y="1373760"/>
                <a:ext cx="940320" cy="201960"/>
                <a:chOff x="2873160" y="1373760"/>
                <a:chExt cx="940320" cy="2019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003120" y="137376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873160" y="137376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813840" y="1373760"/>
                <a:ext cx="951840" cy="201960"/>
                <a:chOff x="3813840" y="1373760"/>
                <a:chExt cx="951840" cy="2019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943080" y="137376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13840" y="137376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766400" y="1373760"/>
                <a:ext cx="903240" cy="201960"/>
                <a:chOff x="4766400" y="1373760"/>
                <a:chExt cx="903240" cy="2019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895640" y="137376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66400" y="137376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670360" y="1373760"/>
                <a:ext cx="1085040" cy="201960"/>
                <a:chOff x="5670360" y="1373760"/>
                <a:chExt cx="1085040" cy="2019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800320" y="13737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670360" y="13737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6755760" y="1373760"/>
                <a:ext cx="1085040" cy="201960"/>
                <a:chOff x="6755760" y="1373760"/>
                <a:chExt cx="1085040" cy="2019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885720" y="13737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755760" y="13737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225440" y="1575720"/>
                <a:ext cx="870480" cy="201960"/>
                <a:chOff x="1225440" y="1575720"/>
                <a:chExt cx="870480" cy="2019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355400" y="157572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225440" y="157572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096280" y="1575720"/>
                <a:ext cx="776520" cy="201960"/>
                <a:chOff x="2096280" y="1575720"/>
                <a:chExt cx="776520" cy="201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226240" y="157572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096280" y="157572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873160" y="1575720"/>
                <a:ext cx="940320" cy="201960"/>
                <a:chOff x="2873160" y="1575720"/>
                <a:chExt cx="940320" cy="2019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003120" y="157572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873160" y="157572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3813840" y="1575720"/>
                <a:ext cx="951840" cy="201960"/>
                <a:chOff x="3813840" y="1575720"/>
                <a:chExt cx="951840" cy="2019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943080" y="157572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813840" y="157572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766400" y="1575720"/>
                <a:ext cx="903240" cy="201960"/>
                <a:chOff x="4766400" y="1575720"/>
                <a:chExt cx="903240" cy="2019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895640" y="157572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66400" y="157572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5670360" y="1575720"/>
                <a:ext cx="1085040" cy="201960"/>
                <a:chOff x="5670360" y="1575720"/>
                <a:chExt cx="1085040" cy="2019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800320" y="15757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670360" y="15757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6755760" y="1575720"/>
                <a:ext cx="1085040" cy="201960"/>
                <a:chOff x="6755760" y="1575720"/>
                <a:chExt cx="1085040" cy="2019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885720" y="15757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755760" y="15757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1225440" y="1777680"/>
                <a:ext cx="870480" cy="201960"/>
                <a:chOff x="1225440" y="1777680"/>
                <a:chExt cx="870480" cy="201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355400" y="177768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25440" y="177768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096280" y="1777680"/>
                <a:ext cx="776520" cy="201960"/>
                <a:chOff x="2096280" y="1777680"/>
                <a:chExt cx="776520" cy="201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226240" y="177768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096280" y="177768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873160" y="1777680"/>
                <a:ext cx="940320" cy="201960"/>
                <a:chOff x="2873160" y="1777680"/>
                <a:chExt cx="940320" cy="2019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003120" y="177768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73160" y="177768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813840" y="1777680"/>
                <a:ext cx="951840" cy="201960"/>
                <a:chOff x="3813840" y="1777680"/>
                <a:chExt cx="951840" cy="2019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943080" y="177768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813840" y="177768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766400" y="1777680"/>
                <a:ext cx="903240" cy="201960"/>
                <a:chOff x="4766400" y="1777680"/>
                <a:chExt cx="903240" cy="2019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895640" y="177768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766400" y="177768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670360" y="1777680"/>
                <a:ext cx="1085040" cy="201960"/>
                <a:chOff x="5670360" y="1777680"/>
                <a:chExt cx="1085040" cy="2019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800320" y="17776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670360" y="17776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755760" y="1777680"/>
                <a:ext cx="1085040" cy="201960"/>
                <a:chOff x="6755760" y="1777680"/>
                <a:chExt cx="1085040" cy="2019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885720" y="17776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755760" y="17776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225440" y="1980000"/>
                <a:ext cx="870480" cy="201960"/>
                <a:chOff x="1225440" y="1980000"/>
                <a:chExt cx="870480" cy="201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55400" y="198000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225440" y="198000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096280" y="1980000"/>
                <a:ext cx="776520" cy="201960"/>
                <a:chOff x="2096280" y="1980000"/>
                <a:chExt cx="776520" cy="2019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226240" y="198000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096280" y="198000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873160" y="1980000"/>
                <a:ext cx="940320" cy="201960"/>
                <a:chOff x="2873160" y="1980000"/>
                <a:chExt cx="940320" cy="201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003120" y="198000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873160" y="198000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813840" y="1980000"/>
                <a:ext cx="951840" cy="201960"/>
                <a:chOff x="3813840" y="1980000"/>
                <a:chExt cx="951840" cy="2019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943080" y="198000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13840" y="198000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766400" y="1980000"/>
                <a:ext cx="903240" cy="201960"/>
                <a:chOff x="4766400" y="1980000"/>
                <a:chExt cx="903240" cy="2019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895640" y="198000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766400" y="198000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5670360" y="1980000"/>
                <a:ext cx="1085040" cy="201960"/>
                <a:chOff x="5670360" y="1980000"/>
                <a:chExt cx="1085040" cy="201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800320" y="19800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670360" y="19800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755760" y="1980000"/>
                <a:ext cx="1085040" cy="201960"/>
                <a:chOff x="6755760" y="1980000"/>
                <a:chExt cx="1085040" cy="201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885720" y="19800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755760" y="19800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225440" y="2181960"/>
                <a:ext cx="870480" cy="201960"/>
                <a:chOff x="1225440" y="2181960"/>
                <a:chExt cx="870480" cy="201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355400" y="218196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225440" y="218196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096280" y="2181960"/>
                <a:ext cx="776520" cy="201960"/>
                <a:chOff x="2096280" y="2181960"/>
                <a:chExt cx="776520" cy="201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226240" y="218196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096280" y="218196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873160" y="2181960"/>
                <a:ext cx="940320" cy="201960"/>
                <a:chOff x="2873160" y="2181960"/>
                <a:chExt cx="940320" cy="2019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003120" y="218196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73160" y="218196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840" y="2181960"/>
                <a:ext cx="951840" cy="201960"/>
                <a:chOff x="3813840" y="2181960"/>
                <a:chExt cx="951840" cy="2019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943080" y="218196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840" y="218196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766400" y="2181960"/>
                <a:ext cx="903240" cy="201960"/>
                <a:chOff x="4766400" y="2181960"/>
                <a:chExt cx="903240" cy="2019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895640" y="218196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766400" y="218196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670360" y="2181960"/>
                <a:ext cx="1085040" cy="201960"/>
                <a:chOff x="5670360" y="2181960"/>
                <a:chExt cx="1085040" cy="2019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800320" y="21819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670360" y="21819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755760" y="2181960"/>
                <a:ext cx="1085040" cy="201960"/>
                <a:chOff x="6755760" y="2181960"/>
                <a:chExt cx="1085040" cy="201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885720" y="21819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755760" y="21819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1225440" y="2383920"/>
                <a:ext cx="870480" cy="201960"/>
                <a:chOff x="1225440" y="2383920"/>
                <a:chExt cx="870480" cy="2019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1355400" y="238392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225440" y="238392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096280" y="2383920"/>
                <a:ext cx="776520" cy="201960"/>
                <a:chOff x="2096280" y="2383920"/>
                <a:chExt cx="776520" cy="201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226240" y="238392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96280" y="238392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873160" y="2383920"/>
                <a:ext cx="940320" cy="201960"/>
                <a:chOff x="2873160" y="2383920"/>
                <a:chExt cx="940320" cy="201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003120" y="238392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73160" y="238392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813840" y="2383920"/>
                <a:ext cx="951840" cy="201960"/>
                <a:chOff x="3813840" y="2383920"/>
                <a:chExt cx="951840" cy="2019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943080" y="238392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813840" y="238392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766400" y="2383920"/>
                <a:ext cx="903240" cy="201960"/>
                <a:chOff x="4766400" y="2383920"/>
                <a:chExt cx="903240" cy="2019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895640" y="238392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766400" y="238392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670360" y="2383920"/>
                <a:ext cx="1085040" cy="201960"/>
                <a:chOff x="5670360" y="2383920"/>
                <a:chExt cx="1085040" cy="2019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800320" y="23839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670360" y="23839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755760" y="2383920"/>
                <a:ext cx="1085040" cy="201960"/>
                <a:chOff x="6755760" y="2383920"/>
                <a:chExt cx="1085040" cy="2019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885720" y="23839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755760" y="23839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1225440" y="2586240"/>
                <a:ext cx="870480" cy="201960"/>
                <a:chOff x="1225440" y="2586240"/>
                <a:chExt cx="870480" cy="2019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355400" y="258624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225440" y="258624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2096280" y="2586240"/>
                <a:ext cx="776520" cy="201960"/>
                <a:chOff x="2096280" y="2586240"/>
                <a:chExt cx="776520" cy="201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226240" y="258624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96280" y="258624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873160" y="2586240"/>
                <a:ext cx="940320" cy="201960"/>
                <a:chOff x="2873160" y="2586240"/>
                <a:chExt cx="940320" cy="201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003120" y="258624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873160" y="258624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813840" y="2586240"/>
                <a:ext cx="951840" cy="201960"/>
                <a:chOff x="3813840" y="2586240"/>
                <a:chExt cx="951840" cy="201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43080" y="258624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813840" y="258624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766400" y="2586240"/>
                <a:ext cx="903240" cy="201960"/>
                <a:chOff x="4766400" y="2586240"/>
                <a:chExt cx="903240" cy="201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895640" y="258624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766400" y="258624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670360" y="2586240"/>
                <a:ext cx="1085040" cy="201960"/>
                <a:chOff x="5670360" y="2586240"/>
                <a:chExt cx="1085040" cy="201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800320" y="25862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670360" y="25862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755760" y="2586240"/>
                <a:ext cx="1085040" cy="201960"/>
                <a:chOff x="6755760" y="2586240"/>
                <a:chExt cx="1085040" cy="2019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885720" y="25862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755760" y="25862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1225440" y="2788200"/>
                <a:ext cx="870480" cy="201960"/>
                <a:chOff x="1225440" y="2788200"/>
                <a:chExt cx="870480" cy="2019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1355400" y="278820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25440" y="278820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096280" y="2788200"/>
                <a:ext cx="776520" cy="201960"/>
                <a:chOff x="2096280" y="2788200"/>
                <a:chExt cx="776520" cy="2019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226240" y="278820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096280" y="278820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2873160" y="2788200"/>
                <a:ext cx="940320" cy="201960"/>
                <a:chOff x="2873160" y="2788200"/>
                <a:chExt cx="940320" cy="201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003120" y="278820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873160" y="278820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3813840" y="2788200"/>
                <a:ext cx="951840" cy="201960"/>
                <a:chOff x="3813840" y="2788200"/>
                <a:chExt cx="951840" cy="2019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943080" y="278820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813840" y="278820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766400" y="2788200"/>
                <a:ext cx="903240" cy="201960"/>
                <a:chOff x="4766400" y="2788200"/>
                <a:chExt cx="903240" cy="2019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895640" y="278820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766400" y="278820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5670360" y="2788200"/>
                <a:ext cx="1085040" cy="201960"/>
                <a:chOff x="5670360" y="2788200"/>
                <a:chExt cx="1085040" cy="2019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800320" y="27882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670360" y="27882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755760" y="2788200"/>
                <a:ext cx="1085040" cy="201960"/>
                <a:chOff x="6755760" y="2788200"/>
                <a:chExt cx="1085040" cy="2019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885720" y="27882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755760" y="27882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225440" y="2990520"/>
                <a:ext cx="870480" cy="201960"/>
                <a:chOff x="1225440" y="2990520"/>
                <a:chExt cx="870480" cy="2019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355400" y="299052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225440" y="299052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096280" y="2990520"/>
                <a:ext cx="776520" cy="201960"/>
                <a:chOff x="2096280" y="2990520"/>
                <a:chExt cx="776520" cy="2019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226240" y="299052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096280" y="299052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873160" y="2990520"/>
                <a:ext cx="940320" cy="201960"/>
                <a:chOff x="2873160" y="2990520"/>
                <a:chExt cx="940320" cy="2019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003120" y="299052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873160" y="299052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3813840" y="2990520"/>
                <a:ext cx="951840" cy="201960"/>
                <a:chOff x="3813840" y="2990520"/>
                <a:chExt cx="951840" cy="2019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943080" y="299052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3840" y="299052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766400" y="2990520"/>
                <a:ext cx="903240" cy="201960"/>
                <a:chOff x="4766400" y="2990520"/>
                <a:chExt cx="903240" cy="201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895640" y="299052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766400" y="299052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5670360" y="2990520"/>
                <a:ext cx="1085040" cy="201960"/>
                <a:chOff x="5670360" y="2990520"/>
                <a:chExt cx="1085040" cy="2019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5800320" y="29905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670360" y="29905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6755760" y="2990520"/>
                <a:ext cx="1085040" cy="201960"/>
                <a:chOff x="6755760" y="2990520"/>
                <a:chExt cx="1085040" cy="2019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885720" y="29905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55760" y="29905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1225440" y="3192480"/>
                <a:ext cx="870480" cy="201960"/>
                <a:chOff x="1225440" y="3192480"/>
                <a:chExt cx="870480" cy="2019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355400" y="319248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225440" y="319248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096280" y="3192480"/>
                <a:ext cx="776520" cy="201960"/>
                <a:chOff x="2096280" y="3192480"/>
                <a:chExt cx="776520" cy="2019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2226240" y="319248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096280" y="319248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873160" y="3192480"/>
                <a:ext cx="940320" cy="201960"/>
                <a:chOff x="2873160" y="3192480"/>
                <a:chExt cx="940320" cy="2019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003120" y="319248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873160" y="319248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813840" y="3192480"/>
                <a:ext cx="951840" cy="201960"/>
                <a:chOff x="3813840" y="3192480"/>
                <a:chExt cx="951840" cy="2019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943080" y="319248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813840" y="319248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4766400" y="3192480"/>
                <a:ext cx="903240" cy="201960"/>
                <a:chOff x="4766400" y="3192480"/>
                <a:chExt cx="903240" cy="2019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895640" y="319248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766400" y="319248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5670360" y="3192480"/>
                <a:ext cx="1085040" cy="201960"/>
                <a:chOff x="5670360" y="3192480"/>
                <a:chExt cx="1085040" cy="2019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800320" y="31924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670360" y="31924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6755760" y="3192480"/>
                <a:ext cx="1085040" cy="201960"/>
                <a:chOff x="6755760" y="3192480"/>
                <a:chExt cx="1085040" cy="2019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885720" y="31924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755760" y="31924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1225440" y="3394440"/>
                <a:ext cx="870480" cy="201960"/>
                <a:chOff x="1225440" y="3394440"/>
                <a:chExt cx="870480" cy="2019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355400" y="339444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225440" y="339444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2096280" y="3394440"/>
                <a:ext cx="776520" cy="201960"/>
                <a:chOff x="2096280" y="3394440"/>
                <a:chExt cx="776520" cy="2019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226240" y="339444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096280" y="339444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2873160" y="3394440"/>
                <a:ext cx="940320" cy="201960"/>
                <a:chOff x="2873160" y="3394440"/>
                <a:chExt cx="940320" cy="2019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3003120" y="339444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873160" y="339444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3813840" y="3394440"/>
                <a:ext cx="951840" cy="201960"/>
                <a:chOff x="3813840" y="3394440"/>
                <a:chExt cx="951840" cy="2019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3943080" y="339444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813840" y="339444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4766400" y="3394440"/>
                <a:ext cx="903240" cy="201960"/>
                <a:chOff x="4766400" y="3394440"/>
                <a:chExt cx="903240" cy="2019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4895640" y="339444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766400" y="339444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5670360" y="3394440"/>
                <a:ext cx="1085040" cy="201960"/>
                <a:chOff x="5670360" y="3394440"/>
                <a:chExt cx="1085040" cy="2019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5800320" y="33944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670360" y="33944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6755760" y="3394440"/>
                <a:ext cx="1085040" cy="201960"/>
                <a:chOff x="6755760" y="3394440"/>
                <a:chExt cx="1085040" cy="2019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6885720" y="33944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755760" y="33944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1225440" y="3596760"/>
                <a:ext cx="870480" cy="201960"/>
                <a:chOff x="1225440" y="3596760"/>
                <a:chExt cx="870480" cy="2019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355400" y="359676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225440" y="359676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2096280" y="3596760"/>
                <a:ext cx="776520" cy="201960"/>
                <a:chOff x="2096280" y="3596760"/>
                <a:chExt cx="776520" cy="2019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2226240" y="359676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096280" y="359676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873160" y="3596760"/>
                <a:ext cx="940320" cy="201960"/>
                <a:chOff x="2873160" y="3596760"/>
                <a:chExt cx="940320" cy="20196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3003120" y="359676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73160" y="359676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813840" y="3596760"/>
                <a:ext cx="951840" cy="201960"/>
                <a:chOff x="3813840" y="3596760"/>
                <a:chExt cx="951840" cy="2019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943080" y="359676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813840" y="359676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4766400" y="3596760"/>
                <a:ext cx="903240" cy="201960"/>
                <a:chOff x="4766400" y="3596760"/>
                <a:chExt cx="903240" cy="2019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4895640" y="359676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766400" y="359676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670360" y="3596760"/>
                <a:ext cx="1085040" cy="201960"/>
                <a:chOff x="5670360" y="3596760"/>
                <a:chExt cx="1085040" cy="2019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800320" y="35967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670360" y="35967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755760" y="3596760"/>
                <a:ext cx="1085040" cy="201960"/>
                <a:chOff x="6755760" y="3596760"/>
                <a:chExt cx="1085040" cy="2019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885720" y="35967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755760" y="35967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225440" y="3798720"/>
                <a:ext cx="870480" cy="201960"/>
                <a:chOff x="1225440" y="3798720"/>
                <a:chExt cx="870480" cy="2019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355400" y="379872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225440" y="379872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096280" y="3798720"/>
                <a:ext cx="776520" cy="201960"/>
                <a:chOff x="2096280" y="3798720"/>
                <a:chExt cx="776520" cy="20196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226240" y="379872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096280" y="379872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2873160" y="3798720"/>
                <a:ext cx="940320" cy="201960"/>
                <a:chOff x="2873160" y="3798720"/>
                <a:chExt cx="940320" cy="2019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3003120" y="379872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873160" y="379872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3813840" y="3798720"/>
                <a:ext cx="951840" cy="201960"/>
                <a:chOff x="3813840" y="3798720"/>
                <a:chExt cx="951840" cy="2019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3943080" y="379872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813840" y="379872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4766400" y="3798720"/>
                <a:ext cx="903240" cy="201960"/>
                <a:chOff x="4766400" y="3798720"/>
                <a:chExt cx="903240" cy="2019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895640" y="379872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766400" y="379872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670360" y="3798720"/>
                <a:ext cx="1085040" cy="201960"/>
                <a:chOff x="5670360" y="3798720"/>
                <a:chExt cx="1085040" cy="2019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800320" y="37987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670360" y="37987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755760" y="3798720"/>
                <a:ext cx="1085040" cy="201960"/>
                <a:chOff x="6755760" y="3798720"/>
                <a:chExt cx="1085040" cy="2019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885720" y="37987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755760" y="37987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1225440" y="4000680"/>
                <a:ext cx="870480" cy="201960"/>
                <a:chOff x="1225440" y="4000680"/>
                <a:chExt cx="870480" cy="201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355400" y="400068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225440" y="400068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2096280" y="4000680"/>
                <a:ext cx="776520" cy="201960"/>
                <a:chOff x="2096280" y="4000680"/>
                <a:chExt cx="776520" cy="2019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226240" y="400068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096280" y="400068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2873160" y="4000680"/>
                <a:ext cx="940320" cy="201960"/>
                <a:chOff x="2873160" y="4000680"/>
                <a:chExt cx="940320" cy="201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3003120" y="400068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873160" y="400068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813840" y="4000680"/>
                <a:ext cx="951840" cy="201960"/>
                <a:chOff x="3813840" y="4000680"/>
                <a:chExt cx="951840" cy="2019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943080" y="400068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813840" y="400068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766400" y="4000680"/>
                <a:ext cx="903240" cy="201960"/>
                <a:chOff x="4766400" y="4000680"/>
                <a:chExt cx="903240" cy="201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895640" y="400068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766400" y="400068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670360" y="4000680"/>
                <a:ext cx="1085040" cy="201960"/>
                <a:chOff x="5670360" y="4000680"/>
                <a:chExt cx="1085040" cy="2019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800320" y="40006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670360" y="40006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6755760" y="4000680"/>
                <a:ext cx="1085040" cy="201960"/>
                <a:chOff x="6755760" y="4000680"/>
                <a:chExt cx="1085040" cy="2019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885720" y="40006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755760" y="40006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1225440" y="4203000"/>
                <a:ext cx="870480" cy="201960"/>
                <a:chOff x="1225440" y="4203000"/>
                <a:chExt cx="870480" cy="2019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355400" y="420300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225440" y="420300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096280" y="4203000"/>
                <a:ext cx="776520" cy="201960"/>
                <a:chOff x="2096280" y="4203000"/>
                <a:chExt cx="776520" cy="2019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226240" y="420300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096280" y="420300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2873160" y="4203000"/>
                <a:ext cx="940320" cy="201960"/>
                <a:chOff x="2873160" y="4203000"/>
                <a:chExt cx="940320" cy="2019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003120" y="420300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873160" y="420300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813840" y="4203000"/>
                <a:ext cx="951840" cy="201960"/>
                <a:chOff x="3813840" y="4203000"/>
                <a:chExt cx="951840" cy="2019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943080" y="420300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13840" y="420300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766400" y="4203000"/>
                <a:ext cx="903240" cy="201960"/>
                <a:chOff x="4766400" y="4203000"/>
                <a:chExt cx="903240" cy="2019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895640" y="420300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766400" y="420300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670360" y="4203000"/>
                <a:ext cx="1085040" cy="201960"/>
                <a:chOff x="5670360" y="4203000"/>
                <a:chExt cx="1085040" cy="2019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800320" y="42030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670360" y="42030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755760" y="4203000"/>
                <a:ext cx="1085040" cy="201960"/>
                <a:chOff x="6755760" y="4203000"/>
                <a:chExt cx="1085040" cy="2019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885720" y="42030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55760" y="42030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1225440" y="4404960"/>
                <a:ext cx="870480" cy="201960"/>
                <a:chOff x="1225440" y="4404960"/>
                <a:chExt cx="870480" cy="2019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1355400" y="440496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225440" y="440496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096280" y="4404960"/>
                <a:ext cx="776520" cy="201960"/>
                <a:chOff x="2096280" y="4404960"/>
                <a:chExt cx="776520" cy="2019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226240" y="440496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96280" y="440496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2873160" y="4404960"/>
                <a:ext cx="940320" cy="201960"/>
                <a:chOff x="2873160" y="4404960"/>
                <a:chExt cx="940320" cy="2019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003120" y="440496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873160" y="440496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3813840" y="4404960"/>
                <a:ext cx="951840" cy="201960"/>
                <a:chOff x="3813840" y="4404960"/>
                <a:chExt cx="951840" cy="2019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3943080" y="440496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813840" y="440496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4766400" y="4404960"/>
                <a:ext cx="903240" cy="201960"/>
                <a:chOff x="4766400" y="4404960"/>
                <a:chExt cx="903240" cy="2019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4895640" y="440496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766400" y="440496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670360" y="4404960"/>
                <a:ext cx="1085040" cy="201960"/>
                <a:chOff x="5670360" y="4404960"/>
                <a:chExt cx="1085040" cy="2019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00320" y="44049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670360" y="44049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755760" y="4404960"/>
                <a:ext cx="1085040" cy="201960"/>
                <a:chOff x="6755760" y="4404960"/>
                <a:chExt cx="1085040" cy="2019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885720" y="44049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55760" y="44049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1225440" y="4607280"/>
                <a:ext cx="870480" cy="201960"/>
                <a:chOff x="1225440" y="4607280"/>
                <a:chExt cx="870480" cy="2019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355400" y="460728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225440" y="460728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096280" y="4607280"/>
                <a:ext cx="776520" cy="201960"/>
                <a:chOff x="2096280" y="4607280"/>
                <a:chExt cx="776520" cy="201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226240" y="460728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096280" y="460728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873160" y="4607280"/>
                <a:ext cx="940320" cy="201960"/>
                <a:chOff x="2873160" y="4607280"/>
                <a:chExt cx="940320" cy="2019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3003120" y="460728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873160" y="460728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3813840" y="4607280"/>
                <a:ext cx="951840" cy="201960"/>
                <a:chOff x="3813840" y="4607280"/>
                <a:chExt cx="951840" cy="2019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3943080" y="460728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813840" y="460728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4766400" y="4607280"/>
                <a:ext cx="903240" cy="201960"/>
                <a:chOff x="4766400" y="4607280"/>
                <a:chExt cx="903240" cy="2019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4895640" y="460728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766400" y="460728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670360" y="4607280"/>
                <a:ext cx="1085040" cy="201960"/>
                <a:chOff x="5670360" y="4607280"/>
                <a:chExt cx="1085040" cy="2019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5800320" y="46072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670360" y="46072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6755760" y="4607280"/>
                <a:ext cx="1085040" cy="201960"/>
                <a:chOff x="6755760" y="4607280"/>
                <a:chExt cx="1085040" cy="2019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6885720" y="46072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755760" y="46072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225440" y="4809240"/>
                <a:ext cx="870480" cy="201960"/>
                <a:chOff x="1225440" y="4809240"/>
                <a:chExt cx="870480" cy="2019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355400" y="480924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225440" y="480924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2096280" y="4809240"/>
                <a:ext cx="776520" cy="201960"/>
                <a:chOff x="2096280" y="4809240"/>
                <a:chExt cx="776520" cy="2019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2226240" y="480924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096280" y="480924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873160" y="4809240"/>
                <a:ext cx="940320" cy="201960"/>
                <a:chOff x="2873160" y="4809240"/>
                <a:chExt cx="940320" cy="2019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003120" y="480924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873160" y="480924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3813840" y="4809240"/>
                <a:ext cx="951840" cy="201960"/>
                <a:chOff x="3813840" y="4809240"/>
                <a:chExt cx="951840" cy="2019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3943080" y="480924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813840" y="480924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4766400" y="4809240"/>
                <a:ext cx="903240" cy="201960"/>
                <a:chOff x="4766400" y="4809240"/>
                <a:chExt cx="903240" cy="2019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4895640" y="480924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766400" y="480924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5670360" y="4809240"/>
                <a:ext cx="1085040" cy="201960"/>
                <a:chOff x="5670360" y="4809240"/>
                <a:chExt cx="1085040" cy="201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00320" y="48092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670360" y="48092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755760" y="4809240"/>
                <a:ext cx="1085040" cy="201960"/>
                <a:chOff x="6755760" y="4809240"/>
                <a:chExt cx="1085040" cy="201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885720" y="48092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55760" y="48092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1225440" y="5011200"/>
                <a:ext cx="870480" cy="201960"/>
                <a:chOff x="1225440" y="5011200"/>
                <a:chExt cx="870480" cy="2019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355400" y="501120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225440" y="501120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2096280" y="5011200"/>
                <a:ext cx="776520" cy="201960"/>
                <a:chOff x="2096280" y="5011200"/>
                <a:chExt cx="776520" cy="2019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2226240" y="501120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96280" y="501120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2873160" y="5011200"/>
                <a:ext cx="940320" cy="201960"/>
                <a:chOff x="2873160" y="5011200"/>
                <a:chExt cx="940320" cy="2019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3003120" y="501120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873160" y="501120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3813840" y="5011200"/>
                <a:ext cx="951840" cy="201960"/>
                <a:chOff x="3813840" y="5011200"/>
                <a:chExt cx="951840" cy="2019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943080" y="501120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813840" y="501120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4766400" y="5011200"/>
                <a:ext cx="903240" cy="201960"/>
                <a:chOff x="4766400" y="5011200"/>
                <a:chExt cx="903240" cy="2019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895640" y="501120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766400" y="501120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5670360" y="5011200"/>
                <a:ext cx="1085040" cy="201960"/>
                <a:chOff x="5670360" y="5011200"/>
                <a:chExt cx="1085040" cy="2019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800320" y="50112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670360" y="50112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755760" y="5011200"/>
                <a:ext cx="1085040" cy="201960"/>
                <a:chOff x="6755760" y="5011200"/>
                <a:chExt cx="1085040" cy="2019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885720" y="50112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755760" y="50112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1225440" y="5213520"/>
                <a:ext cx="870480" cy="201960"/>
                <a:chOff x="1225440" y="5213520"/>
                <a:chExt cx="870480" cy="2019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1355400" y="521352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225440" y="521352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096280" y="5213520"/>
                <a:ext cx="776520" cy="201960"/>
                <a:chOff x="2096280" y="5213520"/>
                <a:chExt cx="776520" cy="2019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2226240" y="521352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96280" y="521352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2873160" y="5213520"/>
                <a:ext cx="940320" cy="201960"/>
                <a:chOff x="2873160" y="5213520"/>
                <a:chExt cx="940320" cy="2019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3003120" y="521352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873160" y="521352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3813840" y="5213520"/>
                <a:ext cx="951840" cy="201960"/>
                <a:chOff x="3813840" y="5213520"/>
                <a:chExt cx="951840" cy="2019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3943080" y="521352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813840" y="521352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4766400" y="5213520"/>
                <a:ext cx="903240" cy="201960"/>
                <a:chOff x="4766400" y="5213520"/>
                <a:chExt cx="903240" cy="2019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4895640" y="521352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766400" y="521352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5670360" y="5213520"/>
                <a:ext cx="1085040" cy="201960"/>
                <a:chOff x="5670360" y="5213520"/>
                <a:chExt cx="1085040" cy="201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5800320" y="52135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670360" y="52135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6755760" y="5213520"/>
                <a:ext cx="1085040" cy="201960"/>
                <a:chOff x="6755760" y="5213520"/>
                <a:chExt cx="1085040" cy="2019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6885720" y="52135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6755760" y="52135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1225440" y="5415480"/>
                <a:ext cx="870480" cy="201960"/>
                <a:chOff x="1225440" y="5415480"/>
                <a:chExt cx="870480" cy="2019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1355400" y="541548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225440" y="541548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2096280" y="5415480"/>
                <a:ext cx="776520" cy="201960"/>
                <a:chOff x="2096280" y="5415480"/>
                <a:chExt cx="776520" cy="2019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2226240" y="541548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096280" y="541548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2873160" y="5415480"/>
                <a:ext cx="940320" cy="201960"/>
                <a:chOff x="2873160" y="5415480"/>
                <a:chExt cx="940320" cy="2019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3003120" y="541548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873160" y="541548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813840" y="5415480"/>
                <a:ext cx="951840" cy="201960"/>
                <a:chOff x="3813840" y="5415480"/>
                <a:chExt cx="951840" cy="201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943080" y="541548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813840" y="541548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4766400" y="5415480"/>
                <a:ext cx="903240" cy="201960"/>
                <a:chOff x="4766400" y="5415480"/>
                <a:chExt cx="903240" cy="2019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4895640" y="541548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766400" y="541548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670360" y="5415480"/>
                <a:ext cx="1085040" cy="201960"/>
                <a:chOff x="5670360" y="5415480"/>
                <a:chExt cx="1085040" cy="2019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800320" y="54154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670360" y="54154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6755760" y="5415480"/>
                <a:ext cx="1085040" cy="201960"/>
                <a:chOff x="6755760" y="5415480"/>
                <a:chExt cx="1085040" cy="201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6885720" y="541548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755760" y="541548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1225440" y="5617440"/>
                <a:ext cx="870480" cy="201960"/>
                <a:chOff x="1225440" y="5617440"/>
                <a:chExt cx="870480" cy="2019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1355400" y="561744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225440" y="561744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2096280" y="5617440"/>
                <a:ext cx="776520" cy="201960"/>
                <a:chOff x="2096280" y="5617440"/>
                <a:chExt cx="776520" cy="2019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2226240" y="561744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096280" y="561744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2873160" y="5617440"/>
                <a:ext cx="940320" cy="201960"/>
                <a:chOff x="2873160" y="5617440"/>
                <a:chExt cx="940320" cy="2019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003120" y="561744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873160" y="561744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3813840" y="5617440"/>
                <a:ext cx="951840" cy="201960"/>
                <a:chOff x="3813840" y="5617440"/>
                <a:chExt cx="951840" cy="2019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943080" y="561744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813840" y="561744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766400" y="5617440"/>
                <a:ext cx="903240" cy="201960"/>
                <a:chOff x="4766400" y="5617440"/>
                <a:chExt cx="903240" cy="2019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895640" y="561744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766400" y="561744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670360" y="5617440"/>
                <a:ext cx="1085040" cy="201960"/>
                <a:chOff x="5670360" y="5617440"/>
                <a:chExt cx="1085040" cy="2019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00320" y="56174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670360" y="56174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755760" y="5617440"/>
                <a:ext cx="1085040" cy="201960"/>
                <a:chOff x="6755760" y="5617440"/>
                <a:chExt cx="1085040" cy="2019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885720" y="56174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755760" y="56174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1225440" y="5819760"/>
                <a:ext cx="870480" cy="201960"/>
                <a:chOff x="1225440" y="5819760"/>
                <a:chExt cx="870480" cy="2019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355400" y="581976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225440" y="581976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096280" y="5819760"/>
                <a:ext cx="776520" cy="201960"/>
                <a:chOff x="2096280" y="5819760"/>
                <a:chExt cx="776520" cy="2019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226240" y="581976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096280" y="581976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2873160" y="5819760"/>
                <a:ext cx="940320" cy="201960"/>
                <a:chOff x="2873160" y="5819760"/>
                <a:chExt cx="940320" cy="2019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003120" y="581976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873160" y="581976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3813840" y="5819760"/>
                <a:ext cx="951840" cy="201960"/>
                <a:chOff x="3813840" y="5819760"/>
                <a:chExt cx="951840" cy="2019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3943080" y="581976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813840" y="581976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4766400" y="5819760"/>
                <a:ext cx="903240" cy="201960"/>
                <a:chOff x="4766400" y="5819760"/>
                <a:chExt cx="903240" cy="2019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895640" y="581976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766400" y="581976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5670360" y="5819760"/>
                <a:ext cx="1085040" cy="201960"/>
                <a:chOff x="5670360" y="5819760"/>
                <a:chExt cx="1085040" cy="2019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5800320" y="58197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670360" y="58197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6755760" y="5819760"/>
                <a:ext cx="1085040" cy="201960"/>
                <a:chOff x="6755760" y="5819760"/>
                <a:chExt cx="1085040" cy="2019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885720" y="581976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755760" y="581976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1225440" y="6021720"/>
                <a:ext cx="870480" cy="201960"/>
                <a:chOff x="1225440" y="6021720"/>
                <a:chExt cx="870480" cy="2019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1355400" y="602172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225440" y="602172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096280" y="6021720"/>
                <a:ext cx="776520" cy="201960"/>
                <a:chOff x="2096280" y="6021720"/>
                <a:chExt cx="776520" cy="2019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226240" y="602172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096280" y="602172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2873160" y="6021720"/>
                <a:ext cx="940320" cy="201960"/>
                <a:chOff x="2873160" y="6021720"/>
                <a:chExt cx="940320" cy="20196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3003120" y="602172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873160" y="602172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3813840" y="6021720"/>
                <a:ext cx="951840" cy="201960"/>
                <a:chOff x="3813840" y="6021720"/>
                <a:chExt cx="951840" cy="2019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943080" y="602172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813840" y="602172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4766400" y="6021720"/>
                <a:ext cx="903240" cy="201960"/>
                <a:chOff x="4766400" y="6021720"/>
                <a:chExt cx="903240" cy="20196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4895640" y="602172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66400" y="602172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5670360" y="6021720"/>
                <a:ext cx="1085040" cy="201960"/>
                <a:chOff x="5670360" y="6021720"/>
                <a:chExt cx="1085040" cy="20196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800320" y="60217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70360" y="60217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6755760" y="6021720"/>
                <a:ext cx="1085040" cy="201960"/>
                <a:chOff x="6755760" y="6021720"/>
                <a:chExt cx="1085040" cy="20196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6885720" y="602172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755760" y="602172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1225440" y="6224040"/>
                <a:ext cx="870480" cy="201960"/>
                <a:chOff x="1225440" y="6224040"/>
                <a:chExt cx="870480" cy="20196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1355400" y="622404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25440" y="622404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2096280" y="6224040"/>
                <a:ext cx="776520" cy="201960"/>
                <a:chOff x="2096280" y="6224040"/>
                <a:chExt cx="776520" cy="2019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226240" y="622404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096280" y="622404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873160" y="6224040"/>
                <a:ext cx="940320" cy="201960"/>
                <a:chOff x="2873160" y="6224040"/>
                <a:chExt cx="940320" cy="20196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003120" y="622404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873160" y="622404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3813840" y="6224040"/>
                <a:ext cx="951840" cy="201960"/>
                <a:chOff x="3813840" y="6224040"/>
                <a:chExt cx="951840" cy="20196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3943080" y="622404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813840" y="622404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4766400" y="6224040"/>
                <a:ext cx="903240" cy="201960"/>
                <a:chOff x="4766400" y="6224040"/>
                <a:chExt cx="903240" cy="2019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4895640" y="622404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766400" y="622404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5670360" y="6224040"/>
                <a:ext cx="1085040" cy="201960"/>
                <a:chOff x="5670360" y="6224040"/>
                <a:chExt cx="1085040" cy="2019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800320" y="62240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70360" y="62240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6755760" y="6224040"/>
                <a:ext cx="1085040" cy="201960"/>
                <a:chOff x="6755760" y="6224040"/>
                <a:chExt cx="1085040" cy="20196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6885720" y="622404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755760" y="622404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1225440" y="6426000"/>
                <a:ext cx="870480" cy="201960"/>
                <a:chOff x="1225440" y="6426000"/>
                <a:chExt cx="870480" cy="2019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1355400" y="6426000"/>
                  <a:ext cx="6098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225440" y="6426000"/>
                  <a:ext cx="87048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2096280" y="6426000"/>
                <a:ext cx="776520" cy="201960"/>
                <a:chOff x="2096280" y="6426000"/>
                <a:chExt cx="776520" cy="2019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2226240" y="6426000"/>
                  <a:ext cx="5166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2096280" y="6426000"/>
                  <a:ext cx="776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2873160" y="6426000"/>
                <a:ext cx="940320" cy="201960"/>
                <a:chOff x="2873160" y="6426000"/>
                <a:chExt cx="940320" cy="20196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3003120" y="6426000"/>
                  <a:ext cx="67968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873160" y="6426000"/>
                  <a:ext cx="9403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3813840" y="6426000"/>
                <a:ext cx="951840" cy="201960"/>
                <a:chOff x="3813840" y="6426000"/>
                <a:chExt cx="951840" cy="20196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3943080" y="6426000"/>
                  <a:ext cx="6919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813840" y="6426000"/>
                  <a:ext cx="9518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4766400" y="6426000"/>
                <a:ext cx="903240" cy="201960"/>
                <a:chOff x="4766400" y="6426000"/>
                <a:chExt cx="903240" cy="2019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4895640" y="6426000"/>
                  <a:ext cx="6440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766400" y="6426000"/>
                  <a:ext cx="9032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670360" y="6426000"/>
                <a:ext cx="1085040" cy="201960"/>
                <a:chOff x="5670360" y="6426000"/>
                <a:chExt cx="1085040" cy="2019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5800320" y="64260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70360" y="64260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6755760" y="6426000"/>
                <a:ext cx="1085040" cy="201960"/>
                <a:chOff x="6755760" y="6426000"/>
                <a:chExt cx="1085040" cy="2019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6885720" y="6426000"/>
                  <a:ext cx="8251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755760" y="6426000"/>
                  <a:ext cx="10850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9" name=""/>
            <p:cNvSpPr/>
            <p:nvPr/>
          </p:nvSpPr>
          <p:spPr>
            <a:xfrm>
              <a:off x="1219320" y="304920"/>
              <a:ext cx="6629040" cy="63244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440" y="1312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44520" y="12823920"/>
            <a:ext cx="461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ngle Color Ca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2" name=""/>
          <p:cNvSpPr/>
          <p:nvPr/>
        </p:nvSpPr>
        <p:spPr>
          <a:xfrm>
            <a:off x="1440" y="13120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1523880" y="609480"/>
            <a:ext cx="586764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Observed 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Vs.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ff">
                    <a:alpha val="50000"/>
                  </a:srgbClr>
                </a:solidFill>
                <a:latin typeface="Arial Black"/>
              </a:rPr>
              <a:t>Expected</a:t>
            </a:r>
            <a:endParaRPr b="0" lang="en-US" sz="2400" spc="1" strike="noStrike">
              <a:ln w="0">
                <a:noFill/>
              </a:ln>
              <a:solidFill>
                <a:srgbClr val="ffcc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286000" y="0"/>
            <a:ext cx="4495320" cy="6858000"/>
            <a:chOff x="2286000" y="0"/>
            <a:chExt cx="4495320" cy="6858000"/>
          </a:xfrm>
        </p:grpSpPr>
        <p:grpSp>
          <p:nvGrpSpPr>
            <p:cNvPr id="725" name=""/>
            <p:cNvGrpSpPr/>
            <p:nvPr/>
          </p:nvGrpSpPr>
          <p:grpSpPr>
            <a:xfrm>
              <a:off x="2289960" y="1080"/>
              <a:ext cx="4486320" cy="6855840"/>
              <a:chOff x="2289960" y="1080"/>
              <a:chExt cx="4486320" cy="685584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2289960" y="1080"/>
                <a:ext cx="860760" cy="331200"/>
                <a:chOff x="2289960" y="1080"/>
                <a:chExt cx="860760" cy="33120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2378880" y="1080"/>
                  <a:ext cx="68292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289960" y="1080"/>
                  <a:ext cx="86076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151080" y="1080"/>
                <a:ext cx="1812600" cy="331200"/>
                <a:chOff x="3151080" y="1080"/>
                <a:chExt cx="1812600" cy="33120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239280" y="1080"/>
                  <a:ext cx="163512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xpected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151080" y="1080"/>
                  <a:ext cx="181260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4964040" y="1080"/>
                <a:ext cx="1812240" cy="331200"/>
                <a:chOff x="4964040" y="1080"/>
                <a:chExt cx="1812240" cy="33120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5052240" y="1080"/>
                  <a:ext cx="1635480" cy="33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bserved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964040" y="1080"/>
                  <a:ext cx="1812240" cy="33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2289960" y="332280"/>
                <a:ext cx="860760" cy="217440"/>
                <a:chOff x="2289960" y="332280"/>
                <a:chExt cx="860760" cy="2174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2378880" y="33228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2289960" y="33228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151080" y="332280"/>
                <a:ext cx="1812600" cy="217440"/>
                <a:chOff x="3151080" y="332280"/>
                <a:chExt cx="1812600" cy="2174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239280" y="33228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51080" y="33228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4964040" y="332280"/>
                <a:ext cx="1812240" cy="217440"/>
                <a:chOff x="4964040" y="332280"/>
                <a:chExt cx="1812240" cy="217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5052240" y="33228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964040" y="33228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289960" y="549720"/>
                <a:ext cx="860760" cy="217440"/>
                <a:chOff x="2289960" y="549720"/>
                <a:chExt cx="860760" cy="2174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2378880" y="54972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289960" y="54972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151080" y="549720"/>
                <a:ext cx="1812600" cy="217440"/>
                <a:chOff x="3151080" y="549720"/>
                <a:chExt cx="1812600" cy="2174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239280" y="54972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.9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151080" y="54972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4964040" y="549720"/>
                <a:ext cx="1812240" cy="217440"/>
                <a:chOff x="4964040" y="549720"/>
                <a:chExt cx="1812240" cy="217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052240" y="54972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964040" y="54972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2289960" y="767160"/>
                <a:ext cx="860760" cy="217440"/>
                <a:chOff x="2289960" y="767160"/>
                <a:chExt cx="860760" cy="2174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2378880" y="76716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289960" y="76716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3151080" y="767160"/>
                <a:ext cx="1812600" cy="217440"/>
                <a:chOff x="3151080" y="767160"/>
                <a:chExt cx="1812600" cy="2174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3239280" y="76716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8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151080" y="76716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4964040" y="767160"/>
                <a:ext cx="1812240" cy="217440"/>
                <a:chOff x="4964040" y="767160"/>
                <a:chExt cx="1812240" cy="2174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5052240" y="76716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964040" y="76716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2289960" y="984600"/>
                <a:ext cx="860760" cy="217440"/>
                <a:chOff x="2289960" y="984600"/>
                <a:chExt cx="860760" cy="2174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2378880" y="98460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289960" y="98460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3151080" y="984600"/>
                <a:ext cx="1812600" cy="217440"/>
                <a:chOff x="3151080" y="984600"/>
                <a:chExt cx="1812600" cy="2174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3239280" y="98460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151080" y="98460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4964040" y="984600"/>
                <a:ext cx="1812240" cy="217440"/>
                <a:chOff x="4964040" y="984600"/>
                <a:chExt cx="1812240" cy="21744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5052240" y="98460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964040" y="98460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2289960" y="1202400"/>
                <a:ext cx="860760" cy="217440"/>
                <a:chOff x="2289960" y="1202400"/>
                <a:chExt cx="860760" cy="21744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378880" y="120240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289960" y="120240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151080" y="1202400"/>
                <a:ext cx="1812600" cy="217440"/>
                <a:chOff x="3151080" y="1202400"/>
                <a:chExt cx="1812600" cy="2174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239280" y="120240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8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151080" y="120240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4964040" y="1202400"/>
                <a:ext cx="1812240" cy="217440"/>
                <a:chOff x="4964040" y="1202400"/>
                <a:chExt cx="1812240" cy="2174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052240" y="120240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964040" y="120240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2289960" y="1419840"/>
                <a:ext cx="860760" cy="217440"/>
                <a:chOff x="2289960" y="1419840"/>
                <a:chExt cx="860760" cy="2174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2378880" y="14198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289960" y="14198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3151080" y="1419840"/>
                <a:ext cx="1812600" cy="217440"/>
                <a:chOff x="3151080" y="1419840"/>
                <a:chExt cx="1812600" cy="2174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3239280" y="14198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151080" y="14198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4964040" y="1419840"/>
                <a:ext cx="1812240" cy="217440"/>
                <a:chOff x="4964040" y="1419840"/>
                <a:chExt cx="1812240" cy="21744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5052240" y="14198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4964040" y="14198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289960" y="1637280"/>
                <a:ext cx="860760" cy="217440"/>
                <a:chOff x="2289960" y="1637280"/>
                <a:chExt cx="860760" cy="2174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378880" y="163728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289960" y="163728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151080" y="1637280"/>
                <a:ext cx="1812600" cy="217440"/>
                <a:chOff x="3151080" y="1637280"/>
                <a:chExt cx="1812600" cy="2174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239280" y="163728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5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151080" y="163728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4964040" y="1637280"/>
                <a:ext cx="1812240" cy="217440"/>
                <a:chOff x="4964040" y="1637280"/>
                <a:chExt cx="1812240" cy="2174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5052240" y="163728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964040" y="163728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2289960" y="1854720"/>
                <a:ext cx="860760" cy="217440"/>
                <a:chOff x="2289960" y="1854720"/>
                <a:chExt cx="860760" cy="21744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378880" y="185472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2289960" y="185472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3151080" y="1854720"/>
                <a:ext cx="1812600" cy="217440"/>
                <a:chOff x="3151080" y="1854720"/>
                <a:chExt cx="1812600" cy="21744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3239280" y="185472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151080" y="185472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4964040" y="1854720"/>
                <a:ext cx="1812240" cy="217440"/>
                <a:chOff x="4964040" y="1854720"/>
                <a:chExt cx="1812240" cy="21744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5052240" y="185472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964040" y="185472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2289960" y="2072160"/>
                <a:ext cx="860760" cy="217440"/>
                <a:chOff x="2289960" y="2072160"/>
                <a:chExt cx="860760" cy="21744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2378880" y="207216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2289960" y="207216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3151080" y="2072160"/>
                <a:ext cx="1812600" cy="217440"/>
                <a:chOff x="3151080" y="2072160"/>
                <a:chExt cx="1812600" cy="21744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3239280" y="207216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.6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151080" y="207216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4964040" y="2072160"/>
                <a:ext cx="1812240" cy="217440"/>
                <a:chOff x="4964040" y="2072160"/>
                <a:chExt cx="1812240" cy="21744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5052240" y="207216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964040" y="207216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2289960" y="2289600"/>
                <a:ext cx="860760" cy="217440"/>
                <a:chOff x="2289960" y="2289600"/>
                <a:chExt cx="860760" cy="21744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2378880" y="228960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2289960" y="228960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3151080" y="2289600"/>
                <a:ext cx="1812600" cy="217440"/>
                <a:chOff x="3151080" y="2289600"/>
                <a:chExt cx="1812600" cy="2174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3239280" y="228960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51080" y="228960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4964040" y="2289600"/>
                <a:ext cx="1812240" cy="217440"/>
                <a:chOff x="4964040" y="2289600"/>
                <a:chExt cx="1812240" cy="2174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5052240" y="228960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964040" y="228960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2289960" y="2507040"/>
                <a:ext cx="860760" cy="217440"/>
                <a:chOff x="2289960" y="2507040"/>
                <a:chExt cx="860760" cy="2174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2378880" y="25070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2289960" y="25070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3151080" y="2507040"/>
                <a:ext cx="1812600" cy="217440"/>
                <a:chOff x="3151080" y="2507040"/>
                <a:chExt cx="1812600" cy="2174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3239280" y="25070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151080" y="25070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4964040" y="2507040"/>
                <a:ext cx="1812240" cy="217440"/>
                <a:chOff x="4964040" y="2507040"/>
                <a:chExt cx="1812240" cy="2174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5052240" y="25070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4964040" y="25070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2289960" y="2724840"/>
                <a:ext cx="860760" cy="217440"/>
                <a:chOff x="2289960" y="2724840"/>
                <a:chExt cx="860760" cy="2174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2378880" y="27248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289960" y="27248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3151080" y="2724840"/>
                <a:ext cx="1812600" cy="217440"/>
                <a:chOff x="3151080" y="2724840"/>
                <a:chExt cx="1812600" cy="21744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3239280" y="27248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151080" y="27248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4964040" y="2724840"/>
                <a:ext cx="1812240" cy="217440"/>
                <a:chOff x="4964040" y="2724840"/>
                <a:chExt cx="1812240" cy="2174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052240" y="27248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964040" y="27248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2289960" y="2942280"/>
                <a:ext cx="860760" cy="217440"/>
                <a:chOff x="2289960" y="2942280"/>
                <a:chExt cx="860760" cy="21744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2378880" y="294228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2289960" y="294228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3151080" y="2942280"/>
                <a:ext cx="1812600" cy="217440"/>
                <a:chOff x="3151080" y="2942280"/>
                <a:chExt cx="1812600" cy="21744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3239280" y="294228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.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151080" y="294228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4964040" y="2942280"/>
                <a:ext cx="1812240" cy="217440"/>
                <a:chOff x="4964040" y="2942280"/>
                <a:chExt cx="1812240" cy="21744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5052240" y="294228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964040" y="294228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2289960" y="3159720"/>
                <a:ext cx="860760" cy="217440"/>
                <a:chOff x="2289960" y="3159720"/>
                <a:chExt cx="860760" cy="2174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2378880" y="315972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2289960" y="315972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3151080" y="3159720"/>
                <a:ext cx="1812600" cy="217440"/>
                <a:chOff x="3151080" y="3159720"/>
                <a:chExt cx="1812600" cy="2174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3239280" y="315972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151080" y="315972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4964040" y="3159720"/>
                <a:ext cx="1812240" cy="217440"/>
                <a:chOff x="4964040" y="3159720"/>
                <a:chExt cx="1812240" cy="21744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5052240" y="315972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964040" y="315972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2289960" y="3377160"/>
                <a:ext cx="860760" cy="217440"/>
                <a:chOff x="2289960" y="3377160"/>
                <a:chExt cx="860760" cy="2174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2378880" y="337716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289960" y="337716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3151080" y="3377160"/>
                <a:ext cx="1812600" cy="217440"/>
                <a:chOff x="3151080" y="3377160"/>
                <a:chExt cx="1812600" cy="21744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3239280" y="337716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151080" y="337716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4964040" y="3377160"/>
                <a:ext cx="1812240" cy="217440"/>
                <a:chOff x="4964040" y="3377160"/>
                <a:chExt cx="1812240" cy="21744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5052240" y="337716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964040" y="337716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2289960" y="3594600"/>
                <a:ext cx="860760" cy="217440"/>
                <a:chOff x="2289960" y="3594600"/>
                <a:chExt cx="860760" cy="21744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2378880" y="359460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289960" y="359460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3151080" y="3594600"/>
                <a:ext cx="1812600" cy="217440"/>
                <a:chOff x="3151080" y="3594600"/>
                <a:chExt cx="1812600" cy="21744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3239280" y="359460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.3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151080" y="359460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4964040" y="3594600"/>
                <a:ext cx="1812240" cy="217440"/>
                <a:chOff x="4964040" y="3594600"/>
                <a:chExt cx="1812240" cy="21744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5052240" y="359460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964040" y="359460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2289960" y="3812040"/>
                <a:ext cx="860760" cy="217440"/>
                <a:chOff x="2289960" y="3812040"/>
                <a:chExt cx="860760" cy="2174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2378880" y="38120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289960" y="38120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3151080" y="3812040"/>
                <a:ext cx="1812600" cy="217440"/>
                <a:chOff x="3151080" y="3812040"/>
                <a:chExt cx="1812600" cy="21744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3239280" y="38120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8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151080" y="38120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4964040" y="3812040"/>
                <a:ext cx="1812240" cy="217440"/>
                <a:chOff x="4964040" y="3812040"/>
                <a:chExt cx="1812240" cy="21744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5052240" y="38120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964040" y="38120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2289960" y="4029840"/>
                <a:ext cx="860760" cy="217440"/>
                <a:chOff x="2289960" y="4029840"/>
                <a:chExt cx="860760" cy="2174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2378880" y="40298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289960" y="40298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3151080" y="4029840"/>
                <a:ext cx="1812600" cy="217440"/>
                <a:chOff x="3151080" y="4029840"/>
                <a:chExt cx="1812600" cy="21744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3239280" y="40298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51080" y="40298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4964040" y="4029840"/>
                <a:ext cx="1812240" cy="217440"/>
                <a:chOff x="4964040" y="4029840"/>
                <a:chExt cx="1812240" cy="2174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5052240" y="40298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964040" y="40298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2289960" y="4247280"/>
                <a:ext cx="860760" cy="217440"/>
                <a:chOff x="2289960" y="4247280"/>
                <a:chExt cx="860760" cy="2174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2378880" y="424728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2289960" y="424728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3151080" y="4247280"/>
                <a:ext cx="1812600" cy="217440"/>
                <a:chOff x="3151080" y="4247280"/>
                <a:chExt cx="1812600" cy="2174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3239280" y="424728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151080" y="424728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4964040" y="4247280"/>
                <a:ext cx="1812240" cy="217440"/>
                <a:chOff x="4964040" y="4247280"/>
                <a:chExt cx="1812240" cy="21744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5052240" y="424728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4964040" y="424728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2289960" y="4464720"/>
                <a:ext cx="860760" cy="217440"/>
                <a:chOff x="2289960" y="4464720"/>
                <a:chExt cx="860760" cy="2174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2378880" y="446472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289960" y="446472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3151080" y="4464720"/>
                <a:ext cx="1812600" cy="217440"/>
                <a:chOff x="3151080" y="4464720"/>
                <a:chExt cx="1812600" cy="21744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3239280" y="446472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151080" y="446472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4964040" y="4464720"/>
                <a:ext cx="1812240" cy="217440"/>
                <a:chOff x="4964040" y="4464720"/>
                <a:chExt cx="1812240" cy="2174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5052240" y="446472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964040" y="446472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2289960" y="4682160"/>
                <a:ext cx="860760" cy="217440"/>
                <a:chOff x="2289960" y="4682160"/>
                <a:chExt cx="860760" cy="21744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2378880" y="468216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2289960" y="468216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3151080" y="4682160"/>
                <a:ext cx="1812600" cy="217440"/>
                <a:chOff x="3151080" y="4682160"/>
                <a:chExt cx="1812600" cy="2174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3239280" y="468216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151080" y="468216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4964040" y="4682160"/>
                <a:ext cx="1812240" cy="217440"/>
                <a:chOff x="4964040" y="4682160"/>
                <a:chExt cx="1812240" cy="2174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052240" y="468216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964040" y="468216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2289960" y="4899600"/>
                <a:ext cx="860760" cy="217440"/>
                <a:chOff x="2289960" y="4899600"/>
                <a:chExt cx="860760" cy="2174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2378880" y="489960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289960" y="489960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3151080" y="4899600"/>
                <a:ext cx="1812600" cy="217440"/>
                <a:chOff x="3151080" y="4899600"/>
                <a:chExt cx="1812600" cy="2174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3239280" y="489960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151080" y="489960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4964040" y="4899600"/>
                <a:ext cx="1812240" cy="217440"/>
                <a:chOff x="4964040" y="4899600"/>
                <a:chExt cx="1812240" cy="2174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052240" y="489960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964040" y="489960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2289960" y="5117040"/>
                <a:ext cx="860760" cy="217440"/>
                <a:chOff x="2289960" y="5117040"/>
                <a:chExt cx="860760" cy="2174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2378880" y="51170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289960" y="51170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3151080" y="5117040"/>
                <a:ext cx="1812600" cy="217440"/>
                <a:chOff x="3151080" y="5117040"/>
                <a:chExt cx="1812600" cy="2174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3239280" y="51170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56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151080" y="51170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964040" y="5117040"/>
                <a:ext cx="1812240" cy="217440"/>
                <a:chOff x="4964040" y="5117040"/>
                <a:chExt cx="1812240" cy="2174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5052240" y="51170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964040" y="51170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2289960" y="5334480"/>
                <a:ext cx="860760" cy="217440"/>
                <a:chOff x="2289960" y="5334480"/>
                <a:chExt cx="860760" cy="21744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2378880" y="533448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2289960" y="533448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3151080" y="5334480"/>
                <a:ext cx="1812600" cy="217440"/>
                <a:chOff x="3151080" y="5334480"/>
                <a:chExt cx="1812600" cy="2174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3239280" y="533448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151080" y="533448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4964040" y="5334480"/>
                <a:ext cx="1812240" cy="217440"/>
                <a:chOff x="4964040" y="5334480"/>
                <a:chExt cx="1812240" cy="21744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5052240" y="533448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64040" y="533448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2289960" y="5551920"/>
                <a:ext cx="860760" cy="217440"/>
                <a:chOff x="2289960" y="5551920"/>
                <a:chExt cx="860760" cy="21744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2378880" y="555192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289960" y="555192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151080" y="5551920"/>
                <a:ext cx="1812600" cy="217440"/>
                <a:chOff x="3151080" y="5551920"/>
                <a:chExt cx="1812600" cy="21744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3239280" y="555192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3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151080" y="555192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64040" y="5551920"/>
                <a:ext cx="1812240" cy="217440"/>
                <a:chOff x="4964040" y="5551920"/>
                <a:chExt cx="1812240" cy="2174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52240" y="555192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64040" y="555192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2289960" y="5769720"/>
                <a:ext cx="860760" cy="217440"/>
                <a:chOff x="2289960" y="5769720"/>
                <a:chExt cx="860760" cy="21744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2378880" y="576972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289960" y="576972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3151080" y="5769720"/>
                <a:ext cx="1812600" cy="217440"/>
                <a:chOff x="3151080" y="5769720"/>
                <a:chExt cx="1812600" cy="21744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3239280" y="576972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.43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151080" y="576972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4964040" y="5769720"/>
                <a:ext cx="1812240" cy="217440"/>
                <a:chOff x="4964040" y="5769720"/>
                <a:chExt cx="1812240" cy="21744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052240" y="576972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964040" y="576972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2289960" y="5987160"/>
                <a:ext cx="860760" cy="217440"/>
                <a:chOff x="2289960" y="5987160"/>
                <a:chExt cx="860760" cy="21744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2378880" y="598716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89960" y="598716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3151080" y="5987160"/>
                <a:ext cx="1812600" cy="217440"/>
                <a:chOff x="3151080" y="5987160"/>
                <a:chExt cx="1812600" cy="21744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3239280" y="598716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.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151080" y="598716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4964040" y="5987160"/>
                <a:ext cx="1812240" cy="217440"/>
                <a:chOff x="4964040" y="5987160"/>
                <a:chExt cx="1812240" cy="2174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052240" y="598716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964040" y="598716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2289960" y="6204600"/>
                <a:ext cx="860760" cy="217440"/>
                <a:chOff x="2289960" y="6204600"/>
                <a:chExt cx="860760" cy="21744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2378880" y="620460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289960" y="620460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3151080" y="6204600"/>
                <a:ext cx="1812600" cy="217440"/>
                <a:chOff x="3151080" y="6204600"/>
                <a:chExt cx="1812600" cy="21744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3239280" y="620460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.18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3151080" y="620460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4964040" y="6204600"/>
                <a:ext cx="1812240" cy="217440"/>
                <a:chOff x="4964040" y="6204600"/>
                <a:chExt cx="1812240" cy="21744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5052240" y="620460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964040" y="620460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2289960" y="6422040"/>
                <a:ext cx="860760" cy="217440"/>
                <a:chOff x="2289960" y="6422040"/>
                <a:chExt cx="860760" cy="21744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2378880" y="642204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289960" y="642204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3151080" y="6422040"/>
                <a:ext cx="1812600" cy="217440"/>
                <a:chOff x="3151080" y="6422040"/>
                <a:chExt cx="1812600" cy="21744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3239280" y="642204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151080" y="642204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4964040" y="6422040"/>
                <a:ext cx="1812240" cy="217440"/>
                <a:chOff x="4964040" y="6422040"/>
                <a:chExt cx="1812240" cy="21744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052240" y="642204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964040" y="642204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2289960" y="6639480"/>
                <a:ext cx="860760" cy="217440"/>
                <a:chOff x="2289960" y="6639480"/>
                <a:chExt cx="860760" cy="21744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2378880" y="6639480"/>
                  <a:ext cx="682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289960" y="6639480"/>
                  <a:ext cx="86076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3151080" y="6639480"/>
                <a:ext cx="1812600" cy="217440"/>
                <a:chOff x="3151080" y="6639480"/>
                <a:chExt cx="1812600" cy="21744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3239280" y="6639480"/>
                  <a:ext cx="16351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8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151080" y="6639480"/>
                  <a:ext cx="181260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4964040" y="6639480"/>
                <a:ext cx="1812240" cy="217440"/>
                <a:chOff x="4964040" y="6639480"/>
                <a:chExt cx="1812240" cy="21744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5052240" y="6639480"/>
                  <a:ext cx="163548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964040" y="6639480"/>
                  <a:ext cx="1812240" cy="21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5" name=""/>
            <p:cNvSpPr/>
            <p:nvPr/>
          </p:nvSpPr>
          <p:spPr>
            <a:xfrm>
              <a:off x="2286000" y="0"/>
              <a:ext cx="4495320" cy="6858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1440" y="1319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8629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11430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0" y="1295280"/>
          <a:ext cx="9144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380880" y="3808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629f"/>
                </a:solidFill>
                <a:latin typeface="Times New Roman"/>
              </a:rPr>
              <a:t>Test One</a:t>
            </a:r>
            <a:r>
              <a:rPr b="0" lang="en-US" sz="2800" spc="-1" strike="noStrike">
                <a:solidFill>
                  <a:srgbClr val="f8629f"/>
                </a:solidFill>
                <a:latin typeface="Times New Roman"/>
              </a:rPr>
              <a:t>:The Probability of Choosing a Single-Colored Card from the D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62120" y="1676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2" name="chi2-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7080" cy="53352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990720" y="1676520"/>
            <a:ext cx="2361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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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s-exp)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06668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1828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4-23.625)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22-21.9375)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276720" y="2209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.625                21.9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7" name="chi2-2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347400" cy="38088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205740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.7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44792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chi2-2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77920" cy="30492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2133720" y="3733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8.7155) = 0.99990190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62120" y="4419720"/>
            <a:ext cx="76197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629f"/>
                </a:solidFill>
                <a:latin typeface="Times New Roman"/>
              </a:rPr>
              <a:t>Conclusion:</a:t>
            </a:r>
            <a:r>
              <a:rPr b="0" lang="en-US" sz="2800" spc="-1" strike="noStrike">
                <a:solidFill>
                  <a:srgbClr val="f8629f"/>
                </a:solidFill>
                <a:latin typeface="Times New Roman"/>
              </a:rPr>
              <a:t> We fail to reject Ho in favor of Ha because our P-value is greater than alpha (0.05). We have sufficient evidence that the observed frequency distribution for picking a single colored card fits the specified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867280" y="3200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-1) =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3:31:14Z</dcterms:created>
  <dc:creator>Brian Tuberty</dc:creator>
  <dc:description/>
  <dc:language>en-US</dc:language>
  <cp:lastModifiedBy>Brian Tuberty</cp:lastModifiedBy>
  <dcterms:modified xsi:type="dcterms:W3CDTF">2007-01-19T03:48:59Z</dcterms:modified>
  <cp:revision>45</cp:revision>
  <dc:subject/>
  <dc:title>PowerPoint Presentation</dc:title>
</cp:coreProperties>
</file>